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6C7-1569-4CF5-9483-D73B9A43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A0A-38B6-4158-88A7-98EF1AC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8FA-F828-4131-A27C-700D84D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955-8B98-4BD4-9180-48EFABC6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366-CC3E-4100-AC09-50466E70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BAC-6C8B-49CA-8657-A243031C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BAAA-150F-41B2-8929-C4680DFB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9805-1005-4F95-95C0-0B3AAE2B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494C-7190-4D1C-8A74-268C41C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329D-74A7-4F49-A9D7-09588CC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D70A-FD16-4399-8F48-04BE925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B38-6CD6-42F1-A825-FB57A33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26A-ABB0-4B65-9B21-9AD6B3A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536-830F-43F7-9840-052AF4E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E395-1D21-4F48-974D-C433057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E3F-1118-4144-A450-544212A7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58F7-D230-4055-A80C-586BA28A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60B-AD08-4A2F-9A70-3699C49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28D-616A-4A6F-A1BD-B7B61B7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380-EE9F-41C2-A9D6-F54C4E5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70A-528C-4444-9F7C-89D2A291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369-F5C4-41D6-9338-90BBA8B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0DE-AEC1-45BA-8A46-5F4F598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C4D-5316-46A7-93A7-9F7DC17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D5E-42B1-40F6-9F88-14ABFCE3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D866-7396-483B-8040-21C0EABBC0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pg 236 #1-4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Ink 5"/>
          <p:cNvSpPr/>
          <p:nvPr/>
        </p:nvSpPr>
        <p:spPr>
          <a:xfrm>
            <a:off x="392040" y="1758960"/>
            <a:ext cx="376200" cy="285840"/>
          </a:xfrm>
          <a:custGeom>
            <a:avLst/>
            <a:gdLst/>
            <a:ahLst/>
            <a:rect l="l" t="t" r="r" b="b"/>
            <a:pathLst>
              <a:path w="1043" h="794">
                <a:moveTo>
                  <a:pt x="1141" y="4911"/>
                </a:moveTo>
                <a:cubicBezTo>
                  <a:pt x="1105" y="4971"/>
                  <a:pt x="1116" y="5036"/>
                  <a:pt x="1116" y="5110"/>
                </a:cubicBezTo>
                <a:cubicBezTo>
                  <a:pt x="1116" y="5298"/>
                  <a:pt x="1137" y="5499"/>
                  <a:pt x="1091" y="5680"/>
                </a:cubicBezTo>
              </a:path>
              <a:path w="1043" h="794">
                <a:moveTo>
                  <a:pt x="1538" y="4936"/>
                </a:moveTo>
                <a:cubicBezTo>
                  <a:pt x="1603" y="4903"/>
                  <a:pt x="1670" y="4936"/>
                  <a:pt x="1736" y="4911"/>
                </a:cubicBezTo>
                <a:cubicBezTo>
                  <a:pt x="1782" y="4894"/>
                  <a:pt x="1803" y="4887"/>
                  <a:pt x="1860" y="4887"/>
                </a:cubicBezTo>
              </a:path>
              <a:path w="1043" h="794">
                <a:moveTo>
                  <a:pt x="1513" y="4936"/>
                </a:moveTo>
                <a:cubicBezTo>
                  <a:pt x="1491" y="5030"/>
                  <a:pt x="1488" y="5112"/>
                  <a:pt x="1488" y="5209"/>
                </a:cubicBezTo>
                <a:cubicBezTo>
                  <a:pt x="1488" y="5226"/>
                  <a:pt x="1488" y="5242"/>
                  <a:pt x="1488" y="5259"/>
                </a:cubicBezTo>
                <a:cubicBezTo>
                  <a:pt x="1519" y="5228"/>
                  <a:pt x="1587" y="5132"/>
                  <a:pt x="1637" y="5135"/>
                </a:cubicBezTo>
                <a:cubicBezTo>
                  <a:pt x="1685" y="5138"/>
                  <a:pt x="1796" y="5215"/>
                  <a:pt x="1811" y="5259"/>
                </a:cubicBezTo>
                <a:cubicBezTo>
                  <a:pt x="1828" y="5308"/>
                  <a:pt x="1851" y="5402"/>
                  <a:pt x="1836" y="5457"/>
                </a:cubicBezTo>
                <a:cubicBezTo>
                  <a:pt x="1822" y="5507"/>
                  <a:pt x="1782" y="5576"/>
                  <a:pt x="1736" y="5606"/>
                </a:cubicBezTo>
                <a:cubicBezTo>
                  <a:pt x="1671" y="5648"/>
                  <a:pt x="1616" y="5665"/>
                  <a:pt x="1538" y="5680"/>
                </a:cubicBezTo>
                <a:cubicBezTo>
                  <a:pt x="1483" y="5690"/>
                  <a:pt x="1421" y="5638"/>
                  <a:pt x="1439" y="5581"/>
                </a:cubicBezTo>
                <a:cubicBezTo>
                  <a:pt x="1447" y="5573"/>
                  <a:pt x="1455" y="5564"/>
                  <a:pt x="1463" y="5556"/>
                </a:cubicBezTo>
              </a:path>
              <a:path w="1043" h="794">
                <a:moveTo>
                  <a:pt x="2108" y="5606"/>
                </a:moveTo>
                <a:cubicBezTo>
                  <a:pt x="2066" y="5669"/>
                  <a:pt x="2037" y="5694"/>
                  <a:pt x="2108" y="5680"/>
                </a:cubicBezTo>
                <a:cubicBezTo>
                  <a:pt x="2155" y="5603"/>
                  <a:pt x="2131" y="5602"/>
                  <a:pt x="2059" y="5655"/>
                </a:cubicBezTo>
                <a:cubicBezTo>
                  <a:pt x="2051" y="5663"/>
                  <a:pt x="2042" y="5672"/>
                  <a:pt x="2034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k 6"/>
          <p:cNvSpPr/>
          <p:nvPr/>
        </p:nvSpPr>
        <p:spPr>
          <a:xfrm>
            <a:off x="1108080" y="1419120"/>
            <a:ext cx="490680" cy="573120"/>
          </a:xfrm>
          <a:custGeom>
            <a:avLst/>
            <a:gdLst/>
            <a:ahLst/>
            <a:rect l="l" t="t" r="r" b="b"/>
            <a:pathLst>
              <a:path w="1365" h="1588">
                <a:moveTo>
                  <a:pt x="3125" y="4862"/>
                </a:moveTo>
                <a:cubicBezTo>
                  <a:pt x="3131" y="4901"/>
                  <a:pt x="3148" y="4971"/>
                  <a:pt x="3200" y="4986"/>
                </a:cubicBezTo>
                <a:cubicBezTo>
                  <a:pt x="3265" y="5005"/>
                  <a:pt x="3347" y="4988"/>
                  <a:pt x="3398" y="4961"/>
                </a:cubicBezTo>
                <a:cubicBezTo>
                  <a:pt x="3476" y="4920"/>
                  <a:pt x="3518" y="4899"/>
                  <a:pt x="3572" y="4837"/>
                </a:cubicBezTo>
                <a:cubicBezTo>
                  <a:pt x="3633" y="4767"/>
                  <a:pt x="3675" y="4703"/>
                  <a:pt x="3621" y="4614"/>
                </a:cubicBezTo>
                <a:cubicBezTo>
                  <a:pt x="3576" y="4540"/>
                  <a:pt x="3475" y="4613"/>
                  <a:pt x="3423" y="4638"/>
                </a:cubicBezTo>
                <a:cubicBezTo>
                  <a:pt x="3282" y="4708"/>
                  <a:pt x="3192" y="4826"/>
                  <a:pt x="3125" y="4961"/>
                </a:cubicBezTo>
                <a:cubicBezTo>
                  <a:pt x="3084" y="5043"/>
                  <a:pt x="3055" y="5167"/>
                  <a:pt x="3076" y="5259"/>
                </a:cubicBezTo>
                <a:cubicBezTo>
                  <a:pt x="3093" y="5331"/>
                  <a:pt x="3138" y="5396"/>
                  <a:pt x="3175" y="5457"/>
                </a:cubicBezTo>
                <a:cubicBezTo>
                  <a:pt x="3213" y="5520"/>
                  <a:pt x="3272" y="5527"/>
                  <a:pt x="3349" y="5531"/>
                </a:cubicBezTo>
                <a:cubicBezTo>
                  <a:pt x="3416" y="5535"/>
                  <a:pt x="3498" y="5500"/>
                  <a:pt x="3547" y="5457"/>
                </a:cubicBezTo>
                <a:cubicBezTo>
                  <a:pt x="3564" y="5440"/>
                  <a:pt x="3580" y="5424"/>
                  <a:pt x="3597" y="5407"/>
                </a:cubicBezTo>
              </a:path>
              <a:path w="1365" h="1588">
                <a:moveTo>
                  <a:pt x="3969" y="4018"/>
                </a:moveTo>
                <a:cubicBezTo>
                  <a:pt x="4026" y="3961"/>
                  <a:pt x="4055" y="3925"/>
                  <a:pt x="4142" y="3944"/>
                </a:cubicBezTo>
                <a:cubicBezTo>
                  <a:pt x="4195" y="3956"/>
                  <a:pt x="4290" y="3993"/>
                  <a:pt x="4266" y="4068"/>
                </a:cubicBezTo>
                <a:cubicBezTo>
                  <a:pt x="4251" y="4114"/>
                  <a:pt x="4174" y="4143"/>
                  <a:pt x="4142" y="4167"/>
                </a:cubicBezTo>
                <a:cubicBezTo>
                  <a:pt x="4134" y="4175"/>
                  <a:pt x="4126" y="4184"/>
                  <a:pt x="4118" y="4192"/>
                </a:cubicBezTo>
                <a:cubicBezTo>
                  <a:pt x="4164" y="4240"/>
                  <a:pt x="4212" y="4254"/>
                  <a:pt x="4266" y="4291"/>
                </a:cubicBezTo>
                <a:cubicBezTo>
                  <a:pt x="4342" y="4344"/>
                  <a:pt x="4263" y="4391"/>
                  <a:pt x="4217" y="4415"/>
                </a:cubicBezTo>
                <a:cubicBezTo>
                  <a:pt x="4149" y="4451"/>
                  <a:pt x="4088" y="4466"/>
                  <a:pt x="4018" y="4490"/>
                </a:cubicBezTo>
                <a:cubicBezTo>
                  <a:pt x="3957" y="4510"/>
                  <a:pt x="3943" y="4508"/>
                  <a:pt x="3919" y="4539"/>
                </a:cubicBezTo>
              </a:path>
              <a:path w="1365" h="1588">
                <a:moveTo>
                  <a:pt x="4242" y="4887"/>
                </a:moveTo>
                <a:cubicBezTo>
                  <a:pt x="4300" y="4887"/>
                  <a:pt x="4357" y="4887"/>
                  <a:pt x="4415" y="4887"/>
                </a:cubicBezTo>
              </a:path>
              <a:path w="1365" h="1588">
                <a:moveTo>
                  <a:pt x="4242" y="5110"/>
                </a:moveTo>
                <a:cubicBezTo>
                  <a:pt x="4297" y="5129"/>
                  <a:pt x="4367" y="5110"/>
                  <a:pt x="4440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Ink 7"/>
          <p:cNvSpPr/>
          <p:nvPr/>
        </p:nvSpPr>
        <p:spPr>
          <a:xfrm>
            <a:off x="1768320" y="1643040"/>
            <a:ext cx="1633680" cy="349200"/>
          </a:xfrm>
          <a:custGeom>
            <a:avLst/>
            <a:gdLst/>
            <a:ahLst/>
            <a:rect l="l" t="t" r="r" b="b"/>
            <a:pathLst>
              <a:path w="4541" h="968">
                <a:moveTo>
                  <a:pt x="4936" y="4713"/>
                </a:moveTo>
                <a:cubicBezTo>
                  <a:pt x="5025" y="4640"/>
                  <a:pt x="5078" y="4582"/>
                  <a:pt x="5184" y="4564"/>
                </a:cubicBezTo>
                <a:cubicBezTo>
                  <a:pt x="5255" y="4552"/>
                  <a:pt x="5306" y="4568"/>
                  <a:pt x="5358" y="4614"/>
                </a:cubicBezTo>
                <a:cubicBezTo>
                  <a:pt x="5422" y="4671"/>
                  <a:pt x="5362" y="4772"/>
                  <a:pt x="5333" y="4837"/>
                </a:cubicBezTo>
                <a:cubicBezTo>
                  <a:pt x="5294" y="4923"/>
                  <a:pt x="5215" y="4986"/>
                  <a:pt x="5159" y="5060"/>
                </a:cubicBezTo>
                <a:cubicBezTo>
                  <a:pt x="5100" y="5139"/>
                  <a:pt x="5041" y="5228"/>
                  <a:pt x="4986" y="5308"/>
                </a:cubicBezTo>
                <a:cubicBezTo>
                  <a:pt x="4944" y="5369"/>
                  <a:pt x="4920" y="5437"/>
                  <a:pt x="4911" y="5507"/>
                </a:cubicBezTo>
                <a:cubicBezTo>
                  <a:pt x="4961" y="5536"/>
                  <a:pt x="5047" y="5545"/>
                  <a:pt x="5110" y="5531"/>
                </a:cubicBezTo>
                <a:cubicBezTo>
                  <a:pt x="5181" y="5515"/>
                  <a:pt x="5264" y="5505"/>
                  <a:pt x="5333" y="5482"/>
                </a:cubicBezTo>
                <a:cubicBezTo>
                  <a:pt x="5350" y="5474"/>
                  <a:pt x="5366" y="5465"/>
                  <a:pt x="5383" y="5457"/>
                </a:cubicBezTo>
              </a:path>
              <a:path w="4541" h="968">
                <a:moveTo>
                  <a:pt x="5804" y="4787"/>
                </a:moveTo>
                <a:cubicBezTo>
                  <a:pt x="5764" y="4838"/>
                  <a:pt x="5729" y="4899"/>
                  <a:pt x="5705" y="4961"/>
                </a:cubicBezTo>
                <a:cubicBezTo>
                  <a:pt x="5666" y="5059"/>
                  <a:pt x="5635" y="5155"/>
                  <a:pt x="5631" y="5259"/>
                </a:cubicBezTo>
                <a:cubicBezTo>
                  <a:pt x="5628" y="5340"/>
                  <a:pt x="5651" y="5397"/>
                  <a:pt x="5705" y="5457"/>
                </a:cubicBezTo>
                <a:cubicBezTo>
                  <a:pt x="5758" y="5515"/>
                  <a:pt x="5795" y="5513"/>
                  <a:pt x="5854" y="5482"/>
                </a:cubicBezTo>
                <a:cubicBezTo>
                  <a:pt x="5963" y="5424"/>
                  <a:pt x="6033" y="5373"/>
                  <a:pt x="6077" y="5259"/>
                </a:cubicBezTo>
                <a:cubicBezTo>
                  <a:pt x="6112" y="5168"/>
                  <a:pt x="6150" y="5060"/>
                  <a:pt x="6127" y="4961"/>
                </a:cubicBezTo>
                <a:cubicBezTo>
                  <a:pt x="6114" y="4904"/>
                  <a:pt x="6080" y="4821"/>
                  <a:pt x="6028" y="4787"/>
                </a:cubicBezTo>
                <a:cubicBezTo>
                  <a:pt x="5989" y="4762"/>
                  <a:pt x="5896" y="4694"/>
                  <a:pt x="5854" y="4762"/>
                </a:cubicBezTo>
                <a:cubicBezTo>
                  <a:pt x="5854" y="4779"/>
                  <a:pt x="5854" y="4795"/>
                  <a:pt x="5854" y="4812"/>
                </a:cubicBezTo>
              </a:path>
              <a:path w="4541" h="968">
                <a:moveTo>
                  <a:pt x="6350" y="5432"/>
                </a:moveTo>
                <a:cubicBezTo>
                  <a:pt x="6370" y="5473"/>
                  <a:pt x="6389" y="5489"/>
                  <a:pt x="6350" y="5482"/>
                </a:cubicBezTo>
              </a:path>
              <a:path w="4541" h="968">
                <a:moveTo>
                  <a:pt x="6846" y="4812"/>
                </a:moveTo>
                <a:cubicBezTo>
                  <a:pt x="6806" y="4901"/>
                  <a:pt x="6778" y="4993"/>
                  <a:pt x="6747" y="5085"/>
                </a:cubicBezTo>
                <a:cubicBezTo>
                  <a:pt x="6726" y="5147"/>
                  <a:pt x="6703" y="5241"/>
                  <a:pt x="6722" y="5308"/>
                </a:cubicBezTo>
                <a:cubicBezTo>
                  <a:pt x="6729" y="5334"/>
                  <a:pt x="6788" y="5425"/>
                  <a:pt x="6821" y="5432"/>
                </a:cubicBezTo>
                <a:cubicBezTo>
                  <a:pt x="6873" y="5443"/>
                  <a:pt x="6982" y="5399"/>
                  <a:pt x="7020" y="5358"/>
                </a:cubicBezTo>
                <a:cubicBezTo>
                  <a:pt x="7079" y="5294"/>
                  <a:pt x="7128" y="5171"/>
                  <a:pt x="7144" y="5085"/>
                </a:cubicBezTo>
                <a:cubicBezTo>
                  <a:pt x="7156" y="5018"/>
                  <a:pt x="7155" y="4921"/>
                  <a:pt x="7119" y="4862"/>
                </a:cubicBezTo>
                <a:cubicBezTo>
                  <a:pt x="7101" y="4833"/>
                  <a:pt x="7005" y="4768"/>
                  <a:pt x="6970" y="4762"/>
                </a:cubicBezTo>
                <a:cubicBezTo>
                  <a:pt x="6888" y="4747"/>
                  <a:pt x="6871" y="4787"/>
                  <a:pt x="6821" y="4837"/>
                </a:cubicBezTo>
              </a:path>
              <a:path w="4541" h="968">
                <a:moveTo>
                  <a:pt x="7565" y="4787"/>
                </a:moveTo>
                <a:cubicBezTo>
                  <a:pt x="7609" y="4700"/>
                  <a:pt x="7488" y="4760"/>
                  <a:pt x="7441" y="4787"/>
                </a:cubicBezTo>
                <a:cubicBezTo>
                  <a:pt x="7383" y="4820"/>
                  <a:pt x="7346" y="4876"/>
                  <a:pt x="7342" y="4936"/>
                </a:cubicBezTo>
                <a:cubicBezTo>
                  <a:pt x="7337" y="5021"/>
                  <a:pt x="7362" y="5058"/>
                  <a:pt x="7392" y="5135"/>
                </a:cubicBezTo>
                <a:cubicBezTo>
                  <a:pt x="7426" y="5222"/>
                  <a:pt x="7515" y="5360"/>
                  <a:pt x="7491" y="5457"/>
                </a:cubicBezTo>
                <a:cubicBezTo>
                  <a:pt x="7483" y="5465"/>
                  <a:pt x="7474" y="5474"/>
                  <a:pt x="7466" y="5482"/>
                </a:cubicBezTo>
                <a:cubicBezTo>
                  <a:pt x="7411" y="5454"/>
                  <a:pt x="7334" y="5423"/>
                  <a:pt x="7317" y="5358"/>
                </a:cubicBezTo>
                <a:cubicBezTo>
                  <a:pt x="7298" y="5286"/>
                  <a:pt x="7322" y="5193"/>
                  <a:pt x="7367" y="5135"/>
                </a:cubicBezTo>
                <a:cubicBezTo>
                  <a:pt x="7439" y="5043"/>
                  <a:pt x="7525" y="4960"/>
                  <a:pt x="7590" y="4862"/>
                </a:cubicBezTo>
                <a:cubicBezTo>
                  <a:pt x="7617" y="4808"/>
                  <a:pt x="7629" y="4787"/>
                  <a:pt x="7665" y="4762"/>
                </a:cubicBezTo>
              </a:path>
              <a:path w="4541" h="968">
                <a:moveTo>
                  <a:pt x="7863" y="4787"/>
                </a:moveTo>
                <a:cubicBezTo>
                  <a:pt x="7954" y="4780"/>
                  <a:pt x="8032" y="4752"/>
                  <a:pt x="8111" y="4738"/>
                </a:cubicBezTo>
                <a:cubicBezTo>
                  <a:pt x="8156" y="4738"/>
                  <a:pt x="8169" y="4741"/>
                  <a:pt x="8186" y="4713"/>
                </a:cubicBezTo>
              </a:path>
              <a:path w="4541" h="968">
                <a:moveTo>
                  <a:pt x="7764" y="4812"/>
                </a:moveTo>
                <a:cubicBezTo>
                  <a:pt x="7730" y="4910"/>
                  <a:pt x="7628" y="5066"/>
                  <a:pt x="7789" y="5085"/>
                </a:cubicBezTo>
                <a:cubicBezTo>
                  <a:pt x="7856" y="5093"/>
                  <a:pt x="7906" y="5047"/>
                  <a:pt x="7962" y="5060"/>
                </a:cubicBezTo>
                <a:cubicBezTo>
                  <a:pt x="8026" y="5075"/>
                  <a:pt x="8077" y="5143"/>
                  <a:pt x="8062" y="5209"/>
                </a:cubicBezTo>
                <a:cubicBezTo>
                  <a:pt x="8040" y="5306"/>
                  <a:pt x="8032" y="5367"/>
                  <a:pt x="7962" y="5432"/>
                </a:cubicBezTo>
                <a:cubicBezTo>
                  <a:pt x="7915" y="5475"/>
                  <a:pt x="7855" y="5500"/>
                  <a:pt x="7789" y="5482"/>
                </a:cubicBezTo>
                <a:cubicBezTo>
                  <a:pt x="7700" y="5457"/>
                  <a:pt x="7693" y="5453"/>
                  <a:pt x="7640" y="5383"/>
                </a:cubicBezTo>
                <a:cubicBezTo>
                  <a:pt x="7588" y="5314"/>
                  <a:pt x="7718" y="5230"/>
                  <a:pt x="7764" y="5184"/>
                </a:cubicBezTo>
              </a:path>
              <a:path w="4541" h="968">
                <a:moveTo>
                  <a:pt x="8582" y="4812"/>
                </a:moveTo>
                <a:cubicBezTo>
                  <a:pt x="8650" y="4795"/>
                  <a:pt x="8751" y="4780"/>
                  <a:pt x="8781" y="4738"/>
                </a:cubicBezTo>
              </a:path>
              <a:path w="4541" h="968">
                <a:moveTo>
                  <a:pt x="8359" y="4887"/>
                </a:moveTo>
                <a:cubicBezTo>
                  <a:pt x="8320" y="4960"/>
                  <a:pt x="8256" y="5016"/>
                  <a:pt x="8310" y="5085"/>
                </a:cubicBezTo>
                <a:cubicBezTo>
                  <a:pt x="8351" y="5137"/>
                  <a:pt x="8471" y="5116"/>
                  <a:pt x="8533" y="5135"/>
                </a:cubicBezTo>
                <a:cubicBezTo>
                  <a:pt x="8607" y="5158"/>
                  <a:pt x="8629" y="5239"/>
                  <a:pt x="8632" y="5308"/>
                </a:cubicBezTo>
                <a:cubicBezTo>
                  <a:pt x="8635" y="5376"/>
                  <a:pt x="8617" y="5418"/>
                  <a:pt x="8558" y="5457"/>
                </a:cubicBezTo>
                <a:cubicBezTo>
                  <a:pt x="8481" y="5507"/>
                  <a:pt x="8434" y="5470"/>
                  <a:pt x="8359" y="5457"/>
                </a:cubicBezTo>
                <a:cubicBezTo>
                  <a:pt x="8319" y="5450"/>
                  <a:pt x="8200" y="5432"/>
                  <a:pt x="8235" y="5358"/>
                </a:cubicBezTo>
                <a:cubicBezTo>
                  <a:pt x="8252" y="5341"/>
                  <a:pt x="8268" y="5325"/>
                  <a:pt x="8285" y="5308"/>
                </a:cubicBezTo>
              </a:path>
              <a:path w="4541" h="968">
                <a:moveTo>
                  <a:pt x="9203" y="4837"/>
                </a:moveTo>
                <a:cubicBezTo>
                  <a:pt x="9341" y="4813"/>
                  <a:pt x="9363" y="4832"/>
                  <a:pt x="9451" y="4762"/>
                </a:cubicBezTo>
              </a:path>
              <a:path w="4541" h="968">
                <a:moveTo>
                  <a:pt x="9029" y="4936"/>
                </a:moveTo>
                <a:cubicBezTo>
                  <a:pt x="8976" y="5032"/>
                  <a:pt x="8947" y="5073"/>
                  <a:pt x="9054" y="5135"/>
                </a:cubicBezTo>
                <a:cubicBezTo>
                  <a:pt x="9157" y="5195"/>
                  <a:pt x="9209" y="5220"/>
                  <a:pt x="9302" y="5308"/>
                </a:cubicBezTo>
                <a:cubicBezTo>
                  <a:pt x="9376" y="5378"/>
                  <a:pt x="9338" y="5396"/>
                  <a:pt x="9277" y="5457"/>
                </a:cubicBezTo>
                <a:cubicBezTo>
                  <a:pt x="9234" y="5500"/>
                  <a:pt x="9140" y="5505"/>
                  <a:pt x="9079" y="5507"/>
                </a:cubicBezTo>
                <a:cubicBezTo>
                  <a:pt x="8971" y="5511"/>
                  <a:pt x="8867" y="5482"/>
                  <a:pt x="875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Ink 8"/>
          <p:cNvSpPr/>
          <p:nvPr/>
        </p:nvSpPr>
        <p:spPr>
          <a:xfrm>
            <a:off x="4572000" y="1820880"/>
            <a:ext cx="366840" cy="366840"/>
          </a:xfrm>
          <a:custGeom>
            <a:avLst/>
            <a:gdLst/>
            <a:ahLst/>
            <a:rect l="l" t="t" r="r" b="b"/>
            <a:pathLst>
              <a:path w="1018" h="1018">
                <a:moveTo>
                  <a:pt x="12700" y="5259"/>
                </a:moveTo>
                <a:cubicBezTo>
                  <a:pt x="12818" y="5235"/>
                  <a:pt x="12933" y="5210"/>
                  <a:pt x="13047" y="5184"/>
                </a:cubicBezTo>
                <a:cubicBezTo>
                  <a:pt x="13139" y="5163"/>
                  <a:pt x="13230" y="5124"/>
                  <a:pt x="13320" y="5110"/>
                </a:cubicBezTo>
                <a:cubicBezTo>
                  <a:pt x="13381" y="5100"/>
                  <a:pt x="13412" y="5089"/>
                  <a:pt x="13469" y="5060"/>
                </a:cubicBezTo>
                <a:cubicBezTo>
                  <a:pt x="13510" y="5142"/>
                  <a:pt x="13480" y="5177"/>
                  <a:pt x="13469" y="5259"/>
                </a:cubicBezTo>
                <a:cubicBezTo>
                  <a:pt x="13454" y="5373"/>
                  <a:pt x="13447" y="5492"/>
                  <a:pt x="13444" y="5606"/>
                </a:cubicBezTo>
                <a:cubicBezTo>
                  <a:pt x="13441" y="5702"/>
                  <a:pt x="13422" y="5785"/>
                  <a:pt x="13419" y="5879"/>
                </a:cubicBezTo>
                <a:cubicBezTo>
                  <a:pt x="13416" y="5984"/>
                  <a:pt x="13415" y="6008"/>
                  <a:pt x="13345" y="6077"/>
                </a:cubicBezTo>
              </a:path>
              <a:path w="1018" h="1018">
                <a:moveTo>
                  <a:pt x="13717" y="6003"/>
                </a:moveTo>
                <a:cubicBezTo>
                  <a:pt x="13709" y="6011"/>
                  <a:pt x="13700" y="6020"/>
                  <a:pt x="13692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9"/>
          <p:cNvSpPr/>
          <p:nvPr/>
        </p:nvSpPr>
        <p:spPr>
          <a:xfrm>
            <a:off x="5680080" y="1535040"/>
            <a:ext cx="320760" cy="590760"/>
          </a:xfrm>
          <a:custGeom>
            <a:avLst/>
            <a:gdLst/>
            <a:ahLst/>
            <a:rect l="l" t="t" r="r" b="b"/>
            <a:pathLst>
              <a:path w="894" h="1639">
                <a:moveTo>
                  <a:pt x="15850" y="4266"/>
                </a:moveTo>
                <a:cubicBezTo>
                  <a:pt x="15860" y="4347"/>
                  <a:pt x="15862" y="4431"/>
                  <a:pt x="15875" y="4514"/>
                </a:cubicBezTo>
                <a:cubicBezTo>
                  <a:pt x="15897" y="4657"/>
                  <a:pt x="15900" y="4791"/>
                  <a:pt x="15900" y="4936"/>
                </a:cubicBezTo>
                <a:cubicBezTo>
                  <a:pt x="15900" y="5119"/>
                  <a:pt x="15915" y="5304"/>
                  <a:pt x="15875" y="5482"/>
                </a:cubicBezTo>
                <a:cubicBezTo>
                  <a:pt x="15849" y="5597"/>
                  <a:pt x="15822" y="5713"/>
                  <a:pt x="15801" y="5829"/>
                </a:cubicBezTo>
                <a:cubicBezTo>
                  <a:pt x="15793" y="5873"/>
                  <a:pt x="15757" y="5923"/>
                  <a:pt x="15801" y="5879"/>
                </a:cubicBezTo>
              </a:path>
              <a:path w="894" h="1639">
                <a:moveTo>
                  <a:pt x="16123" y="5060"/>
                </a:moveTo>
                <a:cubicBezTo>
                  <a:pt x="16123" y="5237"/>
                  <a:pt x="16121" y="5412"/>
                  <a:pt x="16148" y="5581"/>
                </a:cubicBezTo>
                <a:cubicBezTo>
                  <a:pt x="16148" y="5633"/>
                  <a:pt x="16149" y="5651"/>
                  <a:pt x="16173" y="5680"/>
                </a:cubicBezTo>
                <a:cubicBezTo>
                  <a:pt x="16173" y="5536"/>
                  <a:pt x="16182" y="5399"/>
                  <a:pt x="16197" y="5259"/>
                </a:cubicBezTo>
                <a:cubicBezTo>
                  <a:pt x="16205" y="5187"/>
                  <a:pt x="16215" y="5068"/>
                  <a:pt x="16272" y="5011"/>
                </a:cubicBezTo>
                <a:cubicBezTo>
                  <a:pt x="16324" y="4958"/>
                  <a:pt x="16366" y="4956"/>
                  <a:pt x="16421" y="4986"/>
                </a:cubicBezTo>
                <a:cubicBezTo>
                  <a:pt x="16494" y="5026"/>
                  <a:pt x="16544" y="5104"/>
                  <a:pt x="16570" y="5184"/>
                </a:cubicBezTo>
                <a:cubicBezTo>
                  <a:pt x="16605" y="5295"/>
                  <a:pt x="16569" y="5399"/>
                  <a:pt x="16594" y="5507"/>
                </a:cubicBezTo>
                <a:cubicBezTo>
                  <a:pt x="16611" y="5579"/>
                  <a:pt x="16594" y="5687"/>
                  <a:pt x="16619" y="5755"/>
                </a:cubicBezTo>
                <a:cubicBezTo>
                  <a:pt x="16634" y="5797"/>
                  <a:pt x="16657" y="5803"/>
                  <a:pt x="16669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10"/>
          <p:cNvSpPr/>
          <p:nvPr/>
        </p:nvSpPr>
        <p:spPr>
          <a:xfrm>
            <a:off x="6215040" y="1571760"/>
            <a:ext cx="277920" cy="473040"/>
          </a:xfrm>
          <a:custGeom>
            <a:avLst/>
            <a:gdLst/>
            <a:ahLst/>
            <a:rect l="l" t="t" r="r" b="b"/>
            <a:pathLst>
              <a:path w="770" h="1315">
                <a:moveTo>
                  <a:pt x="17289" y="4366"/>
                </a:moveTo>
                <a:cubicBezTo>
                  <a:pt x="17279" y="4560"/>
                  <a:pt x="17264" y="4738"/>
                  <a:pt x="17264" y="4936"/>
                </a:cubicBezTo>
                <a:cubicBezTo>
                  <a:pt x="17264" y="5184"/>
                  <a:pt x="17264" y="5432"/>
                  <a:pt x="17264" y="5680"/>
                </a:cubicBezTo>
              </a:path>
              <a:path w="770" h="1315">
                <a:moveTo>
                  <a:pt x="17562" y="5060"/>
                </a:moveTo>
                <a:cubicBezTo>
                  <a:pt x="17696" y="5037"/>
                  <a:pt x="17758" y="5036"/>
                  <a:pt x="17884" y="5060"/>
                </a:cubicBezTo>
                <a:cubicBezTo>
                  <a:pt x="17892" y="5060"/>
                  <a:pt x="17901" y="5060"/>
                  <a:pt x="17909" y="5060"/>
                </a:cubicBezTo>
              </a:path>
              <a:path w="770" h="1315">
                <a:moveTo>
                  <a:pt x="17611" y="5407"/>
                </a:moveTo>
                <a:cubicBezTo>
                  <a:pt x="17721" y="5398"/>
                  <a:pt x="17827" y="5384"/>
                  <a:pt x="17934" y="5358"/>
                </a:cubicBezTo>
                <a:cubicBezTo>
                  <a:pt x="17967" y="5350"/>
                  <a:pt x="18000" y="5341"/>
                  <a:pt x="18033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11"/>
          <p:cNvSpPr/>
          <p:nvPr/>
        </p:nvSpPr>
        <p:spPr>
          <a:xfrm>
            <a:off x="6688080" y="1643040"/>
            <a:ext cx="330120" cy="349200"/>
          </a:xfrm>
          <a:custGeom>
            <a:avLst/>
            <a:gdLst/>
            <a:ahLst/>
            <a:rect l="l" t="t" r="r" b="b"/>
            <a:pathLst>
              <a:path w="918" h="968">
                <a:moveTo>
                  <a:pt x="18752" y="4614"/>
                </a:moveTo>
                <a:cubicBezTo>
                  <a:pt x="18684" y="4760"/>
                  <a:pt x="18598" y="4920"/>
                  <a:pt x="18579" y="5085"/>
                </a:cubicBezTo>
                <a:cubicBezTo>
                  <a:pt x="18565" y="5205"/>
                  <a:pt x="18601" y="5308"/>
                  <a:pt x="18653" y="5407"/>
                </a:cubicBezTo>
                <a:cubicBezTo>
                  <a:pt x="18707" y="5511"/>
                  <a:pt x="18762" y="5527"/>
                  <a:pt x="18876" y="5531"/>
                </a:cubicBezTo>
                <a:cubicBezTo>
                  <a:pt x="19002" y="5535"/>
                  <a:pt x="19096" y="5511"/>
                  <a:pt x="19199" y="5432"/>
                </a:cubicBezTo>
                <a:cubicBezTo>
                  <a:pt x="19318" y="5341"/>
                  <a:pt x="19426" y="5205"/>
                  <a:pt x="19472" y="5060"/>
                </a:cubicBezTo>
                <a:cubicBezTo>
                  <a:pt x="19499" y="4975"/>
                  <a:pt x="19529" y="4792"/>
                  <a:pt x="19472" y="4713"/>
                </a:cubicBezTo>
                <a:cubicBezTo>
                  <a:pt x="19406" y="4621"/>
                  <a:pt x="19258" y="4577"/>
                  <a:pt x="19149" y="4564"/>
                </a:cubicBezTo>
                <a:cubicBezTo>
                  <a:pt x="19057" y="4564"/>
                  <a:pt x="19031" y="4562"/>
                  <a:pt x="18976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12"/>
          <p:cNvSpPr/>
          <p:nvPr/>
        </p:nvSpPr>
        <p:spPr>
          <a:xfrm>
            <a:off x="1089000" y="2214720"/>
            <a:ext cx="2911680" cy="866520"/>
          </a:xfrm>
          <a:custGeom>
            <a:avLst/>
            <a:gdLst/>
            <a:ahLst/>
            <a:rect l="l" t="t" r="r" b="b"/>
            <a:pathLst>
              <a:path w="8087" h="2407">
                <a:moveTo>
                  <a:pt x="3076" y="6152"/>
                </a:moveTo>
                <a:cubicBezTo>
                  <a:pt x="3076" y="6280"/>
                  <a:pt x="3062" y="6399"/>
                  <a:pt x="3051" y="6524"/>
                </a:cubicBezTo>
                <a:cubicBezTo>
                  <a:pt x="3029" y="6780"/>
                  <a:pt x="3053" y="7040"/>
                  <a:pt x="3026" y="7293"/>
                </a:cubicBezTo>
                <a:cubicBezTo>
                  <a:pt x="3020" y="7349"/>
                  <a:pt x="3026" y="7564"/>
                  <a:pt x="3026" y="7541"/>
                </a:cubicBezTo>
              </a:path>
              <a:path w="8087" h="2407">
                <a:moveTo>
                  <a:pt x="3324" y="6921"/>
                </a:moveTo>
                <a:cubicBezTo>
                  <a:pt x="3292" y="7065"/>
                  <a:pt x="3283" y="7130"/>
                  <a:pt x="3299" y="7268"/>
                </a:cubicBezTo>
                <a:cubicBezTo>
                  <a:pt x="3308" y="7349"/>
                  <a:pt x="3316" y="7425"/>
                  <a:pt x="3373" y="7491"/>
                </a:cubicBezTo>
                <a:cubicBezTo>
                  <a:pt x="3410" y="7533"/>
                  <a:pt x="3487" y="7599"/>
                  <a:pt x="3547" y="7590"/>
                </a:cubicBezTo>
                <a:cubicBezTo>
                  <a:pt x="3595" y="7583"/>
                  <a:pt x="3687" y="7498"/>
                  <a:pt x="3721" y="7466"/>
                </a:cubicBezTo>
                <a:cubicBezTo>
                  <a:pt x="3790" y="7401"/>
                  <a:pt x="3852" y="7314"/>
                  <a:pt x="3870" y="7218"/>
                </a:cubicBezTo>
                <a:cubicBezTo>
                  <a:pt x="3886" y="7135"/>
                  <a:pt x="3887" y="6995"/>
                  <a:pt x="3845" y="6921"/>
                </a:cubicBezTo>
                <a:cubicBezTo>
                  <a:pt x="3801" y="6843"/>
                  <a:pt x="3748" y="6790"/>
                  <a:pt x="3671" y="6747"/>
                </a:cubicBezTo>
                <a:cubicBezTo>
                  <a:pt x="3601" y="6708"/>
                  <a:pt x="3543" y="6716"/>
                  <a:pt x="3473" y="6747"/>
                </a:cubicBezTo>
                <a:cubicBezTo>
                  <a:pt x="3408" y="6776"/>
                  <a:pt x="3354" y="6804"/>
                  <a:pt x="3324" y="6871"/>
                </a:cubicBezTo>
                <a:cubicBezTo>
                  <a:pt x="3282" y="6965"/>
                  <a:pt x="3288" y="7075"/>
                  <a:pt x="3324" y="7169"/>
                </a:cubicBezTo>
                <a:cubicBezTo>
                  <a:pt x="3354" y="7246"/>
                  <a:pt x="3384" y="7297"/>
                  <a:pt x="3448" y="7342"/>
                </a:cubicBezTo>
              </a:path>
              <a:path w="8087" h="2407">
                <a:moveTo>
                  <a:pt x="4440" y="6871"/>
                </a:moveTo>
                <a:cubicBezTo>
                  <a:pt x="4368" y="6727"/>
                  <a:pt x="4354" y="6682"/>
                  <a:pt x="4192" y="6772"/>
                </a:cubicBezTo>
                <a:cubicBezTo>
                  <a:pt x="4104" y="6821"/>
                  <a:pt x="4047" y="6889"/>
                  <a:pt x="3994" y="6970"/>
                </a:cubicBezTo>
                <a:cubicBezTo>
                  <a:pt x="3942" y="7050"/>
                  <a:pt x="3925" y="7145"/>
                  <a:pt x="3944" y="7243"/>
                </a:cubicBezTo>
                <a:cubicBezTo>
                  <a:pt x="3962" y="7337"/>
                  <a:pt x="4020" y="7432"/>
                  <a:pt x="4093" y="7491"/>
                </a:cubicBezTo>
                <a:cubicBezTo>
                  <a:pt x="4152" y="7539"/>
                  <a:pt x="4230" y="7518"/>
                  <a:pt x="4291" y="7491"/>
                </a:cubicBezTo>
                <a:cubicBezTo>
                  <a:pt x="4356" y="7462"/>
                  <a:pt x="4455" y="7380"/>
                  <a:pt x="4490" y="7317"/>
                </a:cubicBezTo>
                <a:cubicBezTo>
                  <a:pt x="4531" y="7243"/>
                  <a:pt x="4588" y="7106"/>
                  <a:pt x="4564" y="7020"/>
                </a:cubicBezTo>
                <a:cubicBezTo>
                  <a:pt x="4539" y="6970"/>
                  <a:pt x="4531" y="6954"/>
                  <a:pt x="4514" y="6921"/>
                </a:cubicBezTo>
                <a:cubicBezTo>
                  <a:pt x="4472" y="6982"/>
                  <a:pt x="4428" y="7041"/>
                  <a:pt x="4415" y="7119"/>
                </a:cubicBezTo>
                <a:cubicBezTo>
                  <a:pt x="4391" y="7266"/>
                  <a:pt x="4428" y="7422"/>
                  <a:pt x="4440" y="7565"/>
                </a:cubicBezTo>
                <a:cubicBezTo>
                  <a:pt x="4453" y="7716"/>
                  <a:pt x="4487" y="7860"/>
                  <a:pt x="4490" y="8012"/>
                </a:cubicBezTo>
                <a:cubicBezTo>
                  <a:pt x="4493" y="8131"/>
                  <a:pt x="4502" y="8249"/>
                  <a:pt x="4465" y="8359"/>
                </a:cubicBezTo>
                <a:cubicBezTo>
                  <a:pt x="4444" y="8422"/>
                  <a:pt x="4383" y="8526"/>
                  <a:pt x="4316" y="8558"/>
                </a:cubicBezTo>
                <a:cubicBezTo>
                  <a:pt x="4238" y="8595"/>
                  <a:pt x="4172" y="8534"/>
                  <a:pt x="4118" y="8508"/>
                </a:cubicBezTo>
                <a:cubicBezTo>
                  <a:pt x="4042" y="8471"/>
                  <a:pt x="4066" y="8494"/>
                  <a:pt x="4018" y="8409"/>
                </a:cubicBezTo>
              </a:path>
              <a:path w="8087" h="2407">
                <a:moveTo>
                  <a:pt x="4688" y="7565"/>
                </a:moveTo>
                <a:cubicBezTo>
                  <a:pt x="4772" y="7565"/>
                  <a:pt x="4834" y="7553"/>
                  <a:pt x="4911" y="7541"/>
                </a:cubicBezTo>
                <a:cubicBezTo>
                  <a:pt x="4980" y="7530"/>
                  <a:pt x="5049" y="7503"/>
                  <a:pt x="5110" y="7466"/>
                </a:cubicBezTo>
                <a:cubicBezTo>
                  <a:pt x="5160" y="7436"/>
                  <a:pt x="5136" y="7335"/>
                  <a:pt x="5085" y="7317"/>
                </a:cubicBezTo>
                <a:cubicBezTo>
                  <a:pt x="5002" y="7287"/>
                  <a:pt x="4874" y="7369"/>
                  <a:pt x="4812" y="7417"/>
                </a:cubicBezTo>
                <a:cubicBezTo>
                  <a:pt x="4737" y="7476"/>
                  <a:pt x="4739" y="7537"/>
                  <a:pt x="4713" y="7615"/>
                </a:cubicBezTo>
                <a:cubicBezTo>
                  <a:pt x="4692" y="7676"/>
                  <a:pt x="4699" y="7764"/>
                  <a:pt x="4762" y="7813"/>
                </a:cubicBezTo>
                <a:cubicBezTo>
                  <a:pt x="4805" y="7847"/>
                  <a:pt x="4930" y="7903"/>
                  <a:pt x="4986" y="7913"/>
                </a:cubicBezTo>
                <a:cubicBezTo>
                  <a:pt x="5033" y="7921"/>
                  <a:pt x="5165" y="7948"/>
                  <a:pt x="5209" y="7938"/>
                </a:cubicBezTo>
                <a:cubicBezTo>
                  <a:pt x="5226" y="7930"/>
                  <a:pt x="5242" y="7921"/>
                  <a:pt x="5259" y="7913"/>
                </a:cubicBezTo>
              </a:path>
              <a:path w="8087" h="2407">
                <a:moveTo>
                  <a:pt x="5407" y="6573"/>
                </a:moveTo>
                <a:cubicBezTo>
                  <a:pt x="5467" y="6597"/>
                  <a:pt x="5482" y="6573"/>
                  <a:pt x="5531" y="6524"/>
                </a:cubicBezTo>
                <a:cubicBezTo>
                  <a:pt x="5575" y="6480"/>
                  <a:pt x="5621" y="6452"/>
                  <a:pt x="5680" y="6449"/>
                </a:cubicBezTo>
                <a:cubicBezTo>
                  <a:pt x="5810" y="6441"/>
                  <a:pt x="5740" y="6602"/>
                  <a:pt x="5730" y="6672"/>
                </a:cubicBezTo>
                <a:cubicBezTo>
                  <a:pt x="5717" y="6768"/>
                  <a:pt x="5679" y="6838"/>
                  <a:pt x="5631" y="6921"/>
                </a:cubicBezTo>
                <a:cubicBezTo>
                  <a:pt x="5583" y="7005"/>
                  <a:pt x="5510" y="7066"/>
                  <a:pt x="5457" y="7144"/>
                </a:cubicBezTo>
                <a:cubicBezTo>
                  <a:pt x="5448" y="7157"/>
                  <a:pt x="5343" y="7283"/>
                  <a:pt x="5407" y="7218"/>
                </a:cubicBezTo>
                <a:cubicBezTo>
                  <a:pt x="5462" y="7162"/>
                  <a:pt x="5505" y="7210"/>
                  <a:pt x="5556" y="7218"/>
                </a:cubicBezTo>
                <a:cubicBezTo>
                  <a:pt x="5666" y="7235"/>
                  <a:pt x="5777" y="7210"/>
                  <a:pt x="5879" y="7193"/>
                </a:cubicBezTo>
                <a:cubicBezTo>
                  <a:pt x="5895" y="7193"/>
                  <a:pt x="5912" y="7193"/>
                  <a:pt x="5928" y="7193"/>
                </a:cubicBezTo>
              </a:path>
              <a:path w="8087" h="2407">
                <a:moveTo>
                  <a:pt x="6052" y="6623"/>
                </a:moveTo>
                <a:cubicBezTo>
                  <a:pt x="5996" y="6753"/>
                  <a:pt x="5934" y="6856"/>
                  <a:pt x="5928" y="6995"/>
                </a:cubicBezTo>
                <a:cubicBezTo>
                  <a:pt x="5924" y="7080"/>
                  <a:pt x="5959" y="7144"/>
                  <a:pt x="6028" y="7193"/>
                </a:cubicBezTo>
                <a:cubicBezTo>
                  <a:pt x="6094" y="7239"/>
                  <a:pt x="6149" y="7243"/>
                  <a:pt x="6226" y="7243"/>
                </a:cubicBezTo>
                <a:cubicBezTo>
                  <a:pt x="6312" y="7243"/>
                  <a:pt x="6404" y="7174"/>
                  <a:pt x="6449" y="7094"/>
                </a:cubicBezTo>
                <a:cubicBezTo>
                  <a:pt x="6495" y="7013"/>
                  <a:pt x="6516" y="6888"/>
                  <a:pt x="6499" y="6796"/>
                </a:cubicBezTo>
                <a:cubicBezTo>
                  <a:pt x="6483" y="6709"/>
                  <a:pt x="6398" y="6664"/>
                  <a:pt x="6325" y="6623"/>
                </a:cubicBezTo>
                <a:cubicBezTo>
                  <a:pt x="6281" y="6598"/>
                  <a:pt x="6178" y="6562"/>
                  <a:pt x="6127" y="6573"/>
                </a:cubicBezTo>
                <a:cubicBezTo>
                  <a:pt x="6110" y="6581"/>
                  <a:pt x="6094" y="6590"/>
                  <a:pt x="6077" y="6598"/>
                </a:cubicBezTo>
              </a:path>
              <a:path w="8087" h="2407">
                <a:moveTo>
                  <a:pt x="6672" y="7169"/>
                </a:moveTo>
                <a:cubicBezTo>
                  <a:pt x="6694" y="7191"/>
                  <a:pt x="6703" y="7202"/>
                  <a:pt x="6697" y="7169"/>
                </a:cubicBezTo>
              </a:path>
              <a:path w="8087" h="2407">
                <a:moveTo>
                  <a:pt x="7045" y="6573"/>
                </a:moveTo>
                <a:cubicBezTo>
                  <a:pt x="7014" y="6658"/>
                  <a:pt x="6991" y="6736"/>
                  <a:pt x="6970" y="6821"/>
                </a:cubicBezTo>
                <a:cubicBezTo>
                  <a:pt x="6943" y="6928"/>
                  <a:pt x="6945" y="6947"/>
                  <a:pt x="6995" y="7045"/>
                </a:cubicBezTo>
                <a:cubicBezTo>
                  <a:pt x="7025" y="7104"/>
                  <a:pt x="7102" y="7154"/>
                  <a:pt x="7169" y="7169"/>
                </a:cubicBezTo>
                <a:cubicBezTo>
                  <a:pt x="7232" y="7183"/>
                  <a:pt x="7345" y="7166"/>
                  <a:pt x="7392" y="7119"/>
                </a:cubicBezTo>
                <a:cubicBezTo>
                  <a:pt x="7462" y="7049"/>
                  <a:pt x="7535" y="6925"/>
                  <a:pt x="7516" y="6821"/>
                </a:cubicBezTo>
                <a:cubicBezTo>
                  <a:pt x="7497" y="6718"/>
                  <a:pt x="7401" y="6624"/>
                  <a:pt x="7317" y="6573"/>
                </a:cubicBezTo>
                <a:cubicBezTo>
                  <a:pt x="7262" y="6540"/>
                  <a:pt x="7182" y="6529"/>
                  <a:pt x="7119" y="6524"/>
                </a:cubicBezTo>
                <a:cubicBezTo>
                  <a:pt x="7111" y="6524"/>
                  <a:pt x="7102" y="6524"/>
                  <a:pt x="7094" y="6524"/>
                </a:cubicBezTo>
              </a:path>
              <a:path w="8087" h="2407">
                <a:moveTo>
                  <a:pt x="7739" y="6499"/>
                </a:moveTo>
                <a:cubicBezTo>
                  <a:pt x="7674" y="6521"/>
                  <a:pt x="7659" y="6529"/>
                  <a:pt x="7615" y="6524"/>
                </a:cubicBezTo>
                <a:cubicBezTo>
                  <a:pt x="7615" y="6605"/>
                  <a:pt x="7625" y="6673"/>
                  <a:pt x="7665" y="6747"/>
                </a:cubicBezTo>
                <a:cubicBezTo>
                  <a:pt x="7734" y="6876"/>
                  <a:pt x="7865" y="6966"/>
                  <a:pt x="7938" y="7094"/>
                </a:cubicBezTo>
                <a:cubicBezTo>
                  <a:pt x="7959" y="7160"/>
                  <a:pt x="7967" y="7175"/>
                  <a:pt x="7962" y="7218"/>
                </a:cubicBezTo>
                <a:cubicBezTo>
                  <a:pt x="7899" y="7239"/>
                  <a:pt x="7846" y="7222"/>
                  <a:pt x="7789" y="7169"/>
                </a:cubicBezTo>
                <a:cubicBezTo>
                  <a:pt x="7718" y="7102"/>
                  <a:pt x="7714" y="7090"/>
                  <a:pt x="7714" y="6995"/>
                </a:cubicBezTo>
                <a:cubicBezTo>
                  <a:pt x="7714" y="6902"/>
                  <a:pt x="7766" y="6867"/>
                  <a:pt x="7813" y="6796"/>
                </a:cubicBezTo>
                <a:cubicBezTo>
                  <a:pt x="7858" y="6729"/>
                  <a:pt x="7900" y="6651"/>
                  <a:pt x="7913" y="6573"/>
                </a:cubicBezTo>
                <a:cubicBezTo>
                  <a:pt x="7913" y="6532"/>
                  <a:pt x="7913" y="6524"/>
                  <a:pt x="7913" y="6499"/>
                </a:cubicBezTo>
              </a:path>
              <a:path w="8087" h="2407">
                <a:moveTo>
                  <a:pt x="8235" y="6400"/>
                </a:moveTo>
                <a:cubicBezTo>
                  <a:pt x="8366" y="6386"/>
                  <a:pt x="8450" y="6391"/>
                  <a:pt x="8558" y="6350"/>
                </a:cubicBezTo>
              </a:path>
              <a:path w="8087" h="2407">
                <a:moveTo>
                  <a:pt x="8161" y="6499"/>
                </a:moveTo>
                <a:cubicBezTo>
                  <a:pt x="8149" y="6532"/>
                  <a:pt x="8051" y="6718"/>
                  <a:pt x="8161" y="6747"/>
                </a:cubicBezTo>
                <a:cubicBezTo>
                  <a:pt x="8221" y="6763"/>
                  <a:pt x="8356" y="6722"/>
                  <a:pt x="8409" y="6697"/>
                </a:cubicBezTo>
                <a:cubicBezTo>
                  <a:pt x="8473" y="6667"/>
                  <a:pt x="8494" y="6674"/>
                  <a:pt x="8558" y="6722"/>
                </a:cubicBezTo>
                <a:cubicBezTo>
                  <a:pt x="8588" y="6745"/>
                  <a:pt x="8610" y="6890"/>
                  <a:pt x="8607" y="6921"/>
                </a:cubicBezTo>
                <a:cubicBezTo>
                  <a:pt x="8601" y="6994"/>
                  <a:pt x="8563" y="7118"/>
                  <a:pt x="8508" y="7169"/>
                </a:cubicBezTo>
                <a:cubicBezTo>
                  <a:pt x="8480" y="7195"/>
                  <a:pt x="8368" y="7229"/>
                  <a:pt x="8334" y="7218"/>
                </a:cubicBezTo>
                <a:cubicBezTo>
                  <a:pt x="8274" y="7199"/>
                  <a:pt x="8252" y="7172"/>
                  <a:pt x="8210" y="7119"/>
                </a:cubicBezTo>
              </a:path>
              <a:path w="8087" h="2407">
                <a:moveTo>
                  <a:pt x="8930" y="6524"/>
                </a:moveTo>
                <a:cubicBezTo>
                  <a:pt x="9059" y="6518"/>
                  <a:pt x="9151" y="6532"/>
                  <a:pt x="9252" y="6449"/>
                </a:cubicBezTo>
                <a:cubicBezTo>
                  <a:pt x="9260" y="6441"/>
                  <a:pt x="9269" y="6432"/>
                  <a:pt x="9277" y="6424"/>
                </a:cubicBezTo>
              </a:path>
              <a:path w="8087" h="2407">
                <a:moveTo>
                  <a:pt x="8781" y="6499"/>
                </a:moveTo>
                <a:cubicBezTo>
                  <a:pt x="8743" y="6623"/>
                  <a:pt x="8694" y="6691"/>
                  <a:pt x="8781" y="6796"/>
                </a:cubicBezTo>
                <a:cubicBezTo>
                  <a:pt x="8823" y="6847"/>
                  <a:pt x="8918" y="6862"/>
                  <a:pt x="8979" y="6871"/>
                </a:cubicBezTo>
                <a:cubicBezTo>
                  <a:pt x="9061" y="6883"/>
                  <a:pt x="9146" y="6901"/>
                  <a:pt x="9203" y="6970"/>
                </a:cubicBezTo>
                <a:cubicBezTo>
                  <a:pt x="9239" y="7014"/>
                  <a:pt x="9245" y="7142"/>
                  <a:pt x="9227" y="7193"/>
                </a:cubicBezTo>
                <a:cubicBezTo>
                  <a:pt x="9208" y="7247"/>
                  <a:pt x="9099" y="7265"/>
                  <a:pt x="9054" y="7268"/>
                </a:cubicBezTo>
                <a:cubicBezTo>
                  <a:pt x="8985" y="7272"/>
                  <a:pt x="8864" y="7240"/>
                  <a:pt x="8830" y="7169"/>
                </a:cubicBezTo>
                <a:cubicBezTo>
                  <a:pt x="8822" y="7136"/>
                  <a:pt x="8814" y="7102"/>
                  <a:pt x="8806" y="7069"/>
                </a:cubicBezTo>
              </a:path>
              <a:path w="8087" h="2407">
                <a:moveTo>
                  <a:pt x="9252" y="6548"/>
                </a:moveTo>
                <a:cubicBezTo>
                  <a:pt x="9366" y="6523"/>
                  <a:pt x="9491" y="6513"/>
                  <a:pt x="9599" y="6474"/>
                </a:cubicBezTo>
                <a:cubicBezTo>
                  <a:pt x="9616" y="6466"/>
                  <a:pt x="9632" y="6457"/>
                  <a:pt x="9649" y="6449"/>
                </a:cubicBezTo>
              </a:path>
              <a:path w="8087" h="2407">
                <a:moveTo>
                  <a:pt x="9327" y="6573"/>
                </a:moveTo>
                <a:cubicBezTo>
                  <a:pt x="9263" y="6699"/>
                  <a:pt x="9231" y="6723"/>
                  <a:pt x="9351" y="6821"/>
                </a:cubicBezTo>
                <a:cubicBezTo>
                  <a:pt x="9450" y="6902"/>
                  <a:pt x="9541" y="6974"/>
                  <a:pt x="9599" y="7094"/>
                </a:cubicBezTo>
                <a:cubicBezTo>
                  <a:pt x="9632" y="7162"/>
                  <a:pt x="9637" y="7260"/>
                  <a:pt x="9575" y="7317"/>
                </a:cubicBezTo>
                <a:cubicBezTo>
                  <a:pt x="9530" y="7359"/>
                  <a:pt x="9411" y="7405"/>
                  <a:pt x="9351" y="7392"/>
                </a:cubicBezTo>
                <a:cubicBezTo>
                  <a:pt x="9260" y="7373"/>
                  <a:pt x="9234" y="7362"/>
                  <a:pt x="9178" y="7293"/>
                </a:cubicBezTo>
              </a:path>
              <a:path w="8087" h="2407">
                <a:moveTo>
                  <a:pt x="10021" y="6821"/>
                </a:moveTo>
                <a:cubicBezTo>
                  <a:pt x="10178" y="6803"/>
                  <a:pt x="10186" y="6795"/>
                  <a:pt x="10269" y="6796"/>
                </a:cubicBezTo>
              </a:path>
              <a:path w="8087" h="2407">
                <a:moveTo>
                  <a:pt x="10096" y="7045"/>
                </a:moveTo>
                <a:cubicBezTo>
                  <a:pt x="10203" y="7022"/>
                  <a:pt x="10227" y="7020"/>
                  <a:pt x="10319" y="6970"/>
                </a:cubicBezTo>
              </a:path>
              <a:path w="8087" h="2407">
                <a:moveTo>
                  <a:pt x="10716" y="6300"/>
                </a:moveTo>
                <a:cubicBezTo>
                  <a:pt x="10829" y="6256"/>
                  <a:pt x="10901" y="6213"/>
                  <a:pt x="11013" y="6251"/>
                </a:cubicBezTo>
                <a:cubicBezTo>
                  <a:pt x="11095" y="6278"/>
                  <a:pt x="11117" y="6326"/>
                  <a:pt x="11088" y="6400"/>
                </a:cubicBezTo>
                <a:cubicBezTo>
                  <a:pt x="11054" y="6487"/>
                  <a:pt x="10990" y="6546"/>
                  <a:pt x="10914" y="6598"/>
                </a:cubicBezTo>
                <a:cubicBezTo>
                  <a:pt x="10857" y="6637"/>
                  <a:pt x="10794" y="6644"/>
                  <a:pt x="10740" y="6672"/>
                </a:cubicBezTo>
                <a:cubicBezTo>
                  <a:pt x="10724" y="6680"/>
                  <a:pt x="10707" y="6689"/>
                  <a:pt x="10691" y="6697"/>
                </a:cubicBezTo>
                <a:cubicBezTo>
                  <a:pt x="10768" y="6759"/>
                  <a:pt x="10799" y="6725"/>
                  <a:pt x="10889" y="6747"/>
                </a:cubicBezTo>
                <a:cubicBezTo>
                  <a:pt x="10997" y="6773"/>
                  <a:pt x="11047" y="6857"/>
                  <a:pt x="11088" y="6945"/>
                </a:cubicBezTo>
                <a:cubicBezTo>
                  <a:pt x="11124" y="7022"/>
                  <a:pt x="11122" y="7093"/>
                  <a:pt x="11088" y="7169"/>
                </a:cubicBezTo>
                <a:cubicBezTo>
                  <a:pt x="11054" y="7245"/>
                  <a:pt x="11023" y="7292"/>
                  <a:pt x="10939" y="7317"/>
                </a:cubicBezTo>
                <a:cubicBezTo>
                  <a:pt x="10736" y="7376"/>
                  <a:pt x="10661" y="7366"/>
                  <a:pt x="10468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13"/>
          <p:cNvSpPr/>
          <p:nvPr/>
        </p:nvSpPr>
        <p:spPr>
          <a:xfrm>
            <a:off x="5537160" y="2320920"/>
            <a:ext cx="919080" cy="73332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15404" y="6648"/>
                </a:moveTo>
                <a:cubicBezTo>
                  <a:pt x="15404" y="6727"/>
                  <a:pt x="15369" y="6794"/>
                  <a:pt x="15379" y="6871"/>
                </a:cubicBezTo>
                <a:cubicBezTo>
                  <a:pt x="15394" y="6986"/>
                  <a:pt x="15417" y="7104"/>
                  <a:pt x="15429" y="7218"/>
                </a:cubicBezTo>
                <a:cubicBezTo>
                  <a:pt x="15440" y="7317"/>
                  <a:pt x="15449" y="7418"/>
                  <a:pt x="15453" y="7516"/>
                </a:cubicBezTo>
                <a:cubicBezTo>
                  <a:pt x="15456" y="7594"/>
                  <a:pt x="15430" y="7704"/>
                  <a:pt x="15478" y="7764"/>
                </a:cubicBezTo>
                <a:cubicBezTo>
                  <a:pt x="15503" y="7789"/>
                  <a:pt x="15511" y="7797"/>
                  <a:pt x="15528" y="7764"/>
                </a:cubicBezTo>
              </a:path>
              <a:path w="2556" h="2035">
                <a:moveTo>
                  <a:pt x="15850" y="7069"/>
                </a:moveTo>
                <a:cubicBezTo>
                  <a:pt x="15794" y="7159"/>
                  <a:pt x="15755" y="7239"/>
                  <a:pt x="15726" y="7342"/>
                </a:cubicBezTo>
                <a:cubicBezTo>
                  <a:pt x="15695" y="7449"/>
                  <a:pt x="15657" y="7534"/>
                  <a:pt x="15701" y="7640"/>
                </a:cubicBezTo>
                <a:cubicBezTo>
                  <a:pt x="15730" y="7709"/>
                  <a:pt x="15760" y="7780"/>
                  <a:pt x="15850" y="7764"/>
                </a:cubicBezTo>
                <a:cubicBezTo>
                  <a:pt x="15942" y="7748"/>
                  <a:pt x="16017" y="7687"/>
                  <a:pt x="16073" y="7615"/>
                </a:cubicBezTo>
                <a:cubicBezTo>
                  <a:pt x="16135" y="7536"/>
                  <a:pt x="16184" y="7419"/>
                  <a:pt x="16173" y="7317"/>
                </a:cubicBezTo>
                <a:cubicBezTo>
                  <a:pt x="16164" y="7237"/>
                  <a:pt x="16142" y="7119"/>
                  <a:pt x="16049" y="7094"/>
                </a:cubicBezTo>
                <a:cubicBezTo>
                  <a:pt x="15982" y="7076"/>
                  <a:pt x="15923" y="7101"/>
                  <a:pt x="15875" y="7144"/>
                </a:cubicBezTo>
                <a:cubicBezTo>
                  <a:pt x="15845" y="7174"/>
                  <a:pt x="15834" y="7188"/>
                  <a:pt x="15825" y="7218"/>
                </a:cubicBezTo>
              </a:path>
              <a:path w="2556" h="2035">
                <a:moveTo>
                  <a:pt x="16743" y="7069"/>
                </a:moveTo>
                <a:cubicBezTo>
                  <a:pt x="16608" y="7040"/>
                  <a:pt x="16529" y="7125"/>
                  <a:pt x="16421" y="7218"/>
                </a:cubicBezTo>
                <a:cubicBezTo>
                  <a:pt x="16354" y="7276"/>
                  <a:pt x="16325" y="7351"/>
                  <a:pt x="16346" y="7441"/>
                </a:cubicBezTo>
                <a:cubicBezTo>
                  <a:pt x="16363" y="7511"/>
                  <a:pt x="16413" y="7556"/>
                  <a:pt x="16470" y="7590"/>
                </a:cubicBezTo>
                <a:cubicBezTo>
                  <a:pt x="16538" y="7631"/>
                  <a:pt x="16601" y="7621"/>
                  <a:pt x="16669" y="7590"/>
                </a:cubicBezTo>
                <a:cubicBezTo>
                  <a:pt x="16748" y="7554"/>
                  <a:pt x="16794" y="7513"/>
                  <a:pt x="16842" y="7441"/>
                </a:cubicBezTo>
                <a:cubicBezTo>
                  <a:pt x="16870" y="7399"/>
                  <a:pt x="16886" y="7293"/>
                  <a:pt x="16867" y="7243"/>
                </a:cubicBezTo>
                <a:cubicBezTo>
                  <a:pt x="16859" y="7235"/>
                  <a:pt x="16850" y="7226"/>
                  <a:pt x="16842" y="7218"/>
                </a:cubicBezTo>
                <a:cubicBezTo>
                  <a:pt x="16802" y="7259"/>
                  <a:pt x="16770" y="7290"/>
                  <a:pt x="16743" y="7342"/>
                </a:cubicBezTo>
                <a:cubicBezTo>
                  <a:pt x="16691" y="7440"/>
                  <a:pt x="16712" y="7537"/>
                  <a:pt x="16718" y="7640"/>
                </a:cubicBezTo>
                <a:cubicBezTo>
                  <a:pt x="16726" y="7785"/>
                  <a:pt x="16762" y="7919"/>
                  <a:pt x="16793" y="8062"/>
                </a:cubicBezTo>
                <a:cubicBezTo>
                  <a:pt x="16815" y="8166"/>
                  <a:pt x="16839" y="8268"/>
                  <a:pt x="16793" y="8359"/>
                </a:cubicBezTo>
                <a:cubicBezTo>
                  <a:pt x="16722" y="8501"/>
                  <a:pt x="16660" y="8494"/>
                  <a:pt x="16545" y="8434"/>
                </a:cubicBezTo>
                <a:cubicBezTo>
                  <a:pt x="16463" y="8391"/>
                  <a:pt x="16397" y="8387"/>
                  <a:pt x="16321" y="8334"/>
                </a:cubicBezTo>
                <a:cubicBezTo>
                  <a:pt x="16292" y="8305"/>
                  <a:pt x="16281" y="8290"/>
                  <a:pt x="16272" y="8260"/>
                </a:cubicBezTo>
              </a:path>
              <a:path w="2556" h="2035">
                <a:moveTo>
                  <a:pt x="16991" y="7640"/>
                </a:moveTo>
                <a:cubicBezTo>
                  <a:pt x="17076" y="7603"/>
                  <a:pt x="17139" y="7588"/>
                  <a:pt x="17214" y="7541"/>
                </a:cubicBezTo>
                <a:cubicBezTo>
                  <a:pt x="17303" y="7484"/>
                  <a:pt x="17303" y="7464"/>
                  <a:pt x="17314" y="7367"/>
                </a:cubicBezTo>
                <a:cubicBezTo>
                  <a:pt x="17262" y="7350"/>
                  <a:pt x="17144" y="7362"/>
                  <a:pt x="17090" y="7417"/>
                </a:cubicBezTo>
                <a:cubicBezTo>
                  <a:pt x="17059" y="7448"/>
                  <a:pt x="16975" y="7542"/>
                  <a:pt x="16966" y="7590"/>
                </a:cubicBezTo>
                <a:cubicBezTo>
                  <a:pt x="16953" y="7659"/>
                  <a:pt x="16963" y="7786"/>
                  <a:pt x="17016" y="7838"/>
                </a:cubicBezTo>
                <a:cubicBezTo>
                  <a:pt x="17068" y="7890"/>
                  <a:pt x="17163" y="7951"/>
                  <a:pt x="17239" y="7962"/>
                </a:cubicBezTo>
                <a:cubicBezTo>
                  <a:pt x="17337" y="7977"/>
                  <a:pt x="17421" y="7943"/>
                  <a:pt x="17512" y="7913"/>
                </a:cubicBezTo>
              </a:path>
              <a:path w="2556" h="2035">
                <a:moveTo>
                  <a:pt x="17934" y="6449"/>
                </a:moveTo>
                <a:cubicBezTo>
                  <a:pt x="17924" y="6531"/>
                  <a:pt x="17907" y="6614"/>
                  <a:pt x="17884" y="6697"/>
                </a:cubicBezTo>
                <a:cubicBezTo>
                  <a:pt x="17850" y="6820"/>
                  <a:pt x="17859" y="6941"/>
                  <a:pt x="17859" y="7069"/>
                </a:cubicBezTo>
                <a:cubicBezTo>
                  <a:pt x="17859" y="7244"/>
                  <a:pt x="17823" y="7453"/>
                  <a:pt x="1788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14"/>
          <p:cNvSpPr/>
          <p:nvPr/>
        </p:nvSpPr>
        <p:spPr>
          <a:xfrm>
            <a:off x="6626160" y="2367000"/>
            <a:ext cx="581040" cy="374760"/>
          </a:xfrm>
          <a:custGeom>
            <a:avLst/>
            <a:gdLst/>
            <a:ahLst/>
            <a:rect l="l" t="t" r="r" b="b"/>
            <a:pathLst>
              <a:path w="1613" h="1043">
                <a:moveTo>
                  <a:pt x="18430" y="7169"/>
                </a:moveTo>
                <a:cubicBezTo>
                  <a:pt x="18576" y="7147"/>
                  <a:pt x="18580" y="7135"/>
                  <a:pt x="18703" y="7169"/>
                </a:cubicBezTo>
              </a:path>
              <a:path w="1613" h="1043">
                <a:moveTo>
                  <a:pt x="18405" y="7342"/>
                </a:moveTo>
                <a:cubicBezTo>
                  <a:pt x="18525" y="7390"/>
                  <a:pt x="18580" y="7408"/>
                  <a:pt x="18703" y="7367"/>
                </a:cubicBezTo>
              </a:path>
              <a:path w="1613" h="1043">
                <a:moveTo>
                  <a:pt x="19149" y="6648"/>
                </a:moveTo>
                <a:cubicBezTo>
                  <a:pt x="19104" y="6738"/>
                  <a:pt x="19040" y="6843"/>
                  <a:pt x="19025" y="6945"/>
                </a:cubicBezTo>
                <a:cubicBezTo>
                  <a:pt x="19009" y="7050"/>
                  <a:pt x="19026" y="7173"/>
                  <a:pt x="19075" y="7268"/>
                </a:cubicBezTo>
                <a:cubicBezTo>
                  <a:pt x="19130" y="7375"/>
                  <a:pt x="19201" y="7449"/>
                  <a:pt x="19298" y="7516"/>
                </a:cubicBezTo>
                <a:cubicBezTo>
                  <a:pt x="19394" y="7583"/>
                  <a:pt x="19505" y="7611"/>
                  <a:pt x="19621" y="7615"/>
                </a:cubicBezTo>
                <a:cubicBezTo>
                  <a:pt x="19765" y="7620"/>
                  <a:pt x="19836" y="7582"/>
                  <a:pt x="19918" y="7466"/>
                </a:cubicBezTo>
                <a:cubicBezTo>
                  <a:pt x="20006" y="7341"/>
                  <a:pt x="20061" y="7180"/>
                  <a:pt x="20017" y="7020"/>
                </a:cubicBezTo>
                <a:cubicBezTo>
                  <a:pt x="19980" y="6885"/>
                  <a:pt x="19876" y="6759"/>
                  <a:pt x="19769" y="6672"/>
                </a:cubicBezTo>
                <a:cubicBezTo>
                  <a:pt x="19647" y="6573"/>
                  <a:pt x="19546" y="6573"/>
                  <a:pt x="19397" y="6573"/>
                </a:cubicBezTo>
                <a:cubicBezTo>
                  <a:pt x="19269" y="6573"/>
                  <a:pt x="19209" y="6612"/>
                  <a:pt x="19100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15"/>
          <p:cNvSpPr/>
          <p:nvPr/>
        </p:nvSpPr>
        <p:spPr>
          <a:xfrm>
            <a:off x="5938920" y="3054240"/>
            <a:ext cx="803160" cy="534960"/>
          </a:xfrm>
          <a:custGeom>
            <a:avLst/>
            <a:gdLst/>
            <a:ahLst/>
            <a:rect l="l" t="t" r="r" b="b"/>
            <a:pathLst>
              <a:path w="2234" h="1489">
                <a:moveTo>
                  <a:pt x="16694" y="9401"/>
                </a:moveTo>
                <a:cubicBezTo>
                  <a:pt x="16771" y="9375"/>
                  <a:pt x="16872" y="9405"/>
                  <a:pt x="16942" y="9376"/>
                </a:cubicBezTo>
                <a:cubicBezTo>
                  <a:pt x="16947" y="9374"/>
                  <a:pt x="17138" y="9305"/>
                  <a:pt x="17140" y="9302"/>
                </a:cubicBezTo>
                <a:cubicBezTo>
                  <a:pt x="17148" y="9277"/>
                  <a:pt x="17157" y="9252"/>
                  <a:pt x="17165" y="9227"/>
                </a:cubicBezTo>
              </a:path>
              <a:path w="2234" h="1489">
                <a:moveTo>
                  <a:pt x="17115" y="9079"/>
                </a:moveTo>
                <a:cubicBezTo>
                  <a:pt x="16983" y="9057"/>
                  <a:pt x="16868" y="9026"/>
                  <a:pt x="16743" y="9103"/>
                </a:cubicBezTo>
                <a:cubicBezTo>
                  <a:pt x="16655" y="9157"/>
                  <a:pt x="16591" y="9202"/>
                  <a:pt x="16545" y="9302"/>
                </a:cubicBezTo>
                <a:cubicBezTo>
                  <a:pt x="16508" y="9381"/>
                  <a:pt x="16474" y="9458"/>
                  <a:pt x="16495" y="9550"/>
                </a:cubicBezTo>
                <a:cubicBezTo>
                  <a:pt x="16512" y="9626"/>
                  <a:pt x="16580" y="9776"/>
                  <a:pt x="16644" y="9823"/>
                </a:cubicBezTo>
                <a:cubicBezTo>
                  <a:pt x="16705" y="9868"/>
                  <a:pt x="16868" y="9952"/>
                  <a:pt x="16942" y="9971"/>
                </a:cubicBezTo>
                <a:cubicBezTo>
                  <a:pt x="17034" y="9995"/>
                  <a:pt x="17089" y="9959"/>
                  <a:pt x="17165" y="9922"/>
                </a:cubicBezTo>
              </a:path>
              <a:path w="2234" h="1489">
                <a:moveTo>
                  <a:pt x="17338" y="8483"/>
                </a:moveTo>
                <a:cubicBezTo>
                  <a:pt x="17290" y="8545"/>
                  <a:pt x="17280" y="8569"/>
                  <a:pt x="17239" y="8632"/>
                </a:cubicBezTo>
                <a:cubicBezTo>
                  <a:pt x="17204" y="8687"/>
                  <a:pt x="17203" y="8745"/>
                  <a:pt x="17239" y="8781"/>
                </a:cubicBezTo>
                <a:cubicBezTo>
                  <a:pt x="17304" y="8846"/>
                  <a:pt x="17288" y="8855"/>
                  <a:pt x="17388" y="8855"/>
                </a:cubicBezTo>
                <a:cubicBezTo>
                  <a:pt x="17473" y="8855"/>
                  <a:pt x="17492" y="8856"/>
                  <a:pt x="17537" y="8781"/>
                </a:cubicBezTo>
                <a:cubicBezTo>
                  <a:pt x="17578" y="8713"/>
                  <a:pt x="17598" y="8700"/>
                  <a:pt x="17562" y="8632"/>
                </a:cubicBezTo>
                <a:cubicBezTo>
                  <a:pt x="17526" y="8565"/>
                  <a:pt x="17462" y="8516"/>
                  <a:pt x="17388" y="8508"/>
                </a:cubicBezTo>
                <a:cubicBezTo>
                  <a:pt x="17307" y="8499"/>
                  <a:pt x="17309" y="8503"/>
                  <a:pt x="17264" y="8558"/>
                </a:cubicBezTo>
              </a:path>
              <a:path w="2234" h="1489">
                <a:moveTo>
                  <a:pt x="17686" y="9302"/>
                </a:moveTo>
                <a:cubicBezTo>
                  <a:pt x="17792" y="9256"/>
                  <a:pt x="17836" y="9280"/>
                  <a:pt x="17934" y="9252"/>
                </a:cubicBezTo>
                <a:cubicBezTo>
                  <a:pt x="17950" y="9244"/>
                  <a:pt x="17967" y="9235"/>
                  <a:pt x="17983" y="9227"/>
                </a:cubicBezTo>
              </a:path>
              <a:path w="2234" h="1489">
                <a:moveTo>
                  <a:pt x="17760" y="9401"/>
                </a:moveTo>
                <a:cubicBezTo>
                  <a:pt x="17858" y="9450"/>
                  <a:pt x="17881" y="9466"/>
                  <a:pt x="17983" y="9475"/>
                </a:cubicBezTo>
              </a:path>
              <a:path w="2234" h="1489">
                <a:moveTo>
                  <a:pt x="18628" y="8806"/>
                </a:moveTo>
                <a:cubicBezTo>
                  <a:pt x="18628" y="8983"/>
                  <a:pt x="18620" y="9156"/>
                  <a:pt x="18628" y="9327"/>
                </a:cubicBezTo>
                <a:cubicBezTo>
                  <a:pt x="18636" y="9505"/>
                  <a:pt x="18669" y="9672"/>
                  <a:pt x="18703" y="9847"/>
                </a:cubicBezTo>
                <a:cubicBezTo>
                  <a:pt x="18711" y="9888"/>
                  <a:pt x="18720" y="9930"/>
                  <a:pt x="18728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6"/>
          <p:cNvSpPr/>
          <p:nvPr/>
        </p:nvSpPr>
        <p:spPr>
          <a:xfrm>
            <a:off x="6161040" y="4348080"/>
            <a:ext cx="1027080" cy="1465200"/>
          </a:xfrm>
          <a:custGeom>
            <a:avLst/>
            <a:gdLst/>
            <a:ahLst/>
            <a:rect l="l" t="t" r="r" b="b"/>
            <a:pathLst>
              <a:path w="2854" h="4069">
                <a:moveTo>
                  <a:pt x="18008" y="13370"/>
                </a:moveTo>
                <a:cubicBezTo>
                  <a:pt x="18061" y="13307"/>
                  <a:pt x="18097" y="13316"/>
                  <a:pt x="18182" y="13345"/>
                </a:cubicBezTo>
                <a:cubicBezTo>
                  <a:pt x="18256" y="13370"/>
                  <a:pt x="18302" y="13416"/>
                  <a:pt x="18355" y="13469"/>
                </a:cubicBezTo>
                <a:cubicBezTo>
                  <a:pt x="18415" y="13529"/>
                  <a:pt x="18445" y="13553"/>
                  <a:pt x="18405" y="13643"/>
                </a:cubicBezTo>
                <a:cubicBezTo>
                  <a:pt x="18387" y="13684"/>
                  <a:pt x="18326" y="13755"/>
                  <a:pt x="18281" y="13767"/>
                </a:cubicBezTo>
                <a:cubicBezTo>
                  <a:pt x="18220" y="13783"/>
                  <a:pt x="18228" y="13770"/>
                  <a:pt x="18182" y="13816"/>
                </a:cubicBezTo>
                <a:cubicBezTo>
                  <a:pt x="18273" y="13816"/>
                  <a:pt x="18341" y="13814"/>
                  <a:pt x="18405" y="13891"/>
                </a:cubicBezTo>
                <a:cubicBezTo>
                  <a:pt x="18448" y="13943"/>
                  <a:pt x="18476" y="14025"/>
                  <a:pt x="18479" y="14089"/>
                </a:cubicBezTo>
                <a:cubicBezTo>
                  <a:pt x="18482" y="14151"/>
                  <a:pt x="18488" y="14222"/>
                  <a:pt x="18430" y="14263"/>
                </a:cubicBezTo>
                <a:cubicBezTo>
                  <a:pt x="18362" y="14311"/>
                  <a:pt x="18260" y="14288"/>
                  <a:pt x="18182" y="14288"/>
                </a:cubicBezTo>
                <a:cubicBezTo>
                  <a:pt x="18108" y="14288"/>
                  <a:pt x="18101" y="14247"/>
                  <a:pt x="18033" y="14288"/>
                </a:cubicBezTo>
              </a:path>
              <a:path w="2854" h="4069">
                <a:moveTo>
                  <a:pt x="18182" y="14660"/>
                </a:moveTo>
                <a:cubicBezTo>
                  <a:pt x="18277" y="14734"/>
                  <a:pt x="18342" y="14734"/>
                  <a:pt x="18455" y="14759"/>
                </a:cubicBezTo>
                <a:cubicBezTo>
                  <a:pt x="18532" y="14776"/>
                  <a:pt x="18602" y="14789"/>
                  <a:pt x="18678" y="14808"/>
                </a:cubicBezTo>
              </a:path>
              <a:path w="2854" h="4069">
                <a:moveTo>
                  <a:pt x="18256" y="15007"/>
                </a:moveTo>
                <a:cubicBezTo>
                  <a:pt x="18337" y="15102"/>
                  <a:pt x="18390" y="15174"/>
                  <a:pt x="18529" y="15156"/>
                </a:cubicBezTo>
                <a:cubicBezTo>
                  <a:pt x="18562" y="15148"/>
                  <a:pt x="18595" y="15139"/>
                  <a:pt x="18628" y="15131"/>
                </a:cubicBezTo>
              </a:path>
              <a:path w="2854" h="4069">
                <a:moveTo>
                  <a:pt x="19621" y="14684"/>
                </a:moveTo>
                <a:cubicBezTo>
                  <a:pt x="19691" y="14579"/>
                  <a:pt x="19815" y="14452"/>
                  <a:pt x="19794" y="14312"/>
                </a:cubicBezTo>
                <a:cubicBezTo>
                  <a:pt x="19783" y="14237"/>
                  <a:pt x="19730" y="14136"/>
                  <a:pt x="19670" y="14089"/>
                </a:cubicBezTo>
                <a:cubicBezTo>
                  <a:pt x="19643" y="14068"/>
                  <a:pt x="19502" y="14037"/>
                  <a:pt x="19472" y="14064"/>
                </a:cubicBezTo>
                <a:cubicBezTo>
                  <a:pt x="19358" y="14165"/>
                  <a:pt x="19351" y="14293"/>
                  <a:pt x="19372" y="14436"/>
                </a:cubicBezTo>
                <a:cubicBezTo>
                  <a:pt x="19397" y="14608"/>
                  <a:pt x="19465" y="14769"/>
                  <a:pt x="19521" y="14932"/>
                </a:cubicBezTo>
                <a:cubicBezTo>
                  <a:pt x="19587" y="15125"/>
                  <a:pt x="19654" y="15303"/>
                  <a:pt x="19695" y="15503"/>
                </a:cubicBezTo>
                <a:cubicBezTo>
                  <a:pt x="19726" y="15652"/>
                  <a:pt x="19765" y="15797"/>
                  <a:pt x="19769" y="15949"/>
                </a:cubicBezTo>
                <a:cubicBezTo>
                  <a:pt x="19772" y="16065"/>
                  <a:pt x="19765" y="16068"/>
                  <a:pt x="19695" y="16148"/>
                </a:cubicBezTo>
                <a:cubicBezTo>
                  <a:pt x="19604" y="16114"/>
                  <a:pt x="19531" y="16082"/>
                  <a:pt x="19472" y="15999"/>
                </a:cubicBezTo>
                <a:cubicBezTo>
                  <a:pt x="19440" y="15955"/>
                  <a:pt x="19370" y="15826"/>
                  <a:pt x="19372" y="15776"/>
                </a:cubicBezTo>
                <a:cubicBezTo>
                  <a:pt x="19378" y="15644"/>
                  <a:pt x="19410" y="15508"/>
                  <a:pt x="19447" y="15379"/>
                </a:cubicBezTo>
                <a:cubicBezTo>
                  <a:pt x="19482" y="15257"/>
                  <a:pt x="19540" y="15147"/>
                  <a:pt x="19596" y="15032"/>
                </a:cubicBezTo>
                <a:cubicBezTo>
                  <a:pt x="19653" y="14915"/>
                  <a:pt x="19702" y="14793"/>
                  <a:pt x="19769" y="14684"/>
                </a:cubicBezTo>
                <a:cubicBezTo>
                  <a:pt x="19822" y="14597"/>
                  <a:pt x="19867" y="14522"/>
                  <a:pt x="19918" y="14436"/>
                </a:cubicBezTo>
                <a:cubicBezTo>
                  <a:pt x="19964" y="14358"/>
                  <a:pt x="19957" y="14363"/>
                  <a:pt x="19943" y="14288"/>
                </a:cubicBezTo>
              </a:path>
              <a:path w="2854" h="4069">
                <a:moveTo>
                  <a:pt x="18058" y="12378"/>
                </a:moveTo>
                <a:cubicBezTo>
                  <a:pt x="18072" y="12306"/>
                  <a:pt x="18082" y="12257"/>
                  <a:pt x="18008" y="12204"/>
                </a:cubicBezTo>
                <a:cubicBezTo>
                  <a:pt x="17850" y="12090"/>
                  <a:pt x="17791" y="12098"/>
                  <a:pt x="17562" y="12080"/>
                </a:cubicBezTo>
                <a:cubicBezTo>
                  <a:pt x="17448" y="12071"/>
                  <a:pt x="17368" y="12090"/>
                  <a:pt x="17264" y="12129"/>
                </a:cubicBezTo>
                <a:cubicBezTo>
                  <a:pt x="17157" y="12169"/>
                  <a:pt x="17125" y="12240"/>
                  <a:pt x="17115" y="12353"/>
                </a:cubicBezTo>
                <a:cubicBezTo>
                  <a:pt x="17104" y="12470"/>
                  <a:pt x="17130" y="12551"/>
                  <a:pt x="17190" y="12650"/>
                </a:cubicBezTo>
                <a:cubicBezTo>
                  <a:pt x="17263" y="12772"/>
                  <a:pt x="17415" y="12930"/>
                  <a:pt x="17537" y="12998"/>
                </a:cubicBezTo>
                <a:cubicBezTo>
                  <a:pt x="17620" y="13045"/>
                  <a:pt x="17790" y="13066"/>
                  <a:pt x="17884" y="13047"/>
                </a:cubicBezTo>
                <a:cubicBezTo>
                  <a:pt x="17967" y="13030"/>
                  <a:pt x="18039" y="12961"/>
                  <a:pt x="18083" y="12898"/>
                </a:cubicBezTo>
                <a:cubicBezTo>
                  <a:pt x="18143" y="12811"/>
                  <a:pt x="18152" y="12682"/>
                  <a:pt x="18132" y="12576"/>
                </a:cubicBezTo>
                <a:cubicBezTo>
                  <a:pt x="18117" y="12497"/>
                  <a:pt x="18079" y="12395"/>
                  <a:pt x="18033" y="12328"/>
                </a:cubicBezTo>
                <a:cubicBezTo>
                  <a:pt x="18010" y="12295"/>
                  <a:pt x="17985" y="12293"/>
                  <a:pt x="17959" y="12278"/>
                </a:cubicBezTo>
              </a:path>
              <a:path w="2854" h="4069">
                <a:moveTo>
                  <a:pt x="18107" y="12898"/>
                </a:moveTo>
                <a:cubicBezTo>
                  <a:pt x="18200" y="12938"/>
                  <a:pt x="18278" y="12969"/>
                  <a:pt x="18380" y="12973"/>
                </a:cubicBezTo>
                <a:cubicBezTo>
                  <a:pt x="18490" y="12978"/>
                  <a:pt x="18596" y="12933"/>
                  <a:pt x="18703" y="12923"/>
                </a:cubicBezTo>
                <a:cubicBezTo>
                  <a:pt x="18847" y="12910"/>
                  <a:pt x="18946" y="12891"/>
                  <a:pt x="19075" y="12824"/>
                </a:cubicBezTo>
                <a:cubicBezTo>
                  <a:pt x="19200" y="12759"/>
                  <a:pt x="19270" y="12719"/>
                  <a:pt x="19372" y="12626"/>
                </a:cubicBezTo>
                <a:cubicBezTo>
                  <a:pt x="19459" y="12547"/>
                  <a:pt x="19479" y="12468"/>
                  <a:pt x="19521" y="12378"/>
                </a:cubicBezTo>
                <a:cubicBezTo>
                  <a:pt x="19546" y="12353"/>
                  <a:pt x="19554" y="12345"/>
                  <a:pt x="19521" y="12328"/>
                </a:cubicBezTo>
                <a:cubicBezTo>
                  <a:pt x="19477" y="12354"/>
                  <a:pt x="19441" y="12377"/>
                  <a:pt x="19397" y="12402"/>
                </a:cubicBezTo>
              </a:path>
              <a:path w="2854" h="4069">
                <a:moveTo>
                  <a:pt x="18951" y="12303"/>
                </a:moveTo>
                <a:cubicBezTo>
                  <a:pt x="19032" y="12303"/>
                  <a:pt x="19057" y="12294"/>
                  <a:pt x="19124" y="12254"/>
                </a:cubicBezTo>
                <a:cubicBezTo>
                  <a:pt x="19183" y="12219"/>
                  <a:pt x="19247" y="12200"/>
                  <a:pt x="19298" y="12154"/>
                </a:cubicBezTo>
                <a:cubicBezTo>
                  <a:pt x="19387" y="12073"/>
                  <a:pt x="19360" y="12122"/>
                  <a:pt x="19397" y="12179"/>
                </a:cubicBezTo>
                <a:cubicBezTo>
                  <a:pt x="19464" y="12282"/>
                  <a:pt x="19515" y="12403"/>
                  <a:pt x="19596" y="12502"/>
                </a:cubicBezTo>
                <a:cubicBezTo>
                  <a:pt x="19656" y="12575"/>
                  <a:pt x="19705" y="12656"/>
                  <a:pt x="19769" y="12725"/>
                </a:cubicBezTo>
                <a:cubicBezTo>
                  <a:pt x="19817" y="12777"/>
                  <a:pt x="19817" y="12794"/>
                  <a:pt x="19844" y="12849"/>
                </a:cubicBezTo>
                <a:cubicBezTo>
                  <a:pt x="19867" y="12872"/>
                  <a:pt x="19878" y="12880"/>
                  <a:pt x="19844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7"/>
          <p:cNvSpPr/>
          <p:nvPr/>
        </p:nvSpPr>
        <p:spPr>
          <a:xfrm>
            <a:off x="1758960" y="3106800"/>
            <a:ext cx="312840" cy="45720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4961" y="8632"/>
                </a:moveTo>
                <a:cubicBezTo>
                  <a:pt x="4961" y="8891"/>
                  <a:pt x="4960" y="9146"/>
                  <a:pt x="4936" y="9401"/>
                </a:cubicBezTo>
                <a:cubicBezTo>
                  <a:pt x="4927" y="9500"/>
                  <a:pt x="4917" y="9603"/>
                  <a:pt x="4911" y="9699"/>
                </a:cubicBezTo>
                <a:cubicBezTo>
                  <a:pt x="4911" y="9701"/>
                  <a:pt x="4896" y="9912"/>
                  <a:pt x="4911" y="9897"/>
                </a:cubicBezTo>
                <a:cubicBezTo>
                  <a:pt x="4911" y="9880"/>
                  <a:pt x="4911" y="9864"/>
                  <a:pt x="4911" y="9847"/>
                </a:cubicBezTo>
              </a:path>
              <a:path w="869" h="1266">
                <a:moveTo>
                  <a:pt x="5234" y="9302"/>
                </a:moveTo>
                <a:cubicBezTo>
                  <a:pt x="5217" y="9406"/>
                  <a:pt x="5190" y="9498"/>
                  <a:pt x="5184" y="9599"/>
                </a:cubicBezTo>
                <a:cubicBezTo>
                  <a:pt x="5181" y="9654"/>
                  <a:pt x="5165" y="9653"/>
                  <a:pt x="5184" y="9699"/>
                </a:cubicBezTo>
                <a:cubicBezTo>
                  <a:pt x="5214" y="9638"/>
                  <a:pt x="5211" y="9567"/>
                  <a:pt x="5234" y="9500"/>
                </a:cubicBezTo>
                <a:cubicBezTo>
                  <a:pt x="5257" y="9431"/>
                  <a:pt x="5304" y="9367"/>
                  <a:pt x="5333" y="9302"/>
                </a:cubicBezTo>
                <a:cubicBezTo>
                  <a:pt x="5347" y="9270"/>
                  <a:pt x="5399" y="9165"/>
                  <a:pt x="5432" y="9153"/>
                </a:cubicBezTo>
                <a:cubicBezTo>
                  <a:pt x="5545" y="9113"/>
                  <a:pt x="5579" y="9225"/>
                  <a:pt x="5606" y="9302"/>
                </a:cubicBezTo>
                <a:cubicBezTo>
                  <a:pt x="5639" y="9397"/>
                  <a:pt x="5669" y="9500"/>
                  <a:pt x="5680" y="9599"/>
                </a:cubicBezTo>
                <a:cubicBezTo>
                  <a:pt x="5690" y="9688"/>
                  <a:pt x="5680" y="9765"/>
                  <a:pt x="5705" y="9847"/>
                </a:cubicBezTo>
                <a:cubicBezTo>
                  <a:pt x="5730" y="9897"/>
                  <a:pt x="5738" y="9914"/>
                  <a:pt x="5755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8"/>
          <p:cNvSpPr/>
          <p:nvPr/>
        </p:nvSpPr>
        <p:spPr>
          <a:xfrm>
            <a:off x="2286000" y="3133800"/>
            <a:ext cx="2313000" cy="430200"/>
          </a:xfrm>
          <a:custGeom>
            <a:avLst/>
            <a:gdLst/>
            <a:ahLst/>
            <a:rect l="l" t="t" r="r" b="b"/>
            <a:pathLst>
              <a:path w="6425" h="1192">
                <a:moveTo>
                  <a:pt x="6375" y="8855"/>
                </a:moveTo>
                <a:cubicBezTo>
                  <a:pt x="6380" y="8819"/>
                  <a:pt x="6401" y="8719"/>
                  <a:pt x="6449" y="8706"/>
                </a:cubicBezTo>
                <a:cubicBezTo>
                  <a:pt x="6527" y="8685"/>
                  <a:pt x="6684" y="8729"/>
                  <a:pt x="6722" y="8781"/>
                </a:cubicBezTo>
                <a:cubicBezTo>
                  <a:pt x="6752" y="8823"/>
                  <a:pt x="6762" y="8957"/>
                  <a:pt x="6747" y="9004"/>
                </a:cubicBezTo>
                <a:cubicBezTo>
                  <a:pt x="6726" y="9071"/>
                  <a:pt x="6666" y="9167"/>
                  <a:pt x="6623" y="9227"/>
                </a:cubicBezTo>
                <a:cubicBezTo>
                  <a:pt x="6560" y="9316"/>
                  <a:pt x="6500" y="9398"/>
                  <a:pt x="6424" y="9475"/>
                </a:cubicBezTo>
                <a:cubicBezTo>
                  <a:pt x="6399" y="9500"/>
                  <a:pt x="6375" y="9525"/>
                  <a:pt x="6350" y="9550"/>
                </a:cubicBezTo>
                <a:cubicBezTo>
                  <a:pt x="6408" y="9618"/>
                  <a:pt x="6451" y="9599"/>
                  <a:pt x="6548" y="9599"/>
                </a:cubicBezTo>
                <a:cubicBezTo>
                  <a:pt x="6672" y="9599"/>
                  <a:pt x="6797" y="9599"/>
                  <a:pt x="6921" y="9599"/>
                </a:cubicBezTo>
              </a:path>
              <a:path w="6425" h="1192">
                <a:moveTo>
                  <a:pt x="7169" y="8855"/>
                </a:moveTo>
                <a:cubicBezTo>
                  <a:pt x="7075" y="8968"/>
                  <a:pt x="7076" y="9016"/>
                  <a:pt x="7045" y="9153"/>
                </a:cubicBezTo>
                <a:cubicBezTo>
                  <a:pt x="7022" y="9254"/>
                  <a:pt x="6998" y="9350"/>
                  <a:pt x="7045" y="9451"/>
                </a:cubicBezTo>
                <a:cubicBezTo>
                  <a:pt x="7070" y="9505"/>
                  <a:pt x="7122" y="9586"/>
                  <a:pt x="7169" y="9624"/>
                </a:cubicBezTo>
                <a:cubicBezTo>
                  <a:pt x="7220" y="9665"/>
                  <a:pt x="7347" y="9708"/>
                  <a:pt x="7417" y="9674"/>
                </a:cubicBezTo>
                <a:cubicBezTo>
                  <a:pt x="7516" y="9626"/>
                  <a:pt x="7614" y="9506"/>
                  <a:pt x="7640" y="9401"/>
                </a:cubicBezTo>
                <a:cubicBezTo>
                  <a:pt x="7656" y="9336"/>
                  <a:pt x="7658" y="9159"/>
                  <a:pt x="7615" y="9103"/>
                </a:cubicBezTo>
                <a:cubicBezTo>
                  <a:pt x="7571" y="9046"/>
                  <a:pt x="7496" y="8979"/>
                  <a:pt x="7441" y="8930"/>
                </a:cubicBezTo>
                <a:cubicBezTo>
                  <a:pt x="7376" y="8873"/>
                  <a:pt x="7376" y="8880"/>
                  <a:pt x="7293" y="8880"/>
                </a:cubicBezTo>
              </a:path>
              <a:path w="6425" h="1192">
                <a:moveTo>
                  <a:pt x="7888" y="9525"/>
                </a:moveTo>
                <a:cubicBezTo>
                  <a:pt x="7929" y="9505"/>
                  <a:pt x="7945" y="9507"/>
                  <a:pt x="7938" y="9475"/>
                </a:cubicBezTo>
              </a:path>
              <a:path w="6425" h="1192">
                <a:moveTo>
                  <a:pt x="8235" y="8855"/>
                </a:moveTo>
                <a:cubicBezTo>
                  <a:pt x="8226" y="8940"/>
                  <a:pt x="8175" y="8994"/>
                  <a:pt x="8161" y="9079"/>
                </a:cubicBezTo>
                <a:cubicBezTo>
                  <a:pt x="8143" y="9186"/>
                  <a:pt x="8129" y="9270"/>
                  <a:pt x="8161" y="9376"/>
                </a:cubicBezTo>
                <a:cubicBezTo>
                  <a:pt x="8188" y="9466"/>
                  <a:pt x="8220" y="9493"/>
                  <a:pt x="8285" y="9550"/>
                </a:cubicBezTo>
                <a:cubicBezTo>
                  <a:pt x="8370" y="9624"/>
                  <a:pt x="8453" y="9622"/>
                  <a:pt x="8533" y="9550"/>
                </a:cubicBezTo>
                <a:cubicBezTo>
                  <a:pt x="8611" y="9480"/>
                  <a:pt x="8633" y="9416"/>
                  <a:pt x="8657" y="9327"/>
                </a:cubicBezTo>
                <a:cubicBezTo>
                  <a:pt x="8686" y="9219"/>
                  <a:pt x="8650" y="9185"/>
                  <a:pt x="8607" y="9079"/>
                </a:cubicBezTo>
                <a:cubicBezTo>
                  <a:pt x="8571" y="8991"/>
                  <a:pt x="8509" y="8944"/>
                  <a:pt x="8409" y="8930"/>
                </a:cubicBezTo>
                <a:cubicBezTo>
                  <a:pt x="8351" y="8930"/>
                  <a:pt x="8326" y="8930"/>
                  <a:pt x="8285" y="8930"/>
                </a:cubicBezTo>
              </a:path>
              <a:path w="6425" h="1192">
                <a:moveTo>
                  <a:pt x="9079" y="8880"/>
                </a:moveTo>
                <a:cubicBezTo>
                  <a:pt x="8982" y="8854"/>
                  <a:pt x="8961" y="8864"/>
                  <a:pt x="8880" y="8880"/>
                </a:cubicBezTo>
                <a:cubicBezTo>
                  <a:pt x="8863" y="8880"/>
                  <a:pt x="8847" y="8880"/>
                  <a:pt x="8830" y="8880"/>
                </a:cubicBezTo>
                <a:cubicBezTo>
                  <a:pt x="8841" y="9000"/>
                  <a:pt x="8895" y="9048"/>
                  <a:pt x="8954" y="9153"/>
                </a:cubicBezTo>
                <a:cubicBezTo>
                  <a:pt x="9022" y="9273"/>
                  <a:pt x="9123" y="9415"/>
                  <a:pt x="9153" y="9550"/>
                </a:cubicBezTo>
                <a:cubicBezTo>
                  <a:pt x="9153" y="9566"/>
                  <a:pt x="9153" y="9583"/>
                  <a:pt x="9153" y="9599"/>
                </a:cubicBezTo>
                <a:cubicBezTo>
                  <a:pt x="9103" y="9629"/>
                  <a:pt x="9054" y="9642"/>
                  <a:pt x="9004" y="9599"/>
                </a:cubicBezTo>
                <a:cubicBezTo>
                  <a:pt x="8951" y="9554"/>
                  <a:pt x="8894" y="9475"/>
                  <a:pt x="8905" y="9401"/>
                </a:cubicBezTo>
                <a:cubicBezTo>
                  <a:pt x="8920" y="9294"/>
                  <a:pt x="8976" y="9221"/>
                  <a:pt x="9054" y="9153"/>
                </a:cubicBezTo>
                <a:cubicBezTo>
                  <a:pt x="9151" y="9068"/>
                  <a:pt x="9199" y="9062"/>
                  <a:pt x="9277" y="8954"/>
                </a:cubicBezTo>
                <a:cubicBezTo>
                  <a:pt x="9285" y="8946"/>
                  <a:pt x="9294" y="8938"/>
                  <a:pt x="9302" y="8930"/>
                </a:cubicBezTo>
              </a:path>
              <a:path w="6425" h="1192">
                <a:moveTo>
                  <a:pt x="9674" y="8855"/>
                </a:moveTo>
                <a:cubicBezTo>
                  <a:pt x="9817" y="8867"/>
                  <a:pt x="9918" y="8917"/>
                  <a:pt x="10021" y="8855"/>
                </a:cubicBezTo>
              </a:path>
              <a:path w="6425" h="1192">
                <a:moveTo>
                  <a:pt x="9550" y="8930"/>
                </a:moveTo>
                <a:cubicBezTo>
                  <a:pt x="9506" y="9033"/>
                  <a:pt x="9468" y="9081"/>
                  <a:pt x="9550" y="9153"/>
                </a:cubicBezTo>
                <a:cubicBezTo>
                  <a:pt x="9640" y="9233"/>
                  <a:pt x="9645" y="9227"/>
                  <a:pt x="9773" y="9227"/>
                </a:cubicBezTo>
                <a:cubicBezTo>
                  <a:pt x="9870" y="9227"/>
                  <a:pt x="9898" y="9234"/>
                  <a:pt x="9971" y="9302"/>
                </a:cubicBezTo>
                <a:cubicBezTo>
                  <a:pt x="10018" y="9346"/>
                  <a:pt x="10042" y="9412"/>
                  <a:pt x="10046" y="9475"/>
                </a:cubicBezTo>
                <a:cubicBezTo>
                  <a:pt x="10050" y="9541"/>
                  <a:pt x="10018" y="9645"/>
                  <a:pt x="9947" y="9674"/>
                </a:cubicBezTo>
                <a:cubicBezTo>
                  <a:pt x="9853" y="9713"/>
                  <a:pt x="9718" y="9664"/>
                  <a:pt x="9649" y="9624"/>
                </a:cubicBezTo>
                <a:cubicBezTo>
                  <a:pt x="9575" y="9581"/>
                  <a:pt x="9588" y="9628"/>
                  <a:pt x="9575" y="9550"/>
                </a:cubicBezTo>
              </a:path>
              <a:path w="6425" h="1192">
                <a:moveTo>
                  <a:pt x="10468" y="8855"/>
                </a:moveTo>
                <a:cubicBezTo>
                  <a:pt x="10658" y="8872"/>
                  <a:pt x="10666" y="8881"/>
                  <a:pt x="10765" y="8880"/>
                </a:cubicBezTo>
              </a:path>
              <a:path w="6425" h="1192">
                <a:moveTo>
                  <a:pt x="10319" y="9004"/>
                </a:moveTo>
                <a:cubicBezTo>
                  <a:pt x="10299" y="9231"/>
                  <a:pt x="10284" y="9174"/>
                  <a:pt x="10418" y="9302"/>
                </a:cubicBezTo>
                <a:cubicBezTo>
                  <a:pt x="10499" y="9379"/>
                  <a:pt x="10627" y="9405"/>
                  <a:pt x="10691" y="9500"/>
                </a:cubicBezTo>
                <a:cubicBezTo>
                  <a:pt x="10725" y="9550"/>
                  <a:pt x="10816" y="9683"/>
                  <a:pt x="10740" y="9748"/>
                </a:cubicBezTo>
                <a:cubicBezTo>
                  <a:pt x="10654" y="9821"/>
                  <a:pt x="10488" y="9705"/>
                  <a:pt x="10443" y="9674"/>
                </a:cubicBezTo>
                <a:cubicBezTo>
                  <a:pt x="10400" y="9674"/>
                  <a:pt x="10386" y="9657"/>
                  <a:pt x="10393" y="9599"/>
                </a:cubicBezTo>
              </a:path>
              <a:path w="6425" h="1192">
                <a:moveTo>
                  <a:pt x="11038" y="8930"/>
                </a:moveTo>
                <a:cubicBezTo>
                  <a:pt x="11152" y="8884"/>
                  <a:pt x="11226" y="8909"/>
                  <a:pt x="11336" y="8880"/>
                </a:cubicBezTo>
                <a:cubicBezTo>
                  <a:pt x="11384" y="8856"/>
                  <a:pt x="11398" y="8847"/>
                  <a:pt x="11435" y="8855"/>
                </a:cubicBezTo>
              </a:path>
              <a:path w="6425" h="1192">
                <a:moveTo>
                  <a:pt x="11013" y="9004"/>
                </a:moveTo>
                <a:cubicBezTo>
                  <a:pt x="10992" y="9138"/>
                  <a:pt x="10997" y="9177"/>
                  <a:pt x="11112" y="9252"/>
                </a:cubicBezTo>
                <a:cubicBezTo>
                  <a:pt x="11187" y="9301"/>
                  <a:pt x="11339" y="9378"/>
                  <a:pt x="11385" y="9451"/>
                </a:cubicBezTo>
                <a:cubicBezTo>
                  <a:pt x="11428" y="9519"/>
                  <a:pt x="11452" y="9616"/>
                  <a:pt x="11385" y="9674"/>
                </a:cubicBezTo>
                <a:cubicBezTo>
                  <a:pt x="11308" y="9741"/>
                  <a:pt x="11263" y="9748"/>
                  <a:pt x="11162" y="9748"/>
                </a:cubicBezTo>
                <a:cubicBezTo>
                  <a:pt x="11069" y="9748"/>
                  <a:pt x="10990" y="9673"/>
                  <a:pt x="10939" y="9599"/>
                </a:cubicBezTo>
                <a:cubicBezTo>
                  <a:pt x="10914" y="9550"/>
                  <a:pt x="10905" y="9533"/>
                  <a:pt x="10889" y="9500"/>
                </a:cubicBezTo>
              </a:path>
              <a:path w="6425" h="1192">
                <a:moveTo>
                  <a:pt x="11633" y="9153"/>
                </a:moveTo>
                <a:cubicBezTo>
                  <a:pt x="11724" y="9161"/>
                  <a:pt x="11815" y="9170"/>
                  <a:pt x="11906" y="9178"/>
                </a:cubicBezTo>
              </a:path>
              <a:path w="6425" h="1192">
                <a:moveTo>
                  <a:pt x="11683" y="9401"/>
                </a:moveTo>
                <a:cubicBezTo>
                  <a:pt x="11816" y="9439"/>
                  <a:pt x="11806" y="9423"/>
                  <a:pt x="11931" y="9376"/>
                </a:cubicBezTo>
              </a:path>
              <a:path w="6425" h="1192">
                <a:moveTo>
                  <a:pt x="12303" y="8880"/>
                </a:moveTo>
                <a:cubicBezTo>
                  <a:pt x="12464" y="8800"/>
                  <a:pt x="12490" y="8804"/>
                  <a:pt x="12650" y="8855"/>
                </a:cubicBezTo>
                <a:cubicBezTo>
                  <a:pt x="12750" y="8887"/>
                  <a:pt x="12765" y="8948"/>
                  <a:pt x="12725" y="9029"/>
                </a:cubicBezTo>
                <a:cubicBezTo>
                  <a:pt x="12667" y="9145"/>
                  <a:pt x="12629" y="9130"/>
                  <a:pt x="12526" y="9153"/>
                </a:cubicBezTo>
                <a:cubicBezTo>
                  <a:pt x="12501" y="9161"/>
                  <a:pt x="12477" y="9170"/>
                  <a:pt x="12452" y="9178"/>
                </a:cubicBezTo>
                <a:cubicBezTo>
                  <a:pt x="12507" y="9243"/>
                  <a:pt x="12581" y="9229"/>
                  <a:pt x="12650" y="9302"/>
                </a:cubicBezTo>
                <a:cubicBezTo>
                  <a:pt x="12752" y="9408"/>
                  <a:pt x="12759" y="9493"/>
                  <a:pt x="12750" y="9624"/>
                </a:cubicBezTo>
                <a:cubicBezTo>
                  <a:pt x="12744" y="9718"/>
                  <a:pt x="12704" y="9795"/>
                  <a:pt x="12626" y="9823"/>
                </a:cubicBezTo>
                <a:cubicBezTo>
                  <a:pt x="12449" y="9886"/>
                  <a:pt x="12491" y="9904"/>
                  <a:pt x="12278" y="9847"/>
                </a:cubicBezTo>
                <a:cubicBezTo>
                  <a:pt x="12176" y="9822"/>
                  <a:pt x="12140" y="9813"/>
                  <a:pt x="1208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9"/>
          <p:cNvSpPr/>
          <p:nvPr/>
        </p:nvSpPr>
        <p:spPr>
          <a:xfrm>
            <a:off x="588960" y="3902040"/>
            <a:ext cx="590400" cy="598680"/>
          </a:xfrm>
          <a:custGeom>
            <a:avLst/>
            <a:gdLst/>
            <a:ahLst/>
            <a:rect l="l" t="t" r="r" b="b"/>
            <a:pathLst>
              <a:path w="1638" h="1663">
                <a:moveTo>
                  <a:pt x="1637" y="11112"/>
                </a:moveTo>
                <a:cubicBezTo>
                  <a:pt x="1738" y="11096"/>
                  <a:pt x="1886" y="11054"/>
                  <a:pt x="1984" y="11112"/>
                </a:cubicBezTo>
                <a:cubicBezTo>
                  <a:pt x="2082" y="11170"/>
                  <a:pt x="2084" y="11236"/>
                  <a:pt x="2084" y="11336"/>
                </a:cubicBezTo>
                <a:cubicBezTo>
                  <a:pt x="2084" y="11459"/>
                  <a:pt x="1993" y="11552"/>
                  <a:pt x="1935" y="11658"/>
                </a:cubicBezTo>
                <a:cubicBezTo>
                  <a:pt x="1876" y="11766"/>
                  <a:pt x="1804" y="11866"/>
                  <a:pt x="1761" y="11981"/>
                </a:cubicBezTo>
                <a:cubicBezTo>
                  <a:pt x="1724" y="12080"/>
                  <a:pt x="1720" y="12127"/>
                  <a:pt x="1786" y="12204"/>
                </a:cubicBezTo>
                <a:cubicBezTo>
                  <a:pt x="1837" y="12264"/>
                  <a:pt x="1934" y="12289"/>
                  <a:pt x="2009" y="12278"/>
                </a:cubicBezTo>
                <a:cubicBezTo>
                  <a:pt x="2111" y="12263"/>
                  <a:pt x="2186" y="12240"/>
                  <a:pt x="2282" y="12204"/>
                </a:cubicBezTo>
              </a:path>
              <a:path w="1638" h="1663">
                <a:moveTo>
                  <a:pt x="2580" y="11336"/>
                </a:moveTo>
                <a:cubicBezTo>
                  <a:pt x="2477" y="11402"/>
                  <a:pt x="2375" y="11466"/>
                  <a:pt x="2332" y="11584"/>
                </a:cubicBezTo>
                <a:cubicBezTo>
                  <a:pt x="2318" y="11622"/>
                  <a:pt x="2328" y="11722"/>
                  <a:pt x="2381" y="11733"/>
                </a:cubicBezTo>
                <a:cubicBezTo>
                  <a:pt x="2442" y="11746"/>
                  <a:pt x="2537" y="11734"/>
                  <a:pt x="2580" y="11683"/>
                </a:cubicBezTo>
                <a:cubicBezTo>
                  <a:pt x="2629" y="11625"/>
                  <a:pt x="2650" y="11566"/>
                  <a:pt x="2679" y="11509"/>
                </a:cubicBezTo>
                <a:cubicBezTo>
                  <a:pt x="2687" y="11501"/>
                  <a:pt x="2696" y="11493"/>
                  <a:pt x="2704" y="11485"/>
                </a:cubicBezTo>
                <a:cubicBezTo>
                  <a:pt x="2738" y="11574"/>
                  <a:pt x="2729" y="11660"/>
                  <a:pt x="2729" y="11757"/>
                </a:cubicBezTo>
                <a:cubicBezTo>
                  <a:pt x="2729" y="11878"/>
                  <a:pt x="2763" y="11988"/>
                  <a:pt x="2778" y="12105"/>
                </a:cubicBezTo>
                <a:cubicBezTo>
                  <a:pt x="2790" y="12199"/>
                  <a:pt x="2787" y="12294"/>
                  <a:pt x="2853" y="12179"/>
                </a:cubicBezTo>
              </a:path>
              <a:path w="1638" h="1663">
                <a:moveTo>
                  <a:pt x="2753" y="10840"/>
                </a:moveTo>
                <a:cubicBezTo>
                  <a:pt x="2831" y="10862"/>
                  <a:pt x="2903" y="10956"/>
                  <a:pt x="2952" y="11038"/>
                </a:cubicBezTo>
                <a:cubicBezTo>
                  <a:pt x="3115" y="11314"/>
                  <a:pt x="3261" y="11611"/>
                  <a:pt x="3274" y="11931"/>
                </a:cubicBezTo>
                <a:cubicBezTo>
                  <a:pt x="3280" y="12078"/>
                  <a:pt x="3258" y="12252"/>
                  <a:pt x="3175" y="12378"/>
                </a:cubicBezTo>
                <a:cubicBezTo>
                  <a:pt x="3120" y="12462"/>
                  <a:pt x="3048" y="12519"/>
                  <a:pt x="2952" y="12477"/>
                </a:cubicBezTo>
                <a:cubicBezTo>
                  <a:pt x="2944" y="12469"/>
                  <a:pt x="2935" y="12460"/>
                  <a:pt x="2927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20"/>
          <p:cNvSpPr/>
          <p:nvPr/>
        </p:nvSpPr>
        <p:spPr>
          <a:xfrm>
            <a:off x="1455840" y="3884760"/>
            <a:ext cx="1687320" cy="1000080"/>
          </a:xfrm>
          <a:custGeom>
            <a:avLst/>
            <a:gdLst/>
            <a:ahLst/>
            <a:rect l="l" t="t" r="r" b="b"/>
            <a:pathLst>
              <a:path w="4689" h="2779">
                <a:moveTo>
                  <a:pt x="4068" y="10988"/>
                </a:moveTo>
                <a:cubicBezTo>
                  <a:pt x="4068" y="11165"/>
                  <a:pt x="4053" y="11334"/>
                  <a:pt x="4043" y="11509"/>
                </a:cubicBezTo>
                <a:cubicBezTo>
                  <a:pt x="4026" y="11805"/>
                  <a:pt x="4043" y="12106"/>
                  <a:pt x="4043" y="12402"/>
                </a:cubicBezTo>
              </a:path>
              <a:path w="4689" h="2779">
                <a:moveTo>
                  <a:pt x="4242" y="11757"/>
                </a:moveTo>
                <a:cubicBezTo>
                  <a:pt x="4227" y="11863"/>
                  <a:pt x="4181" y="12025"/>
                  <a:pt x="4242" y="12129"/>
                </a:cubicBezTo>
                <a:cubicBezTo>
                  <a:pt x="4331" y="12281"/>
                  <a:pt x="4476" y="12290"/>
                  <a:pt x="4638" y="12278"/>
                </a:cubicBezTo>
                <a:cubicBezTo>
                  <a:pt x="4732" y="12271"/>
                  <a:pt x="4831" y="12132"/>
                  <a:pt x="4862" y="12055"/>
                </a:cubicBezTo>
                <a:cubicBezTo>
                  <a:pt x="4907" y="11945"/>
                  <a:pt x="4893" y="11817"/>
                  <a:pt x="4862" y="11708"/>
                </a:cubicBezTo>
                <a:cubicBezTo>
                  <a:pt x="4830" y="11595"/>
                  <a:pt x="4772" y="11530"/>
                  <a:pt x="4663" y="11485"/>
                </a:cubicBezTo>
                <a:cubicBezTo>
                  <a:pt x="4578" y="11450"/>
                  <a:pt x="4492" y="11452"/>
                  <a:pt x="4415" y="11509"/>
                </a:cubicBezTo>
                <a:cubicBezTo>
                  <a:pt x="4332" y="11570"/>
                  <a:pt x="4319" y="11688"/>
                  <a:pt x="4316" y="11782"/>
                </a:cubicBezTo>
                <a:cubicBezTo>
                  <a:pt x="4310" y="11932"/>
                  <a:pt x="4428" y="12043"/>
                  <a:pt x="4514" y="12154"/>
                </a:cubicBezTo>
              </a:path>
              <a:path w="4689" h="2779">
                <a:moveTo>
                  <a:pt x="5432" y="11857"/>
                </a:moveTo>
                <a:cubicBezTo>
                  <a:pt x="5462" y="11774"/>
                  <a:pt x="5519" y="11685"/>
                  <a:pt x="5457" y="11609"/>
                </a:cubicBezTo>
                <a:cubicBezTo>
                  <a:pt x="5380" y="11515"/>
                  <a:pt x="5246" y="11614"/>
                  <a:pt x="5184" y="11658"/>
                </a:cubicBezTo>
                <a:cubicBezTo>
                  <a:pt x="5069" y="11740"/>
                  <a:pt x="5044" y="11777"/>
                  <a:pt x="5011" y="11906"/>
                </a:cubicBezTo>
                <a:cubicBezTo>
                  <a:pt x="4987" y="11997"/>
                  <a:pt x="4999" y="12096"/>
                  <a:pt x="5060" y="12179"/>
                </a:cubicBezTo>
                <a:cubicBezTo>
                  <a:pt x="5113" y="12251"/>
                  <a:pt x="5172" y="12298"/>
                  <a:pt x="5259" y="12303"/>
                </a:cubicBezTo>
                <a:cubicBezTo>
                  <a:pt x="5358" y="12309"/>
                  <a:pt x="5432" y="12204"/>
                  <a:pt x="5482" y="12129"/>
                </a:cubicBezTo>
                <a:cubicBezTo>
                  <a:pt x="5519" y="12074"/>
                  <a:pt x="5527" y="11972"/>
                  <a:pt x="5531" y="11906"/>
                </a:cubicBezTo>
                <a:cubicBezTo>
                  <a:pt x="5531" y="11857"/>
                  <a:pt x="5531" y="11840"/>
                  <a:pt x="5531" y="11807"/>
                </a:cubicBezTo>
                <a:cubicBezTo>
                  <a:pt x="5496" y="11872"/>
                  <a:pt x="5465" y="11926"/>
                  <a:pt x="5457" y="12005"/>
                </a:cubicBezTo>
                <a:cubicBezTo>
                  <a:pt x="5433" y="12252"/>
                  <a:pt x="5467" y="12506"/>
                  <a:pt x="5482" y="12750"/>
                </a:cubicBezTo>
                <a:cubicBezTo>
                  <a:pt x="5493" y="12929"/>
                  <a:pt x="5471" y="13097"/>
                  <a:pt x="5432" y="13271"/>
                </a:cubicBezTo>
                <a:cubicBezTo>
                  <a:pt x="5404" y="13394"/>
                  <a:pt x="5383" y="13487"/>
                  <a:pt x="5259" y="13543"/>
                </a:cubicBezTo>
                <a:cubicBezTo>
                  <a:pt x="5150" y="13593"/>
                  <a:pt x="5067" y="13554"/>
                  <a:pt x="4961" y="13519"/>
                </a:cubicBezTo>
                <a:cubicBezTo>
                  <a:pt x="4847" y="13481"/>
                  <a:pt x="4810" y="13422"/>
                  <a:pt x="4762" y="13320"/>
                </a:cubicBezTo>
                <a:cubicBezTo>
                  <a:pt x="4735" y="13265"/>
                  <a:pt x="4727" y="13242"/>
                  <a:pt x="4738" y="13196"/>
                </a:cubicBezTo>
              </a:path>
              <a:path w="4689" h="2779">
                <a:moveTo>
                  <a:pt x="5829" y="12278"/>
                </a:moveTo>
                <a:cubicBezTo>
                  <a:pt x="5814" y="12354"/>
                  <a:pt x="5760" y="12491"/>
                  <a:pt x="5779" y="12576"/>
                </a:cubicBezTo>
                <a:cubicBezTo>
                  <a:pt x="5794" y="12643"/>
                  <a:pt x="5845" y="12728"/>
                  <a:pt x="5928" y="12725"/>
                </a:cubicBezTo>
                <a:cubicBezTo>
                  <a:pt x="5999" y="12722"/>
                  <a:pt x="6107" y="12630"/>
                  <a:pt x="6102" y="12551"/>
                </a:cubicBezTo>
                <a:cubicBezTo>
                  <a:pt x="6094" y="12543"/>
                  <a:pt x="6085" y="12534"/>
                  <a:pt x="6077" y="12526"/>
                </a:cubicBezTo>
                <a:cubicBezTo>
                  <a:pt x="6023" y="12508"/>
                  <a:pt x="5931" y="12520"/>
                  <a:pt x="5904" y="12601"/>
                </a:cubicBezTo>
                <a:cubicBezTo>
                  <a:pt x="5887" y="12652"/>
                  <a:pt x="5912" y="12705"/>
                  <a:pt x="5928" y="12750"/>
                </a:cubicBezTo>
              </a:path>
              <a:path w="4689" h="2779">
                <a:moveTo>
                  <a:pt x="6548" y="11162"/>
                </a:moveTo>
                <a:cubicBezTo>
                  <a:pt x="6473" y="11253"/>
                  <a:pt x="6412" y="11343"/>
                  <a:pt x="6375" y="11460"/>
                </a:cubicBezTo>
                <a:cubicBezTo>
                  <a:pt x="6325" y="11619"/>
                  <a:pt x="6300" y="11766"/>
                  <a:pt x="6300" y="11931"/>
                </a:cubicBezTo>
                <a:cubicBezTo>
                  <a:pt x="6300" y="12046"/>
                  <a:pt x="6335" y="12159"/>
                  <a:pt x="6400" y="12254"/>
                </a:cubicBezTo>
                <a:cubicBezTo>
                  <a:pt x="6435" y="12306"/>
                  <a:pt x="6533" y="12368"/>
                  <a:pt x="6598" y="12353"/>
                </a:cubicBezTo>
                <a:cubicBezTo>
                  <a:pt x="6679" y="12335"/>
                  <a:pt x="6732" y="12271"/>
                  <a:pt x="6772" y="12204"/>
                </a:cubicBezTo>
                <a:cubicBezTo>
                  <a:pt x="6801" y="12155"/>
                  <a:pt x="6835" y="12013"/>
                  <a:pt x="6821" y="11956"/>
                </a:cubicBezTo>
                <a:cubicBezTo>
                  <a:pt x="6805" y="11893"/>
                  <a:pt x="6793" y="11861"/>
                  <a:pt x="6722" y="11857"/>
                </a:cubicBezTo>
                <a:cubicBezTo>
                  <a:pt x="6625" y="11851"/>
                  <a:pt x="6612" y="11905"/>
                  <a:pt x="6573" y="11981"/>
                </a:cubicBezTo>
                <a:cubicBezTo>
                  <a:pt x="6540" y="12047"/>
                  <a:pt x="6544" y="12137"/>
                  <a:pt x="6573" y="12204"/>
                </a:cubicBezTo>
                <a:cubicBezTo>
                  <a:pt x="6598" y="12229"/>
                  <a:pt x="6606" y="12237"/>
                  <a:pt x="6623" y="12254"/>
                </a:cubicBezTo>
              </a:path>
              <a:path w="4689" h="2779">
                <a:moveTo>
                  <a:pt x="6970" y="10815"/>
                </a:moveTo>
                <a:cubicBezTo>
                  <a:pt x="7069" y="10800"/>
                  <a:pt x="7112" y="10777"/>
                  <a:pt x="7119" y="10889"/>
                </a:cubicBezTo>
                <a:cubicBezTo>
                  <a:pt x="7124" y="10974"/>
                  <a:pt x="7063" y="10984"/>
                  <a:pt x="7020" y="11038"/>
                </a:cubicBezTo>
                <a:cubicBezTo>
                  <a:pt x="6957" y="11118"/>
                  <a:pt x="7029" y="11177"/>
                  <a:pt x="7094" y="11212"/>
                </a:cubicBezTo>
                <a:cubicBezTo>
                  <a:pt x="7167" y="11251"/>
                  <a:pt x="7261" y="11254"/>
                  <a:pt x="7342" y="11261"/>
                </a:cubicBezTo>
              </a:path>
              <a:path w="4689" h="2779">
                <a:moveTo>
                  <a:pt x="7317" y="11857"/>
                </a:moveTo>
                <a:cubicBezTo>
                  <a:pt x="7405" y="11857"/>
                  <a:pt x="7480" y="11842"/>
                  <a:pt x="7565" y="11832"/>
                </a:cubicBezTo>
              </a:path>
              <a:path w="4689" h="2779">
                <a:moveTo>
                  <a:pt x="7392" y="12055"/>
                </a:moveTo>
                <a:cubicBezTo>
                  <a:pt x="7584" y="12073"/>
                  <a:pt x="7594" y="12062"/>
                  <a:pt x="7789" y="12005"/>
                </a:cubicBezTo>
              </a:path>
              <a:path w="4689" h="2779">
                <a:moveTo>
                  <a:pt x="8111" y="11509"/>
                </a:moveTo>
                <a:cubicBezTo>
                  <a:pt x="8142" y="11664"/>
                  <a:pt x="8163" y="11725"/>
                  <a:pt x="8260" y="11857"/>
                </a:cubicBezTo>
                <a:cubicBezTo>
                  <a:pt x="8382" y="12023"/>
                  <a:pt x="8494" y="12202"/>
                  <a:pt x="8657" y="12328"/>
                </a:cubicBezTo>
                <a:cubicBezTo>
                  <a:pt x="8682" y="12345"/>
                  <a:pt x="8706" y="12361"/>
                  <a:pt x="8731" y="12378"/>
                </a:cubicBezTo>
              </a:path>
              <a:path w="4689" h="2779">
                <a:moveTo>
                  <a:pt x="8582" y="11460"/>
                </a:moveTo>
                <a:cubicBezTo>
                  <a:pt x="8363" y="11697"/>
                  <a:pt x="8185" y="11875"/>
                  <a:pt x="8037" y="12154"/>
                </a:cubicBezTo>
                <a:cubicBezTo>
                  <a:pt x="7967" y="12293"/>
                  <a:pt x="7946" y="12332"/>
                  <a:pt x="7913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Ink 21"/>
          <p:cNvSpPr/>
          <p:nvPr/>
        </p:nvSpPr>
        <p:spPr>
          <a:xfrm>
            <a:off x="5776920" y="3919680"/>
            <a:ext cx="1474920" cy="947520"/>
          </a:xfrm>
          <a:custGeom>
            <a:avLst/>
            <a:gdLst/>
            <a:ahLst/>
            <a:rect l="l" t="t" r="r" b="b"/>
            <a:pathLst>
              <a:path w="4093" h="2631">
                <a:moveTo>
                  <a:pt x="16272" y="11088"/>
                </a:moveTo>
                <a:cubicBezTo>
                  <a:pt x="16249" y="11171"/>
                  <a:pt x="16245" y="11257"/>
                  <a:pt x="16222" y="11336"/>
                </a:cubicBezTo>
                <a:cubicBezTo>
                  <a:pt x="16183" y="11472"/>
                  <a:pt x="16152" y="11613"/>
                  <a:pt x="16148" y="11757"/>
                </a:cubicBezTo>
                <a:cubicBezTo>
                  <a:pt x="16144" y="11892"/>
                  <a:pt x="16123" y="12018"/>
                  <a:pt x="16123" y="12154"/>
                </a:cubicBezTo>
                <a:cubicBezTo>
                  <a:pt x="16123" y="12261"/>
                  <a:pt x="16118" y="12396"/>
                  <a:pt x="16098" y="12502"/>
                </a:cubicBezTo>
                <a:cubicBezTo>
                  <a:pt x="16084" y="12574"/>
                  <a:pt x="16083" y="12666"/>
                  <a:pt x="16049" y="12725"/>
                </a:cubicBezTo>
              </a:path>
              <a:path w="4093" h="2631">
                <a:moveTo>
                  <a:pt x="16495" y="11881"/>
                </a:moveTo>
                <a:cubicBezTo>
                  <a:pt x="16526" y="11985"/>
                  <a:pt x="16522" y="12050"/>
                  <a:pt x="16495" y="12154"/>
                </a:cubicBezTo>
                <a:cubicBezTo>
                  <a:pt x="16461" y="12287"/>
                  <a:pt x="16470" y="12414"/>
                  <a:pt x="16470" y="12551"/>
                </a:cubicBezTo>
                <a:cubicBezTo>
                  <a:pt x="16470" y="12597"/>
                  <a:pt x="16489" y="12707"/>
                  <a:pt x="16570" y="12700"/>
                </a:cubicBezTo>
                <a:cubicBezTo>
                  <a:pt x="16613" y="12696"/>
                  <a:pt x="16688" y="12637"/>
                  <a:pt x="16718" y="12601"/>
                </a:cubicBezTo>
                <a:cubicBezTo>
                  <a:pt x="16768" y="12542"/>
                  <a:pt x="16853" y="12428"/>
                  <a:pt x="16867" y="12353"/>
                </a:cubicBezTo>
                <a:cubicBezTo>
                  <a:pt x="16887" y="12248"/>
                  <a:pt x="16871" y="12105"/>
                  <a:pt x="16842" y="12005"/>
                </a:cubicBezTo>
                <a:cubicBezTo>
                  <a:pt x="16815" y="11914"/>
                  <a:pt x="16781" y="11851"/>
                  <a:pt x="16718" y="11782"/>
                </a:cubicBezTo>
                <a:cubicBezTo>
                  <a:pt x="16654" y="11711"/>
                  <a:pt x="16547" y="11724"/>
                  <a:pt x="16470" y="11757"/>
                </a:cubicBezTo>
                <a:cubicBezTo>
                  <a:pt x="16400" y="11787"/>
                  <a:pt x="16381" y="11813"/>
                  <a:pt x="16371" y="11881"/>
                </a:cubicBezTo>
              </a:path>
              <a:path w="4093" h="2631">
                <a:moveTo>
                  <a:pt x="17512" y="11832"/>
                </a:moveTo>
                <a:cubicBezTo>
                  <a:pt x="17501" y="11747"/>
                  <a:pt x="17474" y="11720"/>
                  <a:pt x="17413" y="11658"/>
                </a:cubicBezTo>
                <a:cubicBezTo>
                  <a:pt x="17365" y="11610"/>
                  <a:pt x="17260" y="11636"/>
                  <a:pt x="17214" y="11683"/>
                </a:cubicBezTo>
                <a:cubicBezTo>
                  <a:pt x="17148" y="11750"/>
                  <a:pt x="17079" y="11942"/>
                  <a:pt x="17066" y="12030"/>
                </a:cubicBezTo>
                <a:cubicBezTo>
                  <a:pt x="17054" y="12113"/>
                  <a:pt x="17066" y="12226"/>
                  <a:pt x="17090" y="12303"/>
                </a:cubicBezTo>
                <a:cubicBezTo>
                  <a:pt x="17110" y="12365"/>
                  <a:pt x="17148" y="12405"/>
                  <a:pt x="17190" y="12452"/>
                </a:cubicBezTo>
                <a:cubicBezTo>
                  <a:pt x="17298" y="12416"/>
                  <a:pt x="17341" y="12350"/>
                  <a:pt x="17363" y="12229"/>
                </a:cubicBezTo>
                <a:cubicBezTo>
                  <a:pt x="17376" y="12155"/>
                  <a:pt x="17401" y="12077"/>
                  <a:pt x="17413" y="12005"/>
                </a:cubicBezTo>
                <a:cubicBezTo>
                  <a:pt x="17422" y="11953"/>
                  <a:pt x="17431" y="11909"/>
                  <a:pt x="17438" y="11857"/>
                </a:cubicBezTo>
                <a:cubicBezTo>
                  <a:pt x="17465" y="11977"/>
                  <a:pt x="17442" y="12060"/>
                  <a:pt x="17438" y="12179"/>
                </a:cubicBezTo>
                <a:cubicBezTo>
                  <a:pt x="17434" y="12313"/>
                  <a:pt x="17432" y="12444"/>
                  <a:pt x="17413" y="12576"/>
                </a:cubicBezTo>
                <a:cubicBezTo>
                  <a:pt x="17390" y="12729"/>
                  <a:pt x="17375" y="12871"/>
                  <a:pt x="17338" y="13022"/>
                </a:cubicBezTo>
                <a:cubicBezTo>
                  <a:pt x="17308" y="13143"/>
                  <a:pt x="17286" y="13272"/>
                  <a:pt x="17264" y="13395"/>
                </a:cubicBezTo>
                <a:cubicBezTo>
                  <a:pt x="17256" y="13438"/>
                  <a:pt x="17250" y="13477"/>
                  <a:pt x="17239" y="13519"/>
                </a:cubicBezTo>
              </a:path>
              <a:path w="4093" h="2631">
                <a:moveTo>
                  <a:pt x="17587" y="12526"/>
                </a:moveTo>
                <a:cubicBezTo>
                  <a:pt x="17627" y="12494"/>
                  <a:pt x="17680" y="12439"/>
                  <a:pt x="17735" y="12452"/>
                </a:cubicBezTo>
                <a:cubicBezTo>
                  <a:pt x="17846" y="12478"/>
                  <a:pt x="17764" y="12612"/>
                  <a:pt x="17735" y="12675"/>
                </a:cubicBezTo>
                <a:cubicBezTo>
                  <a:pt x="17706" y="12738"/>
                  <a:pt x="17648" y="12834"/>
                  <a:pt x="17711" y="12898"/>
                </a:cubicBezTo>
                <a:cubicBezTo>
                  <a:pt x="17761" y="12948"/>
                  <a:pt x="17808" y="12917"/>
                  <a:pt x="17859" y="12898"/>
                </a:cubicBezTo>
              </a:path>
              <a:path w="4093" h="2631">
                <a:moveTo>
                  <a:pt x="18579" y="11162"/>
                </a:moveTo>
                <a:cubicBezTo>
                  <a:pt x="18556" y="11095"/>
                  <a:pt x="18555" y="11074"/>
                  <a:pt x="18504" y="11063"/>
                </a:cubicBezTo>
                <a:cubicBezTo>
                  <a:pt x="18443" y="11112"/>
                  <a:pt x="18368" y="11136"/>
                  <a:pt x="18306" y="11187"/>
                </a:cubicBezTo>
                <a:cubicBezTo>
                  <a:pt x="18237" y="11243"/>
                  <a:pt x="18150" y="11287"/>
                  <a:pt x="18107" y="11361"/>
                </a:cubicBezTo>
                <a:cubicBezTo>
                  <a:pt x="18066" y="11432"/>
                  <a:pt x="18080" y="11458"/>
                  <a:pt x="18132" y="11509"/>
                </a:cubicBezTo>
                <a:cubicBezTo>
                  <a:pt x="18191" y="11567"/>
                  <a:pt x="18234" y="11633"/>
                  <a:pt x="18306" y="11683"/>
                </a:cubicBezTo>
                <a:cubicBezTo>
                  <a:pt x="18378" y="11732"/>
                  <a:pt x="18450" y="11792"/>
                  <a:pt x="18479" y="11881"/>
                </a:cubicBezTo>
                <a:cubicBezTo>
                  <a:pt x="18499" y="11941"/>
                  <a:pt x="18483" y="12053"/>
                  <a:pt x="18455" y="12105"/>
                </a:cubicBezTo>
                <a:cubicBezTo>
                  <a:pt x="18428" y="12155"/>
                  <a:pt x="18370" y="12265"/>
                  <a:pt x="18306" y="12278"/>
                </a:cubicBezTo>
                <a:cubicBezTo>
                  <a:pt x="18181" y="12302"/>
                  <a:pt x="18194" y="12237"/>
                  <a:pt x="18157" y="12154"/>
                </a:cubicBezTo>
                <a:cubicBezTo>
                  <a:pt x="18106" y="12041"/>
                  <a:pt x="18169" y="11922"/>
                  <a:pt x="18182" y="11807"/>
                </a:cubicBezTo>
                <a:cubicBezTo>
                  <a:pt x="18194" y="11701"/>
                  <a:pt x="18222" y="11612"/>
                  <a:pt x="18256" y="11509"/>
                </a:cubicBezTo>
                <a:cubicBezTo>
                  <a:pt x="18280" y="11439"/>
                  <a:pt x="18304" y="11366"/>
                  <a:pt x="18355" y="11311"/>
                </a:cubicBezTo>
                <a:cubicBezTo>
                  <a:pt x="18414" y="11252"/>
                  <a:pt x="18443" y="11229"/>
                  <a:pt x="18504" y="11212"/>
                </a:cubicBezTo>
              </a:path>
              <a:path w="4093" h="2631">
                <a:moveTo>
                  <a:pt x="18777" y="11633"/>
                </a:moveTo>
                <a:cubicBezTo>
                  <a:pt x="18868" y="11617"/>
                  <a:pt x="18935" y="11609"/>
                  <a:pt x="19025" y="11609"/>
                </a:cubicBezTo>
              </a:path>
              <a:path w="4093" h="2631">
                <a:moveTo>
                  <a:pt x="18876" y="11733"/>
                </a:moveTo>
                <a:cubicBezTo>
                  <a:pt x="18946" y="11758"/>
                  <a:pt x="18986" y="11770"/>
                  <a:pt x="19050" y="11733"/>
                </a:cubicBezTo>
              </a:path>
              <a:path w="4093" h="2631">
                <a:moveTo>
                  <a:pt x="19472" y="11063"/>
                </a:moveTo>
                <a:cubicBezTo>
                  <a:pt x="19577" y="10964"/>
                  <a:pt x="19628" y="10873"/>
                  <a:pt x="19769" y="10914"/>
                </a:cubicBezTo>
                <a:cubicBezTo>
                  <a:pt x="19896" y="10951"/>
                  <a:pt x="19879" y="10995"/>
                  <a:pt x="19844" y="11112"/>
                </a:cubicBezTo>
                <a:cubicBezTo>
                  <a:pt x="19813" y="11217"/>
                  <a:pt x="19730" y="11274"/>
                  <a:pt x="19670" y="11361"/>
                </a:cubicBezTo>
                <a:cubicBezTo>
                  <a:pt x="19633" y="11414"/>
                  <a:pt x="19600" y="11467"/>
                  <a:pt x="19621" y="11509"/>
                </a:cubicBezTo>
                <a:cubicBezTo>
                  <a:pt x="19690" y="11499"/>
                  <a:pt x="19743" y="11463"/>
                  <a:pt x="19819" y="11460"/>
                </a:cubicBezTo>
                <a:cubicBezTo>
                  <a:pt x="19913" y="11456"/>
                  <a:pt x="20013" y="11479"/>
                  <a:pt x="20092" y="11534"/>
                </a:cubicBezTo>
                <a:cubicBezTo>
                  <a:pt x="20159" y="11580"/>
                  <a:pt x="20145" y="11680"/>
                  <a:pt x="20092" y="11733"/>
                </a:cubicBezTo>
                <a:cubicBezTo>
                  <a:pt x="20006" y="11818"/>
                  <a:pt x="19895" y="11873"/>
                  <a:pt x="19794" y="11931"/>
                </a:cubicBezTo>
                <a:cubicBezTo>
                  <a:pt x="19687" y="11993"/>
                  <a:pt x="19584" y="12055"/>
                  <a:pt x="19472" y="12105"/>
                </a:cubicBezTo>
                <a:cubicBezTo>
                  <a:pt x="19395" y="12139"/>
                  <a:pt x="19350" y="12133"/>
                  <a:pt x="1927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22"/>
          <p:cNvSpPr/>
          <p:nvPr/>
        </p:nvSpPr>
        <p:spPr>
          <a:xfrm>
            <a:off x="6197760" y="4973760"/>
            <a:ext cx="258480" cy="750600"/>
          </a:xfrm>
          <a:custGeom>
            <a:avLst/>
            <a:gdLst/>
            <a:ahLst/>
            <a:rect l="l" t="t" r="r" b="b"/>
            <a:pathLst>
              <a:path w="721" h="2085">
                <a:moveTo>
                  <a:pt x="17438" y="13866"/>
                </a:moveTo>
                <a:cubicBezTo>
                  <a:pt x="17434" y="13940"/>
                  <a:pt x="17366" y="14179"/>
                  <a:pt x="17413" y="14089"/>
                </a:cubicBezTo>
                <a:cubicBezTo>
                  <a:pt x="17436" y="14046"/>
                  <a:pt x="17480" y="13978"/>
                  <a:pt x="17512" y="13940"/>
                </a:cubicBezTo>
                <a:cubicBezTo>
                  <a:pt x="17550" y="13895"/>
                  <a:pt x="17603" y="13834"/>
                  <a:pt x="17661" y="13816"/>
                </a:cubicBezTo>
                <a:cubicBezTo>
                  <a:pt x="17768" y="13782"/>
                  <a:pt x="17779" y="13834"/>
                  <a:pt x="17835" y="13891"/>
                </a:cubicBezTo>
                <a:cubicBezTo>
                  <a:pt x="17918" y="13975"/>
                  <a:pt x="17946" y="14167"/>
                  <a:pt x="17934" y="14288"/>
                </a:cubicBezTo>
                <a:cubicBezTo>
                  <a:pt x="17917" y="14462"/>
                  <a:pt x="17891" y="14635"/>
                  <a:pt x="17859" y="14808"/>
                </a:cubicBezTo>
                <a:cubicBezTo>
                  <a:pt x="17822" y="15005"/>
                  <a:pt x="17746" y="15156"/>
                  <a:pt x="17661" y="15329"/>
                </a:cubicBezTo>
                <a:cubicBezTo>
                  <a:pt x="17596" y="15461"/>
                  <a:pt x="17551" y="15600"/>
                  <a:pt x="17438" y="15701"/>
                </a:cubicBezTo>
                <a:cubicBezTo>
                  <a:pt x="17387" y="15747"/>
                  <a:pt x="17343" y="15765"/>
                  <a:pt x="17289" y="15726"/>
                </a:cubicBezTo>
                <a:cubicBezTo>
                  <a:pt x="17235" y="15687"/>
                  <a:pt x="17221" y="15585"/>
                  <a:pt x="17214" y="15528"/>
                </a:cubicBezTo>
                <a:cubicBezTo>
                  <a:pt x="17203" y="15437"/>
                  <a:pt x="17250" y="15363"/>
                  <a:pt x="17264" y="15280"/>
                </a:cubicBezTo>
                <a:cubicBezTo>
                  <a:pt x="17264" y="15223"/>
                  <a:pt x="17269" y="15202"/>
                  <a:pt x="17314" y="15180"/>
                </a:cubicBezTo>
                <a:cubicBezTo>
                  <a:pt x="17378" y="15193"/>
                  <a:pt x="17399" y="15179"/>
                  <a:pt x="17438" y="15280"/>
                </a:cubicBezTo>
                <a:cubicBezTo>
                  <a:pt x="17479" y="15386"/>
                  <a:pt x="17529" y="15494"/>
                  <a:pt x="17562" y="15602"/>
                </a:cubicBezTo>
                <a:cubicBezTo>
                  <a:pt x="17578" y="15653"/>
                  <a:pt x="17627" y="15854"/>
                  <a:pt x="17686" y="15875"/>
                </a:cubicBezTo>
                <a:cubicBezTo>
                  <a:pt x="17793" y="15913"/>
                  <a:pt x="17805" y="15792"/>
                  <a:pt x="17859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23"/>
          <p:cNvSpPr/>
          <p:nvPr/>
        </p:nvSpPr>
        <p:spPr>
          <a:xfrm>
            <a:off x="2214720" y="4884840"/>
            <a:ext cx="206280" cy="446040"/>
          </a:xfrm>
          <a:custGeom>
            <a:avLst/>
            <a:gdLst/>
            <a:ahLst/>
            <a:rect l="l" t="t" r="r" b="b"/>
            <a:pathLst>
              <a:path w="571" h="1241">
                <a:moveTo>
                  <a:pt x="6226" y="13568"/>
                </a:moveTo>
                <a:cubicBezTo>
                  <a:pt x="6186" y="13648"/>
                  <a:pt x="6162" y="13727"/>
                  <a:pt x="6152" y="13816"/>
                </a:cubicBezTo>
                <a:cubicBezTo>
                  <a:pt x="6136" y="13969"/>
                  <a:pt x="6125" y="14192"/>
                  <a:pt x="6176" y="14337"/>
                </a:cubicBezTo>
                <a:cubicBezTo>
                  <a:pt x="6205" y="14421"/>
                  <a:pt x="6282" y="14568"/>
                  <a:pt x="6375" y="14610"/>
                </a:cubicBezTo>
                <a:cubicBezTo>
                  <a:pt x="6451" y="14644"/>
                  <a:pt x="6502" y="14621"/>
                  <a:pt x="6573" y="14585"/>
                </a:cubicBezTo>
                <a:cubicBezTo>
                  <a:pt x="6630" y="14556"/>
                  <a:pt x="6685" y="14479"/>
                  <a:pt x="6697" y="14412"/>
                </a:cubicBezTo>
                <a:cubicBezTo>
                  <a:pt x="6713" y="14318"/>
                  <a:pt x="6712" y="14275"/>
                  <a:pt x="6697" y="14188"/>
                </a:cubicBezTo>
                <a:cubicBezTo>
                  <a:pt x="6685" y="14118"/>
                  <a:pt x="6675" y="14090"/>
                  <a:pt x="6623" y="14039"/>
                </a:cubicBezTo>
                <a:cubicBezTo>
                  <a:pt x="6575" y="13992"/>
                  <a:pt x="6491" y="14057"/>
                  <a:pt x="6474" y="14114"/>
                </a:cubicBezTo>
                <a:cubicBezTo>
                  <a:pt x="6451" y="14193"/>
                  <a:pt x="6427" y="14277"/>
                  <a:pt x="6424" y="14362"/>
                </a:cubicBezTo>
                <a:cubicBezTo>
                  <a:pt x="6420" y="14467"/>
                  <a:pt x="6444" y="14584"/>
                  <a:pt x="6474" y="14684"/>
                </a:cubicBezTo>
                <a:cubicBezTo>
                  <a:pt x="6496" y="14751"/>
                  <a:pt x="6501" y="14769"/>
                  <a:pt x="6524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Ink 24"/>
          <p:cNvSpPr/>
          <p:nvPr/>
        </p:nvSpPr>
        <p:spPr>
          <a:xfrm>
            <a:off x="2446200" y="469728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6796" y="13047"/>
                </a:moveTo>
                <a:cubicBezTo>
                  <a:pt x="6832" y="13173"/>
                  <a:pt x="6882" y="13280"/>
                  <a:pt x="6945" y="13395"/>
                </a:cubicBezTo>
                <a:cubicBezTo>
                  <a:pt x="6994" y="13484"/>
                  <a:pt x="7063" y="13534"/>
                  <a:pt x="7144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25"/>
          <p:cNvSpPr/>
          <p:nvPr/>
        </p:nvSpPr>
        <p:spPr>
          <a:xfrm>
            <a:off x="2428920" y="4660920"/>
            <a:ext cx="88920" cy="206280"/>
          </a:xfrm>
          <a:custGeom>
            <a:avLst/>
            <a:gdLst/>
            <a:ahLst/>
            <a:rect l="l" t="t" r="r" b="b"/>
            <a:pathLst>
              <a:path w="249" h="572">
                <a:moveTo>
                  <a:pt x="6995" y="12948"/>
                </a:moveTo>
                <a:cubicBezTo>
                  <a:pt x="6896" y="13054"/>
                  <a:pt x="6875" y="13095"/>
                  <a:pt x="6821" y="13221"/>
                </a:cubicBezTo>
                <a:cubicBezTo>
                  <a:pt x="6778" y="13321"/>
                  <a:pt x="6768" y="13412"/>
                  <a:pt x="6747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26"/>
          <p:cNvSpPr/>
          <p:nvPr/>
        </p:nvSpPr>
        <p:spPr>
          <a:xfrm>
            <a:off x="2625840" y="502776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7293" y="13965"/>
                </a:moveTo>
                <a:cubicBezTo>
                  <a:pt x="7408" y="13984"/>
                  <a:pt x="7424" y="13993"/>
                  <a:pt x="7491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27"/>
          <p:cNvSpPr/>
          <p:nvPr/>
        </p:nvSpPr>
        <p:spPr>
          <a:xfrm>
            <a:off x="2625840" y="5089680"/>
            <a:ext cx="81000" cy="4572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7293" y="14139"/>
                </a:moveTo>
                <a:cubicBezTo>
                  <a:pt x="7373" y="14197"/>
                  <a:pt x="7419" y="14251"/>
                  <a:pt x="7516" y="142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28"/>
          <p:cNvSpPr/>
          <p:nvPr/>
        </p:nvSpPr>
        <p:spPr>
          <a:xfrm>
            <a:off x="2813040" y="4894200"/>
            <a:ext cx="152280" cy="463680"/>
          </a:xfrm>
          <a:custGeom>
            <a:avLst/>
            <a:gdLst/>
            <a:ahLst/>
            <a:rect l="l" t="t" r="r" b="b"/>
            <a:pathLst>
              <a:path w="423" h="1291">
                <a:moveTo>
                  <a:pt x="7962" y="13593"/>
                </a:moveTo>
                <a:cubicBezTo>
                  <a:pt x="7930" y="13682"/>
                  <a:pt x="7909" y="13753"/>
                  <a:pt x="7888" y="13841"/>
                </a:cubicBezTo>
                <a:cubicBezTo>
                  <a:pt x="7865" y="13941"/>
                  <a:pt x="7823" y="14037"/>
                  <a:pt x="7813" y="14139"/>
                </a:cubicBezTo>
                <a:cubicBezTo>
                  <a:pt x="7803" y="14245"/>
                  <a:pt x="7837" y="14360"/>
                  <a:pt x="7863" y="14461"/>
                </a:cubicBezTo>
                <a:cubicBezTo>
                  <a:pt x="7884" y="14545"/>
                  <a:pt x="7921" y="14672"/>
                  <a:pt x="7987" y="14734"/>
                </a:cubicBezTo>
                <a:cubicBezTo>
                  <a:pt x="8069" y="14811"/>
                  <a:pt x="8131" y="14768"/>
                  <a:pt x="8186" y="14684"/>
                </a:cubicBezTo>
                <a:cubicBezTo>
                  <a:pt x="8229" y="14619"/>
                  <a:pt x="8257" y="14492"/>
                  <a:pt x="8235" y="14412"/>
                </a:cubicBezTo>
                <a:cubicBezTo>
                  <a:pt x="8223" y="14370"/>
                  <a:pt x="8172" y="14258"/>
                  <a:pt x="8111" y="14263"/>
                </a:cubicBezTo>
                <a:cubicBezTo>
                  <a:pt x="8039" y="14269"/>
                  <a:pt x="8024" y="14390"/>
                  <a:pt x="8012" y="14436"/>
                </a:cubicBezTo>
                <a:cubicBezTo>
                  <a:pt x="7989" y="14523"/>
                  <a:pt x="7948" y="14643"/>
                  <a:pt x="7962" y="14734"/>
                </a:cubicBezTo>
                <a:cubicBezTo>
                  <a:pt x="7970" y="14788"/>
                  <a:pt x="7987" y="14842"/>
                  <a:pt x="8012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29"/>
          <p:cNvSpPr/>
          <p:nvPr/>
        </p:nvSpPr>
        <p:spPr>
          <a:xfrm>
            <a:off x="3000240" y="4732200"/>
            <a:ext cx="142920" cy="179640"/>
          </a:xfrm>
          <a:custGeom>
            <a:avLst/>
            <a:gdLst/>
            <a:ahLst/>
            <a:rect l="l" t="t" r="r" b="b"/>
            <a:pathLst>
              <a:path w="398" h="498">
                <a:moveTo>
                  <a:pt x="8409" y="13196"/>
                </a:moveTo>
                <a:cubicBezTo>
                  <a:pt x="8483" y="13153"/>
                  <a:pt x="8485" y="13140"/>
                  <a:pt x="8558" y="13196"/>
                </a:cubicBezTo>
                <a:cubicBezTo>
                  <a:pt x="8594" y="13223"/>
                  <a:pt x="8649" y="13270"/>
                  <a:pt x="8632" y="13320"/>
                </a:cubicBezTo>
                <a:cubicBezTo>
                  <a:pt x="8611" y="13383"/>
                  <a:pt x="8506" y="13432"/>
                  <a:pt x="8458" y="13469"/>
                </a:cubicBezTo>
                <a:cubicBezTo>
                  <a:pt x="8439" y="13484"/>
                  <a:pt x="8331" y="13502"/>
                  <a:pt x="8334" y="13543"/>
                </a:cubicBezTo>
                <a:cubicBezTo>
                  <a:pt x="8340" y="13625"/>
                  <a:pt x="8478" y="13634"/>
                  <a:pt x="8533" y="13643"/>
                </a:cubicBezTo>
                <a:cubicBezTo>
                  <a:pt x="8597" y="13653"/>
                  <a:pt x="8667" y="13643"/>
                  <a:pt x="8731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30"/>
          <p:cNvSpPr/>
          <p:nvPr/>
        </p:nvSpPr>
        <p:spPr>
          <a:xfrm>
            <a:off x="2401920" y="5464080"/>
            <a:ext cx="179280" cy="385920"/>
          </a:xfrm>
          <a:custGeom>
            <a:avLst/>
            <a:gdLst/>
            <a:ahLst/>
            <a:rect l="l" t="t" r="r" b="b"/>
            <a:pathLst>
              <a:path w="498" h="1068">
                <a:moveTo>
                  <a:pt x="6672" y="15180"/>
                </a:moveTo>
                <a:cubicBezTo>
                  <a:pt x="6706" y="15273"/>
                  <a:pt x="6749" y="15343"/>
                  <a:pt x="6796" y="15429"/>
                </a:cubicBezTo>
                <a:cubicBezTo>
                  <a:pt x="6864" y="15552"/>
                  <a:pt x="6931" y="15676"/>
                  <a:pt x="6995" y="15801"/>
                </a:cubicBezTo>
                <a:cubicBezTo>
                  <a:pt x="7057" y="15921"/>
                  <a:pt x="7102" y="16047"/>
                  <a:pt x="7144" y="16173"/>
                </a:cubicBezTo>
                <a:cubicBezTo>
                  <a:pt x="7152" y="16198"/>
                  <a:pt x="7161" y="16222"/>
                  <a:pt x="7169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31"/>
          <p:cNvSpPr/>
          <p:nvPr/>
        </p:nvSpPr>
        <p:spPr>
          <a:xfrm>
            <a:off x="2394000" y="5456160"/>
            <a:ext cx="177840" cy="339840"/>
          </a:xfrm>
          <a:custGeom>
            <a:avLst/>
            <a:gdLst/>
            <a:ahLst/>
            <a:rect l="l" t="t" r="r" b="b"/>
            <a:pathLst>
              <a:path w="497" h="943">
                <a:moveTo>
                  <a:pt x="7144" y="15156"/>
                </a:moveTo>
                <a:cubicBezTo>
                  <a:pt x="7091" y="15239"/>
                  <a:pt x="7043" y="15318"/>
                  <a:pt x="6995" y="15404"/>
                </a:cubicBezTo>
                <a:cubicBezTo>
                  <a:pt x="6939" y="15504"/>
                  <a:pt x="6876" y="15602"/>
                  <a:pt x="6821" y="15701"/>
                </a:cubicBezTo>
                <a:cubicBezTo>
                  <a:pt x="6771" y="15792"/>
                  <a:pt x="6738" y="15879"/>
                  <a:pt x="6697" y="15974"/>
                </a:cubicBezTo>
                <a:cubicBezTo>
                  <a:pt x="6669" y="16031"/>
                  <a:pt x="6658" y="16054"/>
                  <a:pt x="6648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32"/>
          <p:cNvSpPr/>
          <p:nvPr/>
        </p:nvSpPr>
        <p:spPr>
          <a:xfrm>
            <a:off x="2616120" y="5581800"/>
            <a:ext cx="9864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7268" y="15553"/>
                </a:moveTo>
                <a:cubicBezTo>
                  <a:pt x="7362" y="15536"/>
                  <a:pt x="7455" y="15535"/>
                  <a:pt x="7541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33"/>
          <p:cNvSpPr/>
          <p:nvPr/>
        </p:nvSpPr>
        <p:spPr>
          <a:xfrm>
            <a:off x="2608200" y="561672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7243" y="15602"/>
                </a:moveTo>
                <a:cubicBezTo>
                  <a:pt x="7307" y="15688"/>
                  <a:pt x="7316" y="15721"/>
                  <a:pt x="7392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34"/>
          <p:cNvSpPr/>
          <p:nvPr/>
        </p:nvSpPr>
        <p:spPr>
          <a:xfrm>
            <a:off x="2759040" y="5500800"/>
            <a:ext cx="179280" cy="37440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7838" y="15280"/>
                </a:moveTo>
                <a:cubicBezTo>
                  <a:pt x="7982" y="15288"/>
                  <a:pt x="8001" y="15282"/>
                  <a:pt x="8086" y="15379"/>
                </a:cubicBezTo>
                <a:cubicBezTo>
                  <a:pt x="8161" y="15465"/>
                  <a:pt x="8143" y="15545"/>
                  <a:pt x="8111" y="15652"/>
                </a:cubicBezTo>
                <a:cubicBezTo>
                  <a:pt x="8079" y="15759"/>
                  <a:pt x="7990" y="15823"/>
                  <a:pt x="7913" y="15900"/>
                </a:cubicBezTo>
                <a:cubicBezTo>
                  <a:pt x="7851" y="15962"/>
                  <a:pt x="7805" y="16048"/>
                  <a:pt x="7714" y="15999"/>
                </a:cubicBezTo>
                <a:cubicBezTo>
                  <a:pt x="7665" y="15973"/>
                  <a:pt x="7670" y="15920"/>
                  <a:pt x="7665" y="15875"/>
                </a:cubicBezTo>
                <a:cubicBezTo>
                  <a:pt x="7774" y="15889"/>
                  <a:pt x="7786" y="15943"/>
                  <a:pt x="7863" y="16024"/>
                </a:cubicBezTo>
                <a:cubicBezTo>
                  <a:pt x="7940" y="16104"/>
                  <a:pt x="7983" y="16222"/>
                  <a:pt x="8062" y="16297"/>
                </a:cubicBezTo>
                <a:cubicBezTo>
                  <a:pt x="8128" y="16359"/>
                  <a:pt x="8145" y="16319"/>
                  <a:pt x="8161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.244(4-10,28-32,50-56) ev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3.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cause your calculator only recognizes Base 10, it is sometimes necessary to change the base of a log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nge of base formul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= (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)/(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Ink 6"/>
          <p:cNvSpPr/>
          <p:nvPr/>
        </p:nvSpPr>
        <p:spPr>
          <a:xfrm>
            <a:off x="1857240" y="3009960"/>
            <a:ext cx="1411560" cy="938160"/>
          </a:xfrm>
          <a:custGeom>
            <a:avLst/>
            <a:gdLst/>
            <a:ahLst/>
            <a:rect l="l" t="t" r="r" b="b"/>
            <a:pathLst>
              <a:path w="3921" h="2606">
                <a:moveTo>
                  <a:pt x="5333" y="8359"/>
                </a:moveTo>
                <a:cubicBezTo>
                  <a:pt x="5333" y="8454"/>
                  <a:pt x="5314" y="8542"/>
                  <a:pt x="5308" y="8632"/>
                </a:cubicBezTo>
                <a:cubicBezTo>
                  <a:pt x="5298" y="8789"/>
                  <a:pt x="5301" y="8947"/>
                  <a:pt x="5283" y="9103"/>
                </a:cubicBezTo>
                <a:cubicBezTo>
                  <a:pt x="5269" y="9224"/>
                  <a:pt x="5258" y="9358"/>
                  <a:pt x="5234" y="9475"/>
                </a:cubicBezTo>
                <a:cubicBezTo>
                  <a:pt x="5216" y="9566"/>
                  <a:pt x="5188" y="9655"/>
                  <a:pt x="5184" y="9748"/>
                </a:cubicBezTo>
                <a:cubicBezTo>
                  <a:pt x="5180" y="9833"/>
                  <a:pt x="5159" y="9880"/>
                  <a:pt x="5159" y="9971"/>
                </a:cubicBezTo>
                <a:cubicBezTo>
                  <a:pt x="5239" y="9877"/>
                  <a:pt x="5234" y="9942"/>
                  <a:pt x="5308" y="9971"/>
                </a:cubicBezTo>
                <a:cubicBezTo>
                  <a:pt x="5356" y="9990"/>
                  <a:pt x="5478" y="9989"/>
                  <a:pt x="5531" y="9996"/>
                </a:cubicBezTo>
                <a:cubicBezTo>
                  <a:pt x="5640" y="10010"/>
                  <a:pt x="5753" y="9994"/>
                  <a:pt x="5854" y="9971"/>
                </a:cubicBezTo>
                <a:cubicBezTo>
                  <a:pt x="5862" y="9971"/>
                  <a:pt x="5871" y="9971"/>
                  <a:pt x="5879" y="9971"/>
                </a:cubicBezTo>
              </a:path>
              <a:path w="3921" h="2606">
                <a:moveTo>
                  <a:pt x="6003" y="9252"/>
                </a:moveTo>
                <a:cubicBezTo>
                  <a:pt x="5957" y="9385"/>
                  <a:pt x="5923" y="9496"/>
                  <a:pt x="5879" y="9624"/>
                </a:cubicBezTo>
                <a:cubicBezTo>
                  <a:pt x="5840" y="9735"/>
                  <a:pt x="5866" y="9790"/>
                  <a:pt x="5879" y="9897"/>
                </a:cubicBezTo>
                <a:cubicBezTo>
                  <a:pt x="5887" y="9968"/>
                  <a:pt x="5924" y="10032"/>
                  <a:pt x="6003" y="10046"/>
                </a:cubicBezTo>
                <a:cubicBezTo>
                  <a:pt x="6129" y="10068"/>
                  <a:pt x="6126" y="10014"/>
                  <a:pt x="6226" y="9971"/>
                </a:cubicBezTo>
                <a:cubicBezTo>
                  <a:pt x="6306" y="9936"/>
                  <a:pt x="6360" y="9869"/>
                  <a:pt x="6400" y="9773"/>
                </a:cubicBezTo>
                <a:cubicBezTo>
                  <a:pt x="6446" y="9662"/>
                  <a:pt x="6462" y="9586"/>
                  <a:pt x="6449" y="9475"/>
                </a:cubicBezTo>
                <a:cubicBezTo>
                  <a:pt x="6440" y="9396"/>
                  <a:pt x="6419" y="9255"/>
                  <a:pt x="6325" y="9227"/>
                </a:cubicBezTo>
                <a:cubicBezTo>
                  <a:pt x="6264" y="9209"/>
                  <a:pt x="6259" y="9194"/>
                  <a:pt x="6201" y="9153"/>
                </a:cubicBezTo>
                <a:cubicBezTo>
                  <a:pt x="6153" y="9182"/>
                  <a:pt x="6116" y="9197"/>
                  <a:pt x="6077" y="9227"/>
                </a:cubicBezTo>
                <a:cubicBezTo>
                  <a:pt x="6007" y="9281"/>
                  <a:pt x="6028" y="9374"/>
                  <a:pt x="6028" y="9451"/>
                </a:cubicBezTo>
                <a:cubicBezTo>
                  <a:pt x="6028" y="9541"/>
                  <a:pt x="6047" y="9590"/>
                  <a:pt x="6077" y="9674"/>
                </a:cubicBezTo>
              </a:path>
              <a:path w="3921" h="2606">
                <a:moveTo>
                  <a:pt x="6945" y="9376"/>
                </a:moveTo>
                <a:cubicBezTo>
                  <a:pt x="6998" y="9177"/>
                  <a:pt x="6993" y="9287"/>
                  <a:pt x="6945" y="9153"/>
                </a:cubicBezTo>
                <a:cubicBezTo>
                  <a:pt x="6937" y="9136"/>
                  <a:pt x="6929" y="9120"/>
                  <a:pt x="6921" y="9103"/>
                </a:cubicBezTo>
                <a:cubicBezTo>
                  <a:pt x="6804" y="9129"/>
                  <a:pt x="6805" y="9161"/>
                  <a:pt x="6722" y="9227"/>
                </a:cubicBezTo>
                <a:cubicBezTo>
                  <a:pt x="6640" y="9292"/>
                  <a:pt x="6639" y="9351"/>
                  <a:pt x="6598" y="9451"/>
                </a:cubicBezTo>
                <a:cubicBezTo>
                  <a:pt x="6557" y="9551"/>
                  <a:pt x="6568" y="9646"/>
                  <a:pt x="6598" y="9748"/>
                </a:cubicBezTo>
                <a:cubicBezTo>
                  <a:pt x="6624" y="9834"/>
                  <a:pt x="6645" y="9855"/>
                  <a:pt x="6697" y="9897"/>
                </a:cubicBezTo>
                <a:cubicBezTo>
                  <a:pt x="6768" y="9954"/>
                  <a:pt x="6773" y="9978"/>
                  <a:pt x="6846" y="9922"/>
                </a:cubicBezTo>
                <a:cubicBezTo>
                  <a:pt x="6902" y="9879"/>
                  <a:pt x="6963" y="9810"/>
                  <a:pt x="6995" y="9748"/>
                </a:cubicBezTo>
                <a:cubicBezTo>
                  <a:pt x="7033" y="9675"/>
                  <a:pt x="7057" y="9577"/>
                  <a:pt x="7069" y="9500"/>
                </a:cubicBezTo>
                <a:cubicBezTo>
                  <a:pt x="7082" y="9414"/>
                  <a:pt x="7069" y="9314"/>
                  <a:pt x="7069" y="9227"/>
                </a:cubicBezTo>
                <a:cubicBezTo>
                  <a:pt x="7031" y="9279"/>
                  <a:pt x="7026" y="9295"/>
                  <a:pt x="7020" y="9401"/>
                </a:cubicBezTo>
                <a:cubicBezTo>
                  <a:pt x="7003" y="9690"/>
                  <a:pt x="7023" y="9983"/>
                  <a:pt x="7045" y="10269"/>
                </a:cubicBezTo>
                <a:cubicBezTo>
                  <a:pt x="7056" y="10416"/>
                  <a:pt x="7036" y="10550"/>
                  <a:pt x="6995" y="10691"/>
                </a:cubicBezTo>
                <a:cubicBezTo>
                  <a:pt x="6968" y="10784"/>
                  <a:pt x="6937" y="10887"/>
                  <a:pt x="6846" y="10939"/>
                </a:cubicBezTo>
                <a:cubicBezTo>
                  <a:pt x="6764" y="10986"/>
                  <a:pt x="6593" y="10981"/>
                  <a:pt x="6499" y="10964"/>
                </a:cubicBezTo>
                <a:cubicBezTo>
                  <a:pt x="6413" y="10948"/>
                  <a:pt x="6345" y="10904"/>
                  <a:pt x="6325" y="10815"/>
                </a:cubicBezTo>
                <a:cubicBezTo>
                  <a:pt x="6325" y="10798"/>
                  <a:pt x="6325" y="10782"/>
                  <a:pt x="6325" y="10765"/>
                </a:cubicBezTo>
              </a:path>
              <a:path w="3921" h="2606">
                <a:moveTo>
                  <a:pt x="8533" y="8706"/>
                </a:moveTo>
                <a:cubicBezTo>
                  <a:pt x="8464" y="8629"/>
                  <a:pt x="8442" y="8616"/>
                  <a:pt x="8359" y="8582"/>
                </a:cubicBezTo>
                <a:cubicBezTo>
                  <a:pt x="8284" y="8552"/>
                  <a:pt x="8218" y="8558"/>
                  <a:pt x="8136" y="8558"/>
                </a:cubicBezTo>
                <a:cubicBezTo>
                  <a:pt x="8051" y="8558"/>
                  <a:pt x="7978" y="8597"/>
                  <a:pt x="7913" y="8632"/>
                </a:cubicBezTo>
                <a:cubicBezTo>
                  <a:pt x="7848" y="8667"/>
                  <a:pt x="7783" y="8737"/>
                  <a:pt x="7789" y="8806"/>
                </a:cubicBezTo>
                <a:cubicBezTo>
                  <a:pt x="7794" y="8861"/>
                  <a:pt x="7855" y="9040"/>
                  <a:pt x="7888" y="9079"/>
                </a:cubicBezTo>
                <a:cubicBezTo>
                  <a:pt x="7947" y="9150"/>
                  <a:pt x="8000" y="9226"/>
                  <a:pt x="8062" y="9302"/>
                </a:cubicBezTo>
                <a:cubicBezTo>
                  <a:pt x="8126" y="9380"/>
                  <a:pt x="8235" y="9462"/>
                  <a:pt x="8285" y="9550"/>
                </a:cubicBezTo>
                <a:cubicBezTo>
                  <a:pt x="8332" y="9632"/>
                  <a:pt x="8399" y="9721"/>
                  <a:pt x="8384" y="9823"/>
                </a:cubicBezTo>
                <a:cubicBezTo>
                  <a:pt x="8376" y="9848"/>
                  <a:pt x="8367" y="9872"/>
                  <a:pt x="8359" y="9897"/>
                </a:cubicBezTo>
                <a:cubicBezTo>
                  <a:pt x="8242" y="9897"/>
                  <a:pt x="8203" y="9903"/>
                  <a:pt x="8111" y="9847"/>
                </a:cubicBezTo>
                <a:cubicBezTo>
                  <a:pt x="8012" y="9787"/>
                  <a:pt x="8030" y="9806"/>
                  <a:pt x="7962" y="9699"/>
                </a:cubicBezTo>
                <a:cubicBezTo>
                  <a:pt x="7930" y="9648"/>
                  <a:pt x="7934" y="9556"/>
                  <a:pt x="7962" y="9500"/>
                </a:cubicBezTo>
                <a:cubicBezTo>
                  <a:pt x="8026" y="9370"/>
                  <a:pt x="8092" y="9229"/>
                  <a:pt x="8161" y="9103"/>
                </a:cubicBezTo>
                <a:cubicBezTo>
                  <a:pt x="8220" y="8996"/>
                  <a:pt x="8281" y="8902"/>
                  <a:pt x="8310" y="8781"/>
                </a:cubicBezTo>
                <a:cubicBezTo>
                  <a:pt x="8324" y="8722"/>
                  <a:pt x="8328" y="8698"/>
                  <a:pt x="8334" y="8632"/>
                </a:cubicBezTo>
              </a:path>
              <a:path w="3921" h="2606">
                <a:moveTo>
                  <a:pt x="7243" y="9847"/>
                </a:moveTo>
                <a:cubicBezTo>
                  <a:pt x="7301" y="9805"/>
                  <a:pt x="7317" y="9833"/>
                  <a:pt x="7367" y="9773"/>
                </a:cubicBezTo>
                <a:cubicBezTo>
                  <a:pt x="7426" y="9818"/>
                  <a:pt x="7490" y="9819"/>
                  <a:pt x="7516" y="9897"/>
                </a:cubicBezTo>
                <a:cubicBezTo>
                  <a:pt x="7529" y="9935"/>
                  <a:pt x="7473" y="10039"/>
                  <a:pt x="7466" y="10046"/>
                </a:cubicBezTo>
                <a:cubicBezTo>
                  <a:pt x="7427" y="10085"/>
                  <a:pt x="7408" y="10163"/>
                  <a:pt x="7367" y="10195"/>
                </a:cubicBezTo>
                <a:cubicBezTo>
                  <a:pt x="7312" y="10238"/>
                  <a:pt x="7302" y="10258"/>
                  <a:pt x="7293" y="10344"/>
                </a:cubicBezTo>
                <a:cubicBezTo>
                  <a:pt x="7442" y="10344"/>
                  <a:pt x="7838" y="10344"/>
                  <a:pt x="7689" y="10344"/>
                </a:cubicBezTo>
              </a:path>
              <a:path w="3921" h="2606">
                <a:moveTo>
                  <a:pt x="8706" y="9401"/>
                </a:moveTo>
                <a:cubicBezTo>
                  <a:pt x="8813" y="9401"/>
                  <a:pt x="8865" y="9441"/>
                  <a:pt x="8954" y="9451"/>
                </a:cubicBezTo>
                <a:cubicBezTo>
                  <a:pt x="9004" y="9451"/>
                  <a:pt x="9021" y="9451"/>
                  <a:pt x="9054" y="9451"/>
                </a:cubicBezTo>
              </a:path>
              <a:path w="3921" h="2606">
                <a:moveTo>
                  <a:pt x="8855" y="9550"/>
                </a:moveTo>
                <a:cubicBezTo>
                  <a:pt x="8947" y="9599"/>
                  <a:pt x="8977" y="9599"/>
                  <a:pt x="9079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7"/>
          <p:cNvSpPr/>
          <p:nvPr/>
        </p:nvSpPr>
        <p:spPr>
          <a:xfrm>
            <a:off x="3527280" y="3106800"/>
            <a:ext cx="3303720" cy="787320"/>
          </a:xfrm>
          <a:custGeom>
            <a:avLst/>
            <a:gdLst/>
            <a:ahLst/>
            <a:rect l="l" t="t" r="r" b="b"/>
            <a:pathLst>
              <a:path w="9179" h="2184">
                <a:moveTo>
                  <a:pt x="9971" y="8632"/>
                </a:moveTo>
                <a:cubicBezTo>
                  <a:pt x="9939" y="8729"/>
                  <a:pt x="9908" y="8830"/>
                  <a:pt x="9897" y="8930"/>
                </a:cubicBezTo>
                <a:cubicBezTo>
                  <a:pt x="9886" y="9030"/>
                  <a:pt x="9858" y="9128"/>
                  <a:pt x="9847" y="9227"/>
                </a:cubicBezTo>
                <a:cubicBezTo>
                  <a:pt x="9835" y="9336"/>
                  <a:pt x="9802" y="9441"/>
                  <a:pt x="9798" y="9550"/>
                </a:cubicBezTo>
                <a:cubicBezTo>
                  <a:pt x="9794" y="9645"/>
                  <a:pt x="9764" y="9850"/>
                  <a:pt x="9823" y="9922"/>
                </a:cubicBezTo>
                <a:cubicBezTo>
                  <a:pt x="9884" y="9998"/>
                  <a:pt x="9908" y="10015"/>
                  <a:pt x="9971" y="10071"/>
                </a:cubicBezTo>
                <a:cubicBezTo>
                  <a:pt x="10044" y="10136"/>
                  <a:pt x="10101" y="10120"/>
                  <a:pt x="10195" y="10120"/>
                </a:cubicBezTo>
                <a:cubicBezTo>
                  <a:pt x="10294" y="10120"/>
                  <a:pt x="10313" y="10120"/>
                  <a:pt x="10393" y="10071"/>
                </a:cubicBezTo>
                <a:cubicBezTo>
                  <a:pt x="10441" y="10047"/>
                  <a:pt x="10455" y="10039"/>
                  <a:pt x="10492" y="10046"/>
                </a:cubicBezTo>
              </a:path>
              <a:path w="9179" h="2184">
                <a:moveTo>
                  <a:pt x="10542" y="9525"/>
                </a:moveTo>
                <a:cubicBezTo>
                  <a:pt x="10516" y="9614"/>
                  <a:pt x="10460" y="9746"/>
                  <a:pt x="10492" y="9847"/>
                </a:cubicBezTo>
                <a:cubicBezTo>
                  <a:pt x="10521" y="9940"/>
                  <a:pt x="10601" y="9992"/>
                  <a:pt x="10691" y="9996"/>
                </a:cubicBezTo>
                <a:cubicBezTo>
                  <a:pt x="10759" y="9999"/>
                  <a:pt x="10856" y="10013"/>
                  <a:pt x="10914" y="9971"/>
                </a:cubicBezTo>
                <a:cubicBezTo>
                  <a:pt x="10966" y="9934"/>
                  <a:pt x="11036" y="9882"/>
                  <a:pt x="11063" y="9823"/>
                </a:cubicBezTo>
                <a:cubicBezTo>
                  <a:pt x="11113" y="9713"/>
                  <a:pt x="11071" y="9689"/>
                  <a:pt x="11038" y="9599"/>
                </a:cubicBezTo>
                <a:cubicBezTo>
                  <a:pt x="11005" y="9509"/>
                  <a:pt x="10987" y="9459"/>
                  <a:pt x="10914" y="9401"/>
                </a:cubicBezTo>
                <a:cubicBezTo>
                  <a:pt x="10853" y="9353"/>
                  <a:pt x="10736" y="9281"/>
                  <a:pt x="10666" y="9327"/>
                </a:cubicBezTo>
                <a:cubicBezTo>
                  <a:pt x="10582" y="9382"/>
                  <a:pt x="10572" y="9367"/>
                  <a:pt x="10542" y="9451"/>
                </a:cubicBezTo>
                <a:cubicBezTo>
                  <a:pt x="10508" y="9545"/>
                  <a:pt x="10524" y="9576"/>
                  <a:pt x="10542" y="9674"/>
                </a:cubicBezTo>
                <a:cubicBezTo>
                  <a:pt x="10557" y="9754"/>
                  <a:pt x="10587" y="9796"/>
                  <a:pt x="10641" y="9847"/>
                </a:cubicBezTo>
                <a:cubicBezTo>
                  <a:pt x="10686" y="9892"/>
                  <a:pt x="10695" y="9909"/>
                  <a:pt x="10740" y="9897"/>
                </a:cubicBezTo>
              </a:path>
              <a:path w="9179" h="2184">
                <a:moveTo>
                  <a:pt x="11633" y="9451"/>
                </a:moveTo>
                <a:cubicBezTo>
                  <a:pt x="11611" y="9388"/>
                  <a:pt x="11584" y="9273"/>
                  <a:pt x="11485" y="9327"/>
                </a:cubicBezTo>
                <a:cubicBezTo>
                  <a:pt x="11412" y="9367"/>
                  <a:pt x="11364" y="9388"/>
                  <a:pt x="11311" y="9451"/>
                </a:cubicBezTo>
                <a:cubicBezTo>
                  <a:pt x="11263" y="9508"/>
                  <a:pt x="11234" y="9598"/>
                  <a:pt x="11261" y="9674"/>
                </a:cubicBezTo>
                <a:cubicBezTo>
                  <a:pt x="11289" y="9751"/>
                  <a:pt x="11369" y="9869"/>
                  <a:pt x="11460" y="9897"/>
                </a:cubicBezTo>
                <a:cubicBezTo>
                  <a:pt x="11554" y="9926"/>
                  <a:pt x="11599" y="9875"/>
                  <a:pt x="11658" y="9823"/>
                </a:cubicBezTo>
                <a:cubicBezTo>
                  <a:pt x="11691" y="9794"/>
                  <a:pt x="11735" y="9754"/>
                  <a:pt x="11757" y="9699"/>
                </a:cubicBezTo>
                <a:cubicBezTo>
                  <a:pt x="11790" y="9618"/>
                  <a:pt x="11771" y="9611"/>
                  <a:pt x="11757" y="9525"/>
                </a:cubicBezTo>
                <a:cubicBezTo>
                  <a:pt x="11717" y="9576"/>
                  <a:pt x="11686" y="9610"/>
                  <a:pt x="11683" y="9674"/>
                </a:cubicBezTo>
                <a:cubicBezTo>
                  <a:pt x="11678" y="9778"/>
                  <a:pt x="11661" y="9864"/>
                  <a:pt x="11658" y="9971"/>
                </a:cubicBezTo>
                <a:cubicBezTo>
                  <a:pt x="11655" y="10072"/>
                  <a:pt x="11665" y="10172"/>
                  <a:pt x="11683" y="10269"/>
                </a:cubicBezTo>
                <a:cubicBezTo>
                  <a:pt x="11708" y="10401"/>
                  <a:pt x="11721" y="10512"/>
                  <a:pt x="11683" y="10641"/>
                </a:cubicBezTo>
                <a:cubicBezTo>
                  <a:pt x="11662" y="10713"/>
                  <a:pt x="11588" y="10793"/>
                  <a:pt x="11509" y="10815"/>
                </a:cubicBezTo>
                <a:cubicBezTo>
                  <a:pt x="11424" y="10839"/>
                  <a:pt x="11335" y="10800"/>
                  <a:pt x="11261" y="10765"/>
                </a:cubicBezTo>
                <a:cubicBezTo>
                  <a:pt x="11160" y="10717"/>
                  <a:pt x="11146" y="10670"/>
                  <a:pt x="11137" y="10567"/>
                </a:cubicBezTo>
              </a:path>
              <a:path w="9179" h="2184">
                <a:moveTo>
                  <a:pt x="12129" y="8855"/>
                </a:moveTo>
                <a:cubicBezTo>
                  <a:pt x="12067" y="8962"/>
                  <a:pt x="12059" y="9040"/>
                  <a:pt x="12030" y="9153"/>
                </a:cubicBezTo>
                <a:cubicBezTo>
                  <a:pt x="11998" y="9276"/>
                  <a:pt x="11957" y="9394"/>
                  <a:pt x="11981" y="9525"/>
                </a:cubicBezTo>
                <a:cubicBezTo>
                  <a:pt x="11998" y="9622"/>
                  <a:pt x="12042" y="9673"/>
                  <a:pt x="12080" y="9748"/>
                </a:cubicBezTo>
                <a:cubicBezTo>
                  <a:pt x="12129" y="9845"/>
                  <a:pt x="12166" y="9872"/>
                  <a:pt x="12278" y="9897"/>
                </a:cubicBezTo>
              </a:path>
              <a:path w="9179" h="2184">
                <a:moveTo>
                  <a:pt x="12750" y="9079"/>
                </a:moveTo>
                <a:cubicBezTo>
                  <a:pt x="12698" y="9066"/>
                  <a:pt x="12615" y="8993"/>
                  <a:pt x="12551" y="9029"/>
                </a:cubicBezTo>
                <a:cubicBezTo>
                  <a:pt x="12495" y="9061"/>
                  <a:pt x="12425" y="9084"/>
                  <a:pt x="12402" y="9153"/>
                </a:cubicBezTo>
                <a:cubicBezTo>
                  <a:pt x="12387" y="9199"/>
                  <a:pt x="12428" y="9293"/>
                  <a:pt x="12452" y="9327"/>
                </a:cubicBezTo>
                <a:cubicBezTo>
                  <a:pt x="12517" y="9419"/>
                  <a:pt x="12587" y="9506"/>
                  <a:pt x="12650" y="9599"/>
                </a:cubicBezTo>
                <a:cubicBezTo>
                  <a:pt x="12688" y="9655"/>
                  <a:pt x="12747" y="9710"/>
                  <a:pt x="12700" y="9773"/>
                </a:cubicBezTo>
                <a:cubicBezTo>
                  <a:pt x="12683" y="9790"/>
                  <a:pt x="12667" y="9806"/>
                  <a:pt x="12650" y="9823"/>
                </a:cubicBezTo>
                <a:cubicBezTo>
                  <a:pt x="12609" y="9781"/>
                  <a:pt x="12531" y="9745"/>
                  <a:pt x="12502" y="9699"/>
                </a:cubicBezTo>
                <a:cubicBezTo>
                  <a:pt x="12476" y="9658"/>
                  <a:pt x="12465" y="9545"/>
                  <a:pt x="12477" y="9500"/>
                </a:cubicBezTo>
                <a:cubicBezTo>
                  <a:pt x="12491" y="9450"/>
                  <a:pt x="12567" y="9366"/>
                  <a:pt x="12601" y="9327"/>
                </a:cubicBezTo>
                <a:cubicBezTo>
                  <a:pt x="12639" y="9289"/>
                  <a:pt x="12657" y="9266"/>
                  <a:pt x="12675" y="9227"/>
                </a:cubicBezTo>
              </a:path>
              <a:path w="9179" h="2184">
                <a:moveTo>
                  <a:pt x="12750" y="8706"/>
                </a:moveTo>
                <a:cubicBezTo>
                  <a:pt x="12808" y="8809"/>
                  <a:pt x="12845" y="8901"/>
                  <a:pt x="12898" y="9004"/>
                </a:cubicBezTo>
                <a:cubicBezTo>
                  <a:pt x="12964" y="9132"/>
                  <a:pt x="13009" y="9235"/>
                  <a:pt x="13047" y="9376"/>
                </a:cubicBezTo>
                <a:cubicBezTo>
                  <a:pt x="13076" y="9485"/>
                  <a:pt x="13090" y="9641"/>
                  <a:pt x="13047" y="9748"/>
                </a:cubicBezTo>
                <a:cubicBezTo>
                  <a:pt x="13007" y="9847"/>
                  <a:pt x="12913" y="9917"/>
                  <a:pt x="12874" y="9971"/>
                </a:cubicBezTo>
                <a:cubicBezTo>
                  <a:pt x="12864" y="9986"/>
                  <a:pt x="12786" y="10114"/>
                  <a:pt x="12725" y="10046"/>
                </a:cubicBezTo>
                <a:cubicBezTo>
                  <a:pt x="12690" y="10046"/>
                  <a:pt x="12686" y="10037"/>
                  <a:pt x="12725" y="9996"/>
                </a:cubicBezTo>
              </a:path>
              <a:path w="9179" h="2184">
                <a:moveTo>
                  <a:pt x="13965" y="8706"/>
                </a:moveTo>
                <a:cubicBezTo>
                  <a:pt x="13887" y="8856"/>
                  <a:pt x="13813" y="9000"/>
                  <a:pt x="13742" y="9153"/>
                </a:cubicBezTo>
                <a:cubicBezTo>
                  <a:pt x="13672" y="9305"/>
                  <a:pt x="13595" y="9450"/>
                  <a:pt x="13519" y="9599"/>
                </a:cubicBezTo>
                <a:cubicBezTo>
                  <a:pt x="13446" y="9741"/>
                  <a:pt x="13347" y="9863"/>
                  <a:pt x="13271" y="9996"/>
                </a:cubicBezTo>
                <a:cubicBezTo>
                  <a:pt x="13235" y="10060"/>
                  <a:pt x="13171" y="10143"/>
                  <a:pt x="13171" y="10220"/>
                </a:cubicBezTo>
                <a:cubicBezTo>
                  <a:pt x="13179" y="10212"/>
                  <a:pt x="13188" y="10203"/>
                  <a:pt x="13196" y="10195"/>
                </a:cubicBezTo>
              </a:path>
              <a:path w="9179" h="2184">
                <a:moveTo>
                  <a:pt x="14312" y="8855"/>
                </a:moveTo>
                <a:cubicBezTo>
                  <a:pt x="14304" y="8942"/>
                  <a:pt x="14289" y="9014"/>
                  <a:pt x="14263" y="9103"/>
                </a:cubicBezTo>
                <a:cubicBezTo>
                  <a:pt x="14204" y="9301"/>
                  <a:pt x="14144" y="9504"/>
                  <a:pt x="14089" y="9699"/>
                </a:cubicBezTo>
                <a:cubicBezTo>
                  <a:pt x="14067" y="9777"/>
                  <a:pt x="14049" y="9822"/>
                  <a:pt x="14089" y="9897"/>
                </a:cubicBezTo>
                <a:cubicBezTo>
                  <a:pt x="14118" y="9952"/>
                  <a:pt x="14152" y="9979"/>
                  <a:pt x="14213" y="9996"/>
                </a:cubicBezTo>
                <a:cubicBezTo>
                  <a:pt x="14308" y="10022"/>
                  <a:pt x="14444" y="9996"/>
                  <a:pt x="14536" y="9971"/>
                </a:cubicBezTo>
              </a:path>
              <a:path w="9179" h="2184">
                <a:moveTo>
                  <a:pt x="14808" y="9451"/>
                </a:moveTo>
                <a:cubicBezTo>
                  <a:pt x="14702" y="9518"/>
                  <a:pt x="14701" y="9514"/>
                  <a:pt x="14660" y="9624"/>
                </a:cubicBezTo>
                <a:cubicBezTo>
                  <a:pt x="14629" y="9708"/>
                  <a:pt x="14629" y="9750"/>
                  <a:pt x="14684" y="9823"/>
                </a:cubicBezTo>
                <a:cubicBezTo>
                  <a:pt x="14740" y="9898"/>
                  <a:pt x="14763" y="9872"/>
                  <a:pt x="14833" y="9922"/>
                </a:cubicBezTo>
                <a:cubicBezTo>
                  <a:pt x="14890" y="9963"/>
                  <a:pt x="14959" y="9950"/>
                  <a:pt x="15032" y="9897"/>
                </a:cubicBezTo>
                <a:cubicBezTo>
                  <a:pt x="15098" y="9849"/>
                  <a:pt x="15149" y="9778"/>
                  <a:pt x="15156" y="9699"/>
                </a:cubicBezTo>
                <a:cubicBezTo>
                  <a:pt x="15162" y="9632"/>
                  <a:pt x="15158" y="9526"/>
                  <a:pt x="15106" y="9475"/>
                </a:cubicBezTo>
                <a:cubicBezTo>
                  <a:pt x="15051" y="9421"/>
                  <a:pt x="15012" y="9353"/>
                  <a:pt x="14932" y="9327"/>
                </a:cubicBezTo>
                <a:cubicBezTo>
                  <a:pt x="14847" y="9299"/>
                  <a:pt x="14799" y="9334"/>
                  <a:pt x="14759" y="9401"/>
                </a:cubicBezTo>
                <a:cubicBezTo>
                  <a:pt x="14734" y="9443"/>
                  <a:pt x="14713" y="9550"/>
                  <a:pt x="14734" y="9599"/>
                </a:cubicBezTo>
                <a:cubicBezTo>
                  <a:pt x="14760" y="9660"/>
                  <a:pt x="14812" y="9703"/>
                  <a:pt x="14858" y="9748"/>
                </a:cubicBezTo>
              </a:path>
              <a:path w="9179" h="2184">
                <a:moveTo>
                  <a:pt x="15577" y="9674"/>
                </a:moveTo>
                <a:cubicBezTo>
                  <a:pt x="15633" y="9601"/>
                  <a:pt x="15733" y="9529"/>
                  <a:pt x="15627" y="9451"/>
                </a:cubicBezTo>
                <a:cubicBezTo>
                  <a:pt x="15565" y="9406"/>
                  <a:pt x="15509" y="9421"/>
                  <a:pt x="15429" y="9451"/>
                </a:cubicBezTo>
                <a:cubicBezTo>
                  <a:pt x="15364" y="9475"/>
                  <a:pt x="15302" y="9611"/>
                  <a:pt x="15304" y="9674"/>
                </a:cubicBezTo>
                <a:cubicBezTo>
                  <a:pt x="15306" y="9734"/>
                  <a:pt x="15358" y="9795"/>
                  <a:pt x="15379" y="9823"/>
                </a:cubicBezTo>
                <a:cubicBezTo>
                  <a:pt x="15445" y="9910"/>
                  <a:pt x="15487" y="9885"/>
                  <a:pt x="15553" y="9847"/>
                </a:cubicBezTo>
                <a:cubicBezTo>
                  <a:pt x="15593" y="9824"/>
                  <a:pt x="15659" y="9712"/>
                  <a:pt x="15677" y="9674"/>
                </a:cubicBezTo>
                <a:cubicBezTo>
                  <a:pt x="15711" y="9601"/>
                  <a:pt x="15688" y="9535"/>
                  <a:pt x="15652" y="9475"/>
                </a:cubicBezTo>
                <a:cubicBezTo>
                  <a:pt x="15608" y="9573"/>
                  <a:pt x="15620" y="9599"/>
                  <a:pt x="15627" y="9699"/>
                </a:cubicBezTo>
                <a:cubicBezTo>
                  <a:pt x="15635" y="9816"/>
                  <a:pt x="15640" y="9932"/>
                  <a:pt x="15652" y="10046"/>
                </a:cubicBezTo>
                <a:cubicBezTo>
                  <a:pt x="15665" y="10171"/>
                  <a:pt x="15677" y="10291"/>
                  <a:pt x="15677" y="10418"/>
                </a:cubicBezTo>
                <a:cubicBezTo>
                  <a:pt x="15677" y="10532"/>
                  <a:pt x="15672" y="10611"/>
                  <a:pt x="15627" y="10716"/>
                </a:cubicBezTo>
                <a:cubicBezTo>
                  <a:pt x="15599" y="10780"/>
                  <a:pt x="15498" y="10822"/>
                  <a:pt x="15429" y="10815"/>
                </a:cubicBezTo>
                <a:cubicBezTo>
                  <a:pt x="15367" y="10809"/>
                  <a:pt x="15224" y="10756"/>
                  <a:pt x="15180" y="10716"/>
                </a:cubicBezTo>
                <a:cubicBezTo>
                  <a:pt x="15091" y="10634"/>
                  <a:pt x="15061" y="10531"/>
                  <a:pt x="15032" y="10418"/>
                </a:cubicBezTo>
              </a:path>
              <a:path w="9179" h="2184">
                <a:moveTo>
                  <a:pt x="16173" y="8855"/>
                </a:moveTo>
                <a:cubicBezTo>
                  <a:pt x="16164" y="8958"/>
                  <a:pt x="16132" y="9009"/>
                  <a:pt x="16098" y="9103"/>
                </a:cubicBezTo>
                <a:cubicBezTo>
                  <a:pt x="16055" y="9222"/>
                  <a:pt x="16012" y="9329"/>
                  <a:pt x="15974" y="9451"/>
                </a:cubicBezTo>
                <a:cubicBezTo>
                  <a:pt x="15943" y="9549"/>
                  <a:pt x="15935" y="9669"/>
                  <a:pt x="15949" y="9773"/>
                </a:cubicBezTo>
                <a:cubicBezTo>
                  <a:pt x="15971" y="9935"/>
                  <a:pt x="16029" y="10063"/>
                  <a:pt x="16197" y="10071"/>
                </a:cubicBezTo>
                <a:cubicBezTo>
                  <a:pt x="16242" y="10071"/>
                  <a:pt x="16255" y="10074"/>
                  <a:pt x="16272" y="10046"/>
                </a:cubicBezTo>
              </a:path>
              <a:path w="9179" h="2184">
                <a:moveTo>
                  <a:pt x="16371" y="9376"/>
                </a:moveTo>
                <a:cubicBezTo>
                  <a:pt x="16439" y="9221"/>
                  <a:pt x="16416" y="9227"/>
                  <a:pt x="16570" y="9227"/>
                </a:cubicBezTo>
                <a:cubicBezTo>
                  <a:pt x="16671" y="9227"/>
                  <a:pt x="16644" y="9293"/>
                  <a:pt x="16644" y="9376"/>
                </a:cubicBezTo>
                <a:cubicBezTo>
                  <a:pt x="16644" y="9464"/>
                  <a:pt x="16600" y="9525"/>
                  <a:pt x="16545" y="9599"/>
                </a:cubicBezTo>
                <a:cubicBezTo>
                  <a:pt x="16493" y="9668"/>
                  <a:pt x="16402" y="9753"/>
                  <a:pt x="16421" y="9847"/>
                </a:cubicBezTo>
                <a:cubicBezTo>
                  <a:pt x="16436" y="9920"/>
                  <a:pt x="16507" y="9964"/>
                  <a:pt x="16570" y="9971"/>
                </a:cubicBezTo>
                <a:cubicBezTo>
                  <a:pt x="16663" y="9981"/>
                  <a:pt x="16744" y="9950"/>
                  <a:pt x="16818" y="9897"/>
                </a:cubicBezTo>
                <a:cubicBezTo>
                  <a:pt x="16834" y="9880"/>
                  <a:pt x="16851" y="9864"/>
                  <a:pt x="16867" y="9847"/>
                </a:cubicBezTo>
              </a:path>
              <a:path w="9179" h="2184">
                <a:moveTo>
                  <a:pt x="16892" y="8731"/>
                </a:moveTo>
                <a:cubicBezTo>
                  <a:pt x="16970" y="8845"/>
                  <a:pt x="17081" y="8956"/>
                  <a:pt x="17140" y="9079"/>
                </a:cubicBezTo>
                <a:cubicBezTo>
                  <a:pt x="17223" y="9251"/>
                  <a:pt x="17241" y="9488"/>
                  <a:pt x="17214" y="9674"/>
                </a:cubicBezTo>
                <a:cubicBezTo>
                  <a:pt x="17199" y="9778"/>
                  <a:pt x="17124" y="9822"/>
                  <a:pt x="17066" y="9897"/>
                </a:cubicBezTo>
                <a:cubicBezTo>
                  <a:pt x="17004" y="9977"/>
                  <a:pt x="16965" y="9973"/>
                  <a:pt x="16892" y="10046"/>
                </a:cubicBezTo>
                <a:cubicBezTo>
                  <a:pt x="16867" y="10046"/>
                  <a:pt x="16859" y="10046"/>
                  <a:pt x="16867" y="10071"/>
                </a:cubicBezTo>
              </a:path>
              <a:path w="9179" h="2184">
                <a:moveTo>
                  <a:pt x="17661" y="9475"/>
                </a:moveTo>
                <a:cubicBezTo>
                  <a:pt x="17738" y="9475"/>
                  <a:pt x="17865" y="9515"/>
                  <a:pt x="17934" y="9500"/>
                </a:cubicBezTo>
                <a:cubicBezTo>
                  <a:pt x="17974" y="9480"/>
                  <a:pt x="17980" y="9471"/>
                  <a:pt x="18008" y="9475"/>
                </a:cubicBezTo>
              </a:path>
              <a:path w="9179" h="2184">
                <a:moveTo>
                  <a:pt x="17711" y="9674"/>
                </a:moveTo>
                <a:cubicBezTo>
                  <a:pt x="17826" y="9682"/>
                  <a:pt x="17898" y="9684"/>
                  <a:pt x="18008" y="9674"/>
                </a:cubicBezTo>
              </a:path>
              <a:path w="9179" h="2184">
                <a:moveTo>
                  <a:pt x="18430" y="8930"/>
                </a:moveTo>
                <a:cubicBezTo>
                  <a:pt x="18556" y="8823"/>
                  <a:pt x="18580" y="8788"/>
                  <a:pt x="18752" y="8781"/>
                </a:cubicBezTo>
                <a:cubicBezTo>
                  <a:pt x="18820" y="8778"/>
                  <a:pt x="18880" y="8821"/>
                  <a:pt x="18926" y="8855"/>
                </a:cubicBezTo>
                <a:cubicBezTo>
                  <a:pt x="19005" y="8914"/>
                  <a:pt x="18974" y="9001"/>
                  <a:pt x="18951" y="9079"/>
                </a:cubicBezTo>
                <a:cubicBezTo>
                  <a:pt x="18923" y="9173"/>
                  <a:pt x="18881" y="9200"/>
                  <a:pt x="18802" y="9252"/>
                </a:cubicBezTo>
                <a:cubicBezTo>
                  <a:pt x="18733" y="9297"/>
                  <a:pt x="18683" y="9369"/>
                  <a:pt x="18604" y="9376"/>
                </a:cubicBezTo>
                <a:cubicBezTo>
                  <a:pt x="18554" y="9380"/>
                  <a:pt x="18554" y="9376"/>
                  <a:pt x="18504" y="9376"/>
                </a:cubicBezTo>
                <a:cubicBezTo>
                  <a:pt x="18583" y="9283"/>
                  <a:pt x="18608" y="9346"/>
                  <a:pt x="18703" y="9376"/>
                </a:cubicBezTo>
                <a:cubicBezTo>
                  <a:pt x="18817" y="9412"/>
                  <a:pt x="18814" y="9418"/>
                  <a:pt x="18876" y="9525"/>
                </a:cubicBezTo>
                <a:cubicBezTo>
                  <a:pt x="18928" y="9614"/>
                  <a:pt x="18992" y="9713"/>
                  <a:pt x="18976" y="9823"/>
                </a:cubicBezTo>
                <a:cubicBezTo>
                  <a:pt x="18965" y="9897"/>
                  <a:pt x="18924" y="10007"/>
                  <a:pt x="18852" y="10046"/>
                </a:cubicBezTo>
                <a:cubicBezTo>
                  <a:pt x="18802" y="10073"/>
                  <a:pt x="18736" y="10071"/>
                  <a:pt x="18678" y="10071"/>
                </a:cubicBezTo>
                <a:cubicBezTo>
                  <a:pt x="18578" y="10071"/>
                  <a:pt x="18540" y="10021"/>
                  <a:pt x="18479" y="9996"/>
                </a:cubicBezTo>
                <a:cubicBezTo>
                  <a:pt x="18417" y="9971"/>
                  <a:pt x="18386" y="9996"/>
                  <a:pt x="18355" y="9922"/>
                </a:cubicBezTo>
                <a:cubicBezTo>
                  <a:pt x="18355" y="9914"/>
                  <a:pt x="18355" y="9905"/>
                  <a:pt x="18355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8"/>
          <p:cNvSpPr/>
          <p:nvPr/>
        </p:nvSpPr>
        <p:spPr>
          <a:xfrm>
            <a:off x="1973160" y="3990960"/>
            <a:ext cx="1206720" cy="1019160"/>
          </a:xfrm>
          <a:custGeom>
            <a:avLst/>
            <a:gdLst/>
            <a:ahLst/>
            <a:rect l="l" t="t" r="r" b="b"/>
            <a:pathLst>
              <a:path w="3349" h="2828">
                <a:moveTo>
                  <a:pt x="5631" y="11088"/>
                </a:moveTo>
                <a:cubicBezTo>
                  <a:pt x="5631" y="11177"/>
                  <a:pt x="5632" y="11250"/>
                  <a:pt x="5606" y="11336"/>
                </a:cubicBezTo>
                <a:cubicBezTo>
                  <a:pt x="5568" y="11464"/>
                  <a:pt x="5561" y="11600"/>
                  <a:pt x="5531" y="11733"/>
                </a:cubicBezTo>
                <a:cubicBezTo>
                  <a:pt x="5498" y="11878"/>
                  <a:pt x="5486" y="12030"/>
                  <a:pt x="5482" y="12179"/>
                </a:cubicBezTo>
                <a:cubicBezTo>
                  <a:pt x="5479" y="12304"/>
                  <a:pt x="5498" y="12462"/>
                  <a:pt x="5556" y="12576"/>
                </a:cubicBezTo>
                <a:cubicBezTo>
                  <a:pt x="5603" y="12670"/>
                  <a:pt x="5672" y="12766"/>
                  <a:pt x="5755" y="12824"/>
                </a:cubicBezTo>
                <a:cubicBezTo>
                  <a:pt x="5876" y="12909"/>
                  <a:pt x="5941" y="12870"/>
                  <a:pt x="6077" y="12824"/>
                </a:cubicBezTo>
              </a:path>
              <a:path w="3349" h="2828">
                <a:moveTo>
                  <a:pt x="6325" y="12030"/>
                </a:moveTo>
                <a:cubicBezTo>
                  <a:pt x="6293" y="12119"/>
                  <a:pt x="6255" y="12184"/>
                  <a:pt x="6251" y="12278"/>
                </a:cubicBezTo>
                <a:cubicBezTo>
                  <a:pt x="6247" y="12379"/>
                  <a:pt x="6242" y="12480"/>
                  <a:pt x="6276" y="12576"/>
                </a:cubicBezTo>
                <a:cubicBezTo>
                  <a:pt x="6316" y="12687"/>
                  <a:pt x="6351" y="12739"/>
                  <a:pt x="6474" y="12774"/>
                </a:cubicBezTo>
                <a:cubicBezTo>
                  <a:pt x="6541" y="12793"/>
                  <a:pt x="6626" y="12733"/>
                  <a:pt x="6648" y="12675"/>
                </a:cubicBezTo>
                <a:cubicBezTo>
                  <a:pt x="6706" y="12523"/>
                  <a:pt x="6752" y="12346"/>
                  <a:pt x="6722" y="12179"/>
                </a:cubicBezTo>
                <a:cubicBezTo>
                  <a:pt x="6705" y="12087"/>
                  <a:pt x="6661" y="11999"/>
                  <a:pt x="6598" y="11931"/>
                </a:cubicBezTo>
                <a:cubicBezTo>
                  <a:pt x="6545" y="11874"/>
                  <a:pt x="6460" y="11811"/>
                  <a:pt x="6375" y="11832"/>
                </a:cubicBezTo>
                <a:cubicBezTo>
                  <a:pt x="6327" y="11844"/>
                  <a:pt x="6259" y="11958"/>
                  <a:pt x="6251" y="12005"/>
                </a:cubicBezTo>
                <a:cubicBezTo>
                  <a:pt x="6233" y="12109"/>
                  <a:pt x="6255" y="12257"/>
                  <a:pt x="6300" y="12353"/>
                </a:cubicBezTo>
                <a:cubicBezTo>
                  <a:pt x="6335" y="12429"/>
                  <a:pt x="6382" y="12503"/>
                  <a:pt x="6424" y="12576"/>
                </a:cubicBezTo>
              </a:path>
              <a:path w="3349" h="2828">
                <a:moveTo>
                  <a:pt x="7218" y="12080"/>
                </a:moveTo>
                <a:cubicBezTo>
                  <a:pt x="7238" y="11979"/>
                  <a:pt x="7268" y="11948"/>
                  <a:pt x="7193" y="11931"/>
                </a:cubicBezTo>
                <a:cubicBezTo>
                  <a:pt x="7133" y="11975"/>
                  <a:pt x="7065" y="12018"/>
                  <a:pt x="7020" y="12080"/>
                </a:cubicBezTo>
                <a:cubicBezTo>
                  <a:pt x="6968" y="12152"/>
                  <a:pt x="6970" y="12218"/>
                  <a:pt x="6970" y="12303"/>
                </a:cubicBezTo>
                <a:cubicBezTo>
                  <a:pt x="6970" y="12380"/>
                  <a:pt x="6987" y="12447"/>
                  <a:pt x="7045" y="12502"/>
                </a:cubicBezTo>
                <a:cubicBezTo>
                  <a:pt x="7094" y="12548"/>
                  <a:pt x="7160" y="12571"/>
                  <a:pt x="7218" y="12526"/>
                </a:cubicBezTo>
                <a:cubicBezTo>
                  <a:pt x="7291" y="12469"/>
                  <a:pt x="7292" y="12429"/>
                  <a:pt x="7317" y="12353"/>
                </a:cubicBezTo>
                <a:cubicBezTo>
                  <a:pt x="7345" y="12268"/>
                  <a:pt x="7334" y="12233"/>
                  <a:pt x="7317" y="12154"/>
                </a:cubicBezTo>
                <a:cubicBezTo>
                  <a:pt x="7266" y="12258"/>
                  <a:pt x="7247" y="12333"/>
                  <a:pt x="7243" y="12452"/>
                </a:cubicBezTo>
                <a:cubicBezTo>
                  <a:pt x="7238" y="12597"/>
                  <a:pt x="7258" y="12732"/>
                  <a:pt x="7268" y="12874"/>
                </a:cubicBezTo>
                <a:cubicBezTo>
                  <a:pt x="7279" y="13039"/>
                  <a:pt x="7289" y="13206"/>
                  <a:pt x="7293" y="13370"/>
                </a:cubicBezTo>
                <a:cubicBezTo>
                  <a:pt x="7296" y="13511"/>
                  <a:pt x="7295" y="13634"/>
                  <a:pt x="7243" y="13767"/>
                </a:cubicBezTo>
                <a:cubicBezTo>
                  <a:pt x="7215" y="13837"/>
                  <a:pt x="7175" y="13901"/>
                  <a:pt x="7094" y="13915"/>
                </a:cubicBezTo>
                <a:cubicBezTo>
                  <a:pt x="7004" y="13930"/>
                  <a:pt x="6962" y="13917"/>
                  <a:pt x="6921" y="13841"/>
                </a:cubicBezTo>
                <a:cubicBezTo>
                  <a:pt x="6899" y="13776"/>
                  <a:pt x="6891" y="13761"/>
                  <a:pt x="6896" y="13717"/>
                </a:cubicBezTo>
              </a:path>
              <a:path w="3349" h="2828">
                <a:moveTo>
                  <a:pt x="7665" y="12700"/>
                </a:moveTo>
                <a:cubicBezTo>
                  <a:pt x="7727" y="12662"/>
                  <a:pt x="7774" y="12680"/>
                  <a:pt x="7838" y="12725"/>
                </a:cubicBezTo>
                <a:cubicBezTo>
                  <a:pt x="7868" y="12755"/>
                  <a:pt x="7882" y="12766"/>
                  <a:pt x="7913" y="12774"/>
                </a:cubicBezTo>
                <a:cubicBezTo>
                  <a:pt x="7904" y="12834"/>
                  <a:pt x="7886" y="12881"/>
                  <a:pt x="7813" y="12898"/>
                </a:cubicBezTo>
                <a:cubicBezTo>
                  <a:pt x="7762" y="12898"/>
                  <a:pt x="7743" y="12899"/>
                  <a:pt x="7714" y="12923"/>
                </a:cubicBezTo>
                <a:cubicBezTo>
                  <a:pt x="7774" y="12950"/>
                  <a:pt x="7850" y="12963"/>
                  <a:pt x="7888" y="13022"/>
                </a:cubicBezTo>
                <a:cubicBezTo>
                  <a:pt x="7930" y="13087"/>
                  <a:pt x="7976" y="13112"/>
                  <a:pt x="7987" y="13196"/>
                </a:cubicBezTo>
                <a:cubicBezTo>
                  <a:pt x="7998" y="13282"/>
                  <a:pt x="7968" y="13349"/>
                  <a:pt x="7888" y="13370"/>
                </a:cubicBezTo>
                <a:cubicBezTo>
                  <a:pt x="7806" y="13392"/>
                  <a:pt x="7745" y="13391"/>
                  <a:pt x="7665" y="13345"/>
                </a:cubicBezTo>
                <a:cubicBezTo>
                  <a:pt x="7618" y="13318"/>
                  <a:pt x="7622" y="13292"/>
                  <a:pt x="7615" y="13246"/>
                </a:cubicBezTo>
              </a:path>
              <a:path w="3349" h="2828">
                <a:moveTo>
                  <a:pt x="8210" y="11609"/>
                </a:moveTo>
                <a:cubicBezTo>
                  <a:pt x="8210" y="11745"/>
                  <a:pt x="8204" y="11525"/>
                  <a:pt x="8210" y="11509"/>
                </a:cubicBezTo>
                <a:cubicBezTo>
                  <a:pt x="8228" y="11464"/>
                  <a:pt x="8372" y="11476"/>
                  <a:pt x="8409" y="11485"/>
                </a:cubicBezTo>
                <a:cubicBezTo>
                  <a:pt x="8481" y="11503"/>
                  <a:pt x="8560" y="11522"/>
                  <a:pt x="8632" y="11534"/>
                </a:cubicBezTo>
                <a:cubicBezTo>
                  <a:pt x="8678" y="11542"/>
                  <a:pt x="8734" y="11534"/>
                  <a:pt x="8781" y="11534"/>
                </a:cubicBezTo>
                <a:cubicBezTo>
                  <a:pt x="8747" y="11610"/>
                  <a:pt x="8725" y="11681"/>
                  <a:pt x="8706" y="11757"/>
                </a:cubicBezTo>
                <a:cubicBezTo>
                  <a:pt x="8682" y="11852"/>
                  <a:pt x="8682" y="11931"/>
                  <a:pt x="8682" y="12030"/>
                </a:cubicBezTo>
                <a:cubicBezTo>
                  <a:pt x="8682" y="12165"/>
                  <a:pt x="8719" y="12324"/>
                  <a:pt x="8756" y="12452"/>
                </a:cubicBezTo>
                <a:cubicBezTo>
                  <a:pt x="8783" y="12545"/>
                  <a:pt x="8811" y="12634"/>
                  <a:pt x="8830" y="12725"/>
                </a:cubicBezTo>
                <a:cubicBezTo>
                  <a:pt x="8830" y="12733"/>
                  <a:pt x="8830" y="12742"/>
                  <a:pt x="8830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9"/>
          <p:cNvSpPr/>
          <p:nvPr/>
        </p:nvSpPr>
        <p:spPr>
          <a:xfrm>
            <a:off x="3367080" y="4402080"/>
            <a:ext cx="18720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9351" y="12328"/>
                </a:moveTo>
                <a:cubicBezTo>
                  <a:pt x="9490" y="12304"/>
                  <a:pt x="9575" y="12284"/>
                  <a:pt x="9699" y="12229"/>
                </a:cubicBezTo>
              </a:path>
              <a:path w="522" h="298">
                <a:moveTo>
                  <a:pt x="9624" y="12477"/>
                </a:moveTo>
                <a:cubicBezTo>
                  <a:pt x="9748" y="12526"/>
                  <a:pt x="9789" y="12542"/>
                  <a:pt x="987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10"/>
          <p:cNvSpPr/>
          <p:nvPr/>
        </p:nvSpPr>
        <p:spPr>
          <a:xfrm>
            <a:off x="3768840" y="4106880"/>
            <a:ext cx="1116000" cy="876240"/>
          </a:xfrm>
          <a:custGeom>
            <a:avLst/>
            <a:gdLst/>
            <a:ahLst/>
            <a:rect l="l" t="t" r="r" b="b"/>
            <a:pathLst>
              <a:path w="3101" h="2432">
                <a:moveTo>
                  <a:pt x="10567" y="11410"/>
                </a:moveTo>
                <a:cubicBezTo>
                  <a:pt x="10556" y="11508"/>
                  <a:pt x="10555" y="11609"/>
                  <a:pt x="10542" y="11708"/>
                </a:cubicBezTo>
                <a:cubicBezTo>
                  <a:pt x="10519" y="11889"/>
                  <a:pt x="10517" y="12073"/>
                  <a:pt x="10492" y="12254"/>
                </a:cubicBezTo>
                <a:cubicBezTo>
                  <a:pt x="10473" y="12389"/>
                  <a:pt x="10468" y="12513"/>
                  <a:pt x="10468" y="12650"/>
                </a:cubicBezTo>
                <a:cubicBezTo>
                  <a:pt x="10468" y="12736"/>
                  <a:pt x="10465" y="12800"/>
                  <a:pt x="10517" y="12874"/>
                </a:cubicBezTo>
                <a:cubicBezTo>
                  <a:pt x="10554" y="12926"/>
                  <a:pt x="10634" y="12945"/>
                  <a:pt x="10691" y="12948"/>
                </a:cubicBezTo>
                <a:cubicBezTo>
                  <a:pt x="10770" y="12952"/>
                  <a:pt x="10842" y="12953"/>
                  <a:pt x="10914" y="12923"/>
                </a:cubicBezTo>
                <a:cubicBezTo>
                  <a:pt x="10931" y="12915"/>
                  <a:pt x="10947" y="12906"/>
                  <a:pt x="10964" y="12898"/>
                </a:cubicBezTo>
              </a:path>
              <a:path w="3101" h="2432">
                <a:moveTo>
                  <a:pt x="11237" y="12278"/>
                </a:moveTo>
                <a:cubicBezTo>
                  <a:pt x="11187" y="12341"/>
                  <a:pt x="11169" y="12404"/>
                  <a:pt x="11137" y="12477"/>
                </a:cubicBezTo>
                <a:cubicBezTo>
                  <a:pt x="11099" y="12564"/>
                  <a:pt x="11144" y="12625"/>
                  <a:pt x="11187" y="12700"/>
                </a:cubicBezTo>
                <a:cubicBezTo>
                  <a:pt x="11228" y="12771"/>
                  <a:pt x="11279" y="12795"/>
                  <a:pt x="11361" y="12799"/>
                </a:cubicBezTo>
                <a:cubicBezTo>
                  <a:pt x="11462" y="12803"/>
                  <a:pt x="11503" y="12771"/>
                  <a:pt x="11534" y="12675"/>
                </a:cubicBezTo>
                <a:cubicBezTo>
                  <a:pt x="11566" y="12576"/>
                  <a:pt x="11576" y="12431"/>
                  <a:pt x="11559" y="12328"/>
                </a:cubicBezTo>
                <a:cubicBezTo>
                  <a:pt x="11542" y="12225"/>
                  <a:pt x="11423" y="12069"/>
                  <a:pt x="11311" y="12055"/>
                </a:cubicBezTo>
                <a:cubicBezTo>
                  <a:pt x="11229" y="12044"/>
                  <a:pt x="11085" y="12043"/>
                  <a:pt x="11063" y="12154"/>
                </a:cubicBezTo>
                <a:cubicBezTo>
                  <a:pt x="11042" y="12261"/>
                  <a:pt x="11112" y="12345"/>
                  <a:pt x="11187" y="12402"/>
                </a:cubicBezTo>
                <a:cubicBezTo>
                  <a:pt x="11212" y="12419"/>
                  <a:pt x="11236" y="12435"/>
                  <a:pt x="11261" y="12452"/>
                </a:cubicBezTo>
              </a:path>
              <a:path w="3101" h="2432">
                <a:moveTo>
                  <a:pt x="12080" y="12353"/>
                </a:moveTo>
                <a:cubicBezTo>
                  <a:pt x="12088" y="12328"/>
                  <a:pt x="12097" y="12303"/>
                  <a:pt x="12105" y="12278"/>
                </a:cubicBezTo>
                <a:cubicBezTo>
                  <a:pt x="12031" y="12236"/>
                  <a:pt x="11979" y="12247"/>
                  <a:pt x="11906" y="12303"/>
                </a:cubicBezTo>
                <a:cubicBezTo>
                  <a:pt x="11820" y="12369"/>
                  <a:pt x="11775" y="12444"/>
                  <a:pt x="11757" y="12551"/>
                </a:cubicBezTo>
                <a:cubicBezTo>
                  <a:pt x="11746" y="12619"/>
                  <a:pt x="11815" y="12712"/>
                  <a:pt x="11881" y="12725"/>
                </a:cubicBezTo>
                <a:cubicBezTo>
                  <a:pt x="11969" y="12743"/>
                  <a:pt x="11994" y="12693"/>
                  <a:pt x="12030" y="12626"/>
                </a:cubicBezTo>
                <a:cubicBezTo>
                  <a:pt x="12059" y="12571"/>
                  <a:pt x="12120" y="12492"/>
                  <a:pt x="12105" y="12427"/>
                </a:cubicBezTo>
                <a:cubicBezTo>
                  <a:pt x="12083" y="12384"/>
                  <a:pt x="12079" y="12372"/>
                  <a:pt x="12055" y="12353"/>
                </a:cubicBezTo>
                <a:cubicBezTo>
                  <a:pt x="12029" y="12421"/>
                  <a:pt x="11995" y="12501"/>
                  <a:pt x="12005" y="12576"/>
                </a:cubicBezTo>
                <a:cubicBezTo>
                  <a:pt x="12025" y="12726"/>
                  <a:pt x="12070" y="12870"/>
                  <a:pt x="12080" y="13022"/>
                </a:cubicBezTo>
                <a:cubicBezTo>
                  <a:pt x="12090" y="13174"/>
                  <a:pt x="12127" y="13372"/>
                  <a:pt x="12080" y="13519"/>
                </a:cubicBezTo>
                <a:cubicBezTo>
                  <a:pt x="12054" y="13602"/>
                  <a:pt x="11962" y="13745"/>
                  <a:pt x="11881" y="13791"/>
                </a:cubicBezTo>
                <a:cubicBezTo>
                  <a:pt x="11812" y="13830"/>
                  <a:pt x="11704" y="13867"/>
                  <a:pt x="11633" y="13816"/>
                </a:cubicBezTo>
                <a:cubicBezTo>
                  <a:pt x="11538" y="13747"/>
                  <a:pt x="11553" y="13653"/>
                  <a:pt x="11534" y="13543"/>
                </a:cubicBezTo>
              </a:path>
              <a:path w="3101" h="2432">
                <a:moveTo>
                  <a:pt x="12452" y="11757"/>
                </a:moveTo>
                <a:cubicBezTo>
                  <a:pt x="12442" y="11848"/>
                  <a:pt x="12403" y="11917"/>
                  <a:pt x="12378" y="12005"/>
                </a:cubicBezTo>
                <a:cubicBezTo>
                  <a:pt x="12345" y="12118"/>
                  <a:pt x="12315" y="12284"/>
                  <a:pt x="12328" y="12402"/>
                </a:cubicBezTo>
                <a:cubicBezTo>
                  <a:pt x="12344" y="12543"/>
                  <a:pt x="12380" y="12687"/>
                  <a:pt x="12477" y="12799"/>
                </a:cubicBezTo>
                <a:cubicBezTo>
                  <a:pt x="12525" y="12823"/>
                  <a:pt x="12539" y="12832"/>
                  <a:pt x="12576" y="12824"/>
                </a:cubicBezTo>
              </a:path>
              <a:path w="3101" h="2432">
                <a:moveTo>
                  <a:pt x="12675" y="11931"/>
                </a:moveTo>
                <a:cubicBezTo>
                  <a:pt x="12764" y="11882"/>
                  <a:pt x="12820" y="11862"/>
                  <a:pt x="12923" y="11857"/>
                </a:cubicBezTo>
                <a:cubicBezTo>
                  <a:pt x="12968" y="11855"/>
                  <a:pt x="13099" y="11852"/>
                  <a:pt x="13122" y="11906"/>
                </a:cubicBezTo>
                <a:cubicBezTo>
                  <a:pt x="13153" y="11980"/>
                  <a:pt x="13059" y="12059"/>
                  <a:pt x="13047" y="12129"/>
                </a:cubicBezTo>
                <a:cubicBezTo>
                  <a:pt x="13027" y="12246"/>
                  <a:pt x="13005" y="12381"/>
                  <a:pt x="13022" y="12502"/>
                </a:cubicBezTo>
                <a:cubicBezTo>
                  <a:pt x="13032" y="12574"/>
                  <a:pt x="13054" y="12664"/>
                  <a:pt x="13097" y="12725"/>
                </a:cubicBezTo>
                <a:cubicBezTo>
                  <a:pt x="13125" y="12753"/>
                  <a:pt x="13138" y="12762"/>
                  <a:pt x="13171" y="12750"/>
                </a:cubicBezTo>
              </a:path>
              <a:path w="3101" h="2432">
                <a:moveTo>
                  <a:pt x="13271" y="11485"/>
                </a:moveTo>
                <a:cubicBezTo>
                  <a:pt x="13387" y="11697"/>
                  <a:pt x="13485" y="11917"/>
                  <a:pt x="13543" y="12154"/>
                </a:cubicBezTo>
                <a:cubicBezTo>
                  <a:pt x="13597" y="12374"/>
                  <a:pt x="13578" y="12590"/>
                  <a:pt x="13494" y="12799"/>
                </a:cubicBezTo>
                <a:cubicBezTo>
                  <a:pt x="13463" y="12875"/>
                  <a:pt x="13380" y="12999"/>
                  <a:pt x="13295" y="13022"/>
                </a:cubicBezTo>
                <a:cubicBezTo>
                  <a:pt x="13236" y="13022"/>
                  <a:pt x="13223" y="13013"/>
                  <a:pt x="13271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11"/>
          <p:cNvSpPr/>
          <p:nvPr/>
        </p:nvSpPr>
        <p:spPr>
          <a:xfrm>
            <a:off x="5045040" y="4116240"/>
            <a:ext cx="1509840" cy="839880"/>
          </a:xfrm>
          <a:custGeom>
            <a:avLst/>
            <a:gdLst/>
            <a:ahLst/>
            <a:rect l="l" t="t" r="r" b="b"/>
            <a:pathLst>
              <a:path w="4193" h="2333">
                <a:moveTo>
                  <a:pt x="14288" y="11460"/>
                </a:moveTo>
                <a:cubicBezTo>
                  <a:pt x="14322" y="11564"/>
                  <a:pt x="14304" y="11672"/>
                  <a:pt x="14288" y="11782"/>
                </a:cubicBezTo>
                <a:cubicBezTo>
                  <a:pt x="14261" y="11968"/>
                  <a:pt x="14197" y="12143"/>
                  <a:pt x="14163" y="12328"/>
                </a:cubicBezTo>
                <a:cubicBezTo>
                  <a:pt x="14130" y="12510"/>
                  <a:pt x="14059" y="12689"/>
                  <a:pt x="14039" y="12874"/>
                </a:cubicBezTo>
                <a:cubicBezTo>
                  <a:pt x="14032" y="12940"/>
                  <a:pt x="14020" y="13057"/>
                  <a:pt x="14039" y="13097"/>
                </a:cubicBezTo>
              </a:path>
              <a:path w="4193" h="2333">
                <a:moveTo>
                  <a:pt x="14635" y="11609"/>
                </a:moveTo>
                <a:cubicBezTo>
                  <a:pt x="14635" y="11778"/>
                  <a:pt x="14602" y="11967"/>
                  <a:pt x="14610" y="12129"/>
                </a:cubicBezTo>
                <a:cubicBezTo>
                  <a:pt x="14617" y="12278"/>
                  <a:pt x="14614" y="12402"/>
                  <a:pt x="14610" y="12551"/>
                </a:cubicBezTo>
                <a:cubicBezTo>
                  <a:pt x="14608" y="12632"/>
                  <a:pt x="14583" y="12784"/>
                  <a:pt x="14635" y="12849"/>
                </a:cubicBezTo>
                <a:cubicBezTo>
                  <a:pt x="14677" y="12901"/>
                  <a:pt x="14740" y="12873"/>
                  <a:pt x="14784" y="12849"/>
                </a:cubicBezTo>
                <a:cubicBezTo>
                  <a:pt x="14873" y="12801"/>
                  <a:pt x="14969" y="12817"/>
                  <a:pt x="15056" y="12774"/>
                </a:cubicBezTo>
                <a:cubicBezTo>
                  <a:pt x="15081" y="12758"/>
                  <a:pt x="15106" y="12741"/>
                  <a:pt x="15131" y="12725"/>
                </a:cubicBezTo>
              </a:path>
              <a:path w="4193" h="2333">
                <a:moveTo>
                  <a:pt x="15379" y="12402"/>
                </a:moveTo>
                <a:cubicBezTo>
                  <a:pt x="15298" y="12418"/>
                  <a:pt x="15291" y="12455"/>
                  <a:pt x="15255" y="12526"/>
                </a:cubicBezTo>
                <a:cubicBezTo>
                  <a:pt x="15215" y="12605"/>
                  <a:pt x="15230" y="12699"/>
                  <a:pt x="15280" y="12774"/>
                </a:cubicBezTo>
                <a:cubicBezTo>
                  <a:pt x="15328" y="12847"/>
                  <a:pt x="15393" y="12893"/>
                  <a:pt x="15478" y="12898"/>
                </a:cubicBezTo>
                <a:cubicBezTo>
                  <a:pt x="15583" y="12904"/>
                  <a:pt x="15618" y="12838"/>
                  <a:pt x="15652" y="12750"/>
                </a:cubicBezTo>
                <a:cubicBezTo>
                  <a:pt x="15687" y="12660"/>
                  <a:pt x="15733" y="12524"/>
                  <a:pt x="15701" y="12427"/>
                </a:cubicBezTo>
                <a:cubicBezTo>
                  <a:pt x="15667" y="12324"/>
                  <a:pt x="15591" y="12239"/>
                  <a:pt x="15503" y="12179"/>
                </a:cubicBezTo>
                <a:cubicBezTo>
                  <a:pt x="15455" y="12146"/>
                  <a:pt x="15350" y="12132"/>
                  <a:pt x="15304" y="12179"/>
                </a:cubicBezTo>
                <a:cubicBezTo>
                  <a:pt x="15241" y="12243"/>
                  <a:pt x="15337" y="12334"/>
                  <a:pt x="15379" y="12378"/>
                </a:cubicBezTo>
                <a:cubicBezTo>
                  <a:pt x="15431" y="12429"/>
                  <a:pt x="15450" y="12446"/>
                  <a:pt x="15503" y="12452"/>
                </a:cubicBezTo>
              </a:path>
              <a:path w="4193" h="2333">
                <a:moveTo>
                  <a:pt x="15949" y="12378"/>
                </a:moveTo>
                <a:cubicBezTo>
                  <a:pt x="15997" y="12306"/>
                  <a:pt x="16015" y="12285"/>
                  <a:pt x="15974" y="12229"/>
                </a:cubicBezTo>
                <a:cubicBezTo>
                  <a:pt x="15898" y="12219"/>
                  <a:pt x="15819" y="12187"/>
                  <a:pt x="15751" y="12254"/>
                </a:cubicBezTo>
                <a:cubicBezTo>
                  <a:pt x="15713" y="12291"/>
                  <a:pt x="15678" y="12400"/>
                  <a:pt x="15701" y="12452"/>
                </a:cubicBezTo>
                <a:cubicBezTo>
                  <a:pt x="15734" y="12526"/>
                  <a:pt x="15791" y="12607"/>
                  <a:pt x="15875" y="12626"/>
                </a:cubicBezTo>
                <a:cubicBezTo>
                  <a:pt x="15964" y="12646"/>
                  <a:pt x="16012" y="12607"/>
                  <a:pt x="16073" y="12551"/>
                </a:cubicBezTo>
                <a:cubicBezTo>
                  <a:pt x="16126" y="12501"/>
                  <a:pt x="16117" y="12472"/>
                  <a:pt x="16123" y="12402"/>
                </a:cubicBezTo>
                <a:cubicBezTo>
                  <a:pt x="16034" y="12382"/>
                  <a:pt x="16051" y="12546"/>
                  <a:pt x="16049" y="12626"/>
                </a:cubicBezTo>
                <a:cubicBezTo>
                  <a:pt x="16045" y="12805"/>
                  <a:pt x="16068" y="12969"/>
                  <a:pt x="16098" y="13146"/>
                </a:cubicBezTo>
                <a:cubicBezTo>
                  <a:pt x="16119" y="13270"/>
                  <a:pt x="16171" y="13518"/>
                  <a:pt x="16123" y="13643"/>
                </a:cubicBezTo>
                <a:cubicBezTo>
                  <a:pt x="16099" y="13704"/>
                  <a:pt x="16020" y="13780"/>
                  <a:pt x="15949" y="13767"/>
                </a:cubicBezTo>
                <a:cubicBezTo>
                  <a:pt x="15816" y="13744"/>
                  <a:pt x="15782" y="13665"/>
                  <a:pt x="15751" y="13543"/>
                </a:cubicBezTo>
                <a:cubicBezTo>
                  <a:pt x="15726" y="13420"/>
                  <a:pt x="15718" y="13379"/>
                  <a:pt x="15726" y="13295"/>
                </a:cubicBezTo>
              </a:path>
              <a:path w="4193" h="2333">
                <a:moveTo>
                  <a:pt x="16371" y="11683"/>
                </a:moveTo>
                <a:cubicBezTo>
                  <a:pt x="16363" y="11827"/>
                  <a:pt x="16346" y="11958"/>
                  <a:pt x="16346" y="12105"/>
                </a:cubicBezTo>
                <a:cubicBezTo>
                  <a:pt x="16346" y="12262"/>
                  <a:pt x="16343" y="12425"/>
                  <a:pt x="16396" y="12576"/>
                </a:cubicBezTo>
                <a:cubicBezTo>
                  <a:pt x="16426" y="12662"/>
                  <a:pt x="16488" y="12754"/>
                  <a:pt x="16545" y="12824"/>
                </a:cubicBezTo>
              </a:path>
              <a:path w="4193" h="2333">
                <a:moveTo>
                  <a:pt x="16718" y="11956"/>
                </a:moveTo>
                <a:cubicBezTo>
                  <a:pt x="16810" y="11910"/>
                  <a:pt x="16912" y="11831"/>
                  <a:pt x="17016" y="11906"/>
                </a:cubicBezTo>
                <a:cubicBezTo>
                  <a:pt x="17058" y="11948"/>
                  <a:pt x="17066" y="11955"/>
                  <a:pt x="17090" y="11981"/>
                </a:cubicBezTo>
                <a:cubicBezTo>
                  <a:pt x="17036" y="12058"/>
                  <a:pt x="17011" y="12055"/>
                  <a:pt x="16917" y="12055"/>
                </a:cubicBezTo>
                <a:cubicBezTo>
                  <a:pt x="16879" y="12055"/>
                  <a:pt x="16868" y="12079"/>
                  <a:pt x="16842" y="12105"/>
                </a:cubicBezTo>
                <a:cubicBezTo>
                  <a:pt x="16909" y="12163"/>
                  <a:pt x="17008" y="12212"/>
                  <a:pt x="17066" y="12278"/>
                </a:cubicBezTo>
                <a:cubicBezTo>
                  <a:pt x="17137" y="12359"/>
                  <a:pt x="17162" y="12451"/>
                  <a:pt x="17115" y="12551"/>
                </a:cubicBezTo>
                <a:cubicBezTo>
                  <a:pt x="17085" y="12615"/>
                  <a:pt x="17041" y="12647"/>
                  <a:pt x="16966" y="12626"/>
                </a:cubicBezTo>
                <a:cubicBezTo>
                  <a:pt x="16856" y="12595"/>
                  <a:pt x="16795" y="12511"/>
                  <a:pt x="16768" y="12402"/>
                </a:cubicBezTo>
                <a:cubicBezTo>
                  <a:pt x="16768" y="12377"/>
                  <a:pt x="16768" y="12353"/>
                  <a:pt x="16768" y="12328"/>
                </a:cubicBezTo>
              </a:path>
              <a:path w="4193" h="2333">
                <a:moveTo>
                  <a:pt x="17066" y="11435"/>
                </a:moveTo>
                <a:cubicBezTo>
                  <a:pt x="17256" y="11607"/>
                  <a:pt x="17317" y="11719"/>
                  <a:pt x="17413" y="11956"/>
                </a:cubicBezTo>
                <a:cubicBezTo>
                  <a:pt x="17491" y="12149"/>
                  <a:pt x="17540" y="12339"/>
                  <a:pt x="17512" y="12551"/>
                </a:cubicBezTo>
                <a:cubicBezTo>
                  <a:pt x="17497" y="12662"/>
                  <a:pt x="17424" y="12828"/>
                  <a:pt x="17338" y="12898"/>
                </a:cubicBezTo>
                <a:cubicBezTo>
                  <a:pt x="17202" y="13008"/>
                  <a:pt x="17362" y="12651"/>
                  <a:pt x="17363" y="12650"/>
                </a:cubicBezTo>
              </a:path>
              <a:path w="4193" h="2333">
                <a:moveTo>
                  <a:pt x="17884" y="12179"/>
                </a:moveTo>
                <a:cubicBezTo>
                  <a:pt x="17996" y="12185"/>
                  <a:pt x="18095" y="12204"/>
                  <a:pt x="18207" y="12204"/>
                </a:cubicBezTo>
              </a:path>
              <a:path w="4193" h="2333">
                <a:moveTo>
                  <a:pt x="17884" y="12378"/>
                </a:moveTo>
                <a:cubicBezTo>
                  <a:pt x="18023" y="12437"/>
                  <a:pt x="18042" y="12462"/>
                  <a:pt x="18132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write into a change of base and evalu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k 4"/>
          <p:cNvSpPr/>
          <p:nvPr/>
        </p:nvSpPr>
        <p:spPr>
          <a:xfrm>
            <a:off x="2401920" y="1677960"/>
            <a:ext cx="1116000" cy="331920"/>
          </a:xfrm>
          <a:custGeom>
            <a:avLst/>
            <a:gdLst/>
            <a:ahLst/>
            <a:rect l="l" t="t" r="r" b="b"/>
            <a:pathLst>
              <a:path w="3102" h="919">
                <a:moveTo>
                  <a:pt x="6672" y="5085"/>
                </a:moveTo>
                <a:cubicBezTo>
                  <a:pt x="6727" y="5052"/>
                  <a:pt x="6778" y="5060"/>
                  <a:pt x="6846" y="5060"/>
                </a:cubicBezTo>
                <a:cubicBezTo>
                  <a:pt x="6962" y="5060"/>
                  <a:pt x="7077" y="5060"/>
                  <a:pt x="7193" y="5060"/>
                </a:cubicBezTo>
              </a:path>
              <a:path w="3102" h="919">
                <a:moveTo>
                  <a:pt x="6747" y="5259"/>
                </a:moveTo>
                <a:cubicBezTo>
                  <a:pt x="6823" y="5287"/>
                  <a:pt x="6887" y="5283"/>
                  <a:pt x="6970" y="5283"/>
                </a:cubicBezTo>
                <a:cubicBezTo>
                  <a:pt x="7069" y="5283"/>
                  <a:pt x="7169" y="5283"/>
                  <a:pt x="7268" y="5283"/>
                </a:cubicBezTo>
              </a:path>
              <a:path w="3102" h="919">
                <a:moveTo>
                  <a:pt x="7491" y="4862"/>
                </a:moveTo>
                <a:cubicBezTo>
                  <a:pt x="7538" y="4824"/>
                  <a:pt x="7568" y="4771"/>
                  <a:pt x="7615" y="4738"/>
                </a:cubicBezTo>
                <a:cubicBezTo>
                  <a:pt x="7679" y="4693"/>
                  <a:pt x="7711" y="4688"/>
                  <a:pt x="7789" y="4688"/>
                </a:cubicBezTo>
                <a:cubicBezTo>
                  <a:pt x="7879" y="4688"/>
                  <a:pt x="7880" y="4738"/>
                  <a:pt x="7913" y="4812"/>
                </a:cubicBezTo>
                <a:cubicBezTo>
                  <a:pt x="7944" y="4880"/>
                  <a:pt x="7938" y="4936"/>
                  <a:pt x="7938" y="5011"/>
                </a:cubicBezTo>
                <a:cubicBezTo>
                  <a:pt x="7938" y="5106"/>
                  <a:pt x="7896" y="5171"/>
                  <a:pt x="7863" y="5259"/>
                </a:cubicBezTo>
                <a:cubicBezTo>
                  <a:pt x="7835" y="5333"/>
                  <a:pt x="7799" y="5430"/>
                  <a:pt x="7739" y="5482"/>
                </a:cubicBezTo>
                <a:cubicBezTo>
                  <a:pt x="7710" y="5507"/>
                  <a:pt x="7599" y="5572"/>
                  <a:pt x="7565" y="5581"/>
                </a:cubicBezTo>
                <a:cubicBezTo>
                  <a:pt x="7481" y="5604"/>
                  <a:pt x="7470" y="5533"/>
                  <a:pt x="7491" y="5482"/>
                </a:cubicBezTo>
                <a:cubicBezTo>
                  <a:pt x="7513" y="5428"/>
                  <a:pt x="7550" y="5398"/>
                  <a:pt x="7590" y="5358"/>
                </a:cubicBezTo>
                <a:cubicBezTo>
                  <a:pt x="7598" y="5350"/>
                  <a:pt x="7607" y="5341"/>
                  <a:pt x="7615" y="5333"/>
                </a:cubicBezTo>
                <a:cubicBezTo>
                  <a:pt x="7683" y="5388"/>
                  <a:pt x="7750" y="5418"/>
                  <a:pt x="7813" y="5482"/>
                </a:cubicBezTo>
                <a:cubicBezTo>
                  <a:pt x="7848" y="5518"/>
                  <a:pt x="7862" y="5536"/>
                  <a:pt x="7888" y="5581"/>
                </a:cubicBezTo>
              </a:path>
              <a:path w="3102" h="919">
                <a:moveTo>
                  <a:pt x="8111" y="5457"/>
                </a:moveTo>
                <a:cubicBezTo>
                  <a:pt x="8087" y="5505"/>
                  <a:pt x="8079" y="5519"/>
                  <a:pt x="8086" y="5556"/>
                </a:cubicBezTo>
                <a:cubicBezTo>
                  <a:pt x="8139" y="5556"/>
                  <a:pt x="8240" y="5574"/>
                  <a:pt x="8210" y="5482"/>
                </a:cubicBezTo>
                <a:cubicBezTo>
                  <a:pt x="8185" y="5406"/>
                  <a:pt x="8111" y="5482"/>
                  <a:pt x="8086" y="5507"/>
                </a:cubicBezTo>
              </a:path>
              <a:path w="3102" h="919">
                <a:moveTo>
                  <a:pt x="8632" y="4787"/>
                </a:moveTo>
                <a:cubicBezTo>
                  <a:pt x="8625" y="4854"/>
                  <a:pt x="8623" y="4909"/>
                  <a:pt x="8582" y="4961"/>
                </a:cubicBezTo>
                <a:cubicBezTo>
                  <a:pt x="8551" y="5001"/>
                  <a:pt x="8531" y="5039"/>
                  <a:pt x="8508" y="5085"/>
                </a:cubicBezTo>
                <a:cubicBezTo>
                  <a:pt x="8568" y="5121"/>
                  <a:pt x="8631" y="5110"/>
                  <a:pt x="8706" y="5110"/>
                </a:cubicBezTo>
                <a:cubicBezTo>
                  <a:pt x="8784" y="5110"/>
                  <a:pt x="8827" y="5136"/>
                  <a:pt x="8905" y="5110"/>
                </a:cubicBezTo>
                <a:cubicBezTo>
                  <a:pt x="8921" y="5102"/>
                  <a:pt x="8938" y="5093"/>
                  <a:pt x="8954" y="5085"/>
                </a:cubicBezTo>
              </a:path>
              <a:path w="3102" h="919">
                <a:moveTo>
                  <a:pt x="8905" y="4663"/>
                </a:moveTo>
                <a:cubicBezTo>
                  <a:pt x="8887" y="4769"/>
                  <a:pt x="8867" y="4881"/>
                  <a:pt x="8855" y="4986"/>
                </a:cubicBezTo>
                <a:cubicBezTo>
                  <a:pt x="8843" y="5086"/>
                  <a:pt x="8844" y="5185"/>
                  <a:pt x="8830" y="5283"/>
                </a:cubicBezTo>
                <a:cubicBezTo>
                  <a:pt x="8823" y="5333"/>
                  <a:pt x="8830" y="5541"/>
                  <a:pt x="8830" y="5507"/>
                </a:cubicBezTo>
              </a:path>
              <a:path w="3102" h="919">
                <a:moveTo>
                  <a:pt x="9252" y="4762"/>
                </a:moveTo>
                <a:cubicBezTo>
                  <a:pt x="9350" y="4762"/>
                  <a:pt x="9430" y="4743"/>
                  <a:pt x="9525" y="4738"/>
                </a:cubicBezTo>
                <a:cubicBezTo>
                  <a:pt x="9588" y="4735"/>
                  <a:pt x="9621" y="4726"/>
                  <a:pt x="9674" y="4713"/>
                </a:cubicBezTo>
              </a:path>
              <a:path w="3102" h="919">
                <a:moveTo>
                  <a:pt x="9351" y="4713"/>
                </a:moveTo>
                <a:cubicBezTo>
                  <a:pt x="9302" y="4834"/>
                  <a:pt x="9277" y="4886"/>
                  <a:pt x="9277" y="5011"/>
                </a:cubicBezTo>
                <a:cubicBezTo>
                  <a:pt x="9277" y="5062"/>
                  <a:pt x="9278" y="5081"/>
                  <a:pt x="9302" y="5110"/>
                </a:cubicBezTo>
                <a:cubicBezTo>
                  <a:pt x="9363" y="5092"/>
                  <a:pt x="9385" y="5028"/>
                  <a:pt x="9451" y="5011"/>
                </a:cubicBezTo>
                <a:cubicBezTo>
                  <a:pt x="9509" y="4996"/>
                  <a:pt x="9571" y="4985"/>
                  <a:pt x="9624" y="5011"/>
                </a:cubicBezTo>
                <a:cubicBezTo>
                  <a:pt x="9696" y="5046"/>
                  <a:pt x="9733" y="5103"/>
                  <a:pt x="9748" y="5184"/>
                </a:cubicBezTo>
                <a:cubicBezTo>
                  <a:pt x="9764" y="5270"/>
                  <a:pt x="9791" y="5347"/>
                  <a:pt x="9748" y="5432"/>
                </a:cubicBezTo>
                <a:cubicBezTo>
                  <a:pt x="9721" y="5486"/>
                  <a:pt x="9621" y="5542"/>
                  <a:pt x="9575" y="5556"/>
                </a:cubicBezTo>
                <a:cubicBezTo>
                  <a:pt x="9466" y="5589"/>
                  <a:pt x="9291" y="5556"/>
                  <a:pt x="9178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5"/>
          <p:cNvSpPr/>
          <p:nvPr/>
        </p:nvSpPr>
        <p:spPr>
          <a:xfrm>
            <a:off x="2133720" y="239400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5928" y="6672"/>
                </a:moveTo>
                <a:cubicBezTo>
                  <a:pt x="5994" y="6672"/>
                  <a:pt x="6048" y="6658"/>
                  <a:pt x="6102" y="6648"/>
                </a:cubicBezTo>
                <a:cubicBezTo>
                  <a:pt x="6119" y="6648"/>
                  <a:pt x="6135" y="6648"/>
                  <a:pt x="6152" y="6648"/>
                </a:cubicBezTo>
              </a:path>
              <a:path w="274" h="199">
                <a:moveTo>
                  <a:pt x="6052" y="6846"/>
                </a:moveTo>
                <a:cubicBezTo>
                  <a:pt x="6102" y="6846"/>
                  <a:pt x="6151" y="6846"/>
                  <a:pt x="6201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6"/>
          <p:cNvSpPr/>
          <p:nvPr/>
        </p:nvSpPr>
        <p:spPr>
          <a:xfrm>
            <a:off x="2517840" y="2232000"/>
            <a:ext cx="822240" cy="33984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7069" y="7045"/>
                </a:moveTo>
                <a:cubicBezTo>
                  <a:pt x="7040" y="7095"/>
                  <a:pt x="7040" y="7094"/>
                  <a:pt x="7069" y="7144"/>
                </a:cubicBezTo>
                <a:cubicBezTo>
                  <a:pt x="7079" y="7137"/>
                  <a:pt x="7219" y="6995"/>
                  <a:pt x="7119" y="6995"/>
                </a:cubicBezTo>
                <a:cubicBezTo>
                  <a:pt x="7037" y="6995"/>
                  <a:pt x="6999" y="7066"/>
                  <a:pt x="7020" y="7119"/>
                </a:cubicBezTo>
                <a:cubicBezTo>
                  <a:pt x="7076" y="7071"/>
                  <a:pt x="7083" y="7086"/>
                  <a:pt x="7045" y="7020"/>
                </a:cubicBezTo>
                <a:cubicBezTo>
                  <a:pt x="7002" y="7062"/>
                  <a:pt x="6996" y="7047"/>
                  <a:pt x="7020" y="7094"/>
                </a:cubicBezTo>
              </a:path>
              <a:path w="2283" h="944">
                <a:moveTo>
                  <a:pt x="7293" y="6201"/>
                </a:moveTo>
                <a:cubicBezTo>
                  <a:pt x="7406" y="6201"/>
                  <a:pt x="7837" y="6136"/>
                  <a:pt x="7913" y="6226"/>
                </a:cubicBezTo>
                <a:cubicBezTo>
                  <a:pt x="7936" y="6253"/>
                  <a:pt x="7874" y="6354"/>
                  <a:pt x="7863" y="6375"/>
                </a:cubicBezTo>
                <a:cubicBezTo>
                  <a:pt x="7816" y="6462"/>
                  <a:pt x="7838" y="6575"/>
                  <a:pt x="7838" y="6672"/>
                </a:cubicBezTo>
                <a:cubicBezTo>
                  <a:pt x="7838" y="6763"/>
                  <a:pt x="7850" y="6837"/>
                  <a:pt x="7863" y="6921"/>
                </a:cubicBezTo>
                <a:cubicBezTo>
                  <a:pt x="7874" y="6988"/>
                  <a:pt x="7819" y="7203"/>
                  <a:pt x="7888" y="7045"/>
                </a:cubicBezTo>
              </a:path>
              <a:path w="2283" h="944">
                <a:moveTo>
                  <a:pt x="8260" y="6201"/>
                </a:moveTo>
                <a:cubicBezTo>
                  <a:pt x="8313" y="6376"/>
                  <a:pt x="8291" y="6369"/>
                  <a:pt x="8285" y="6524"/>
                </a:cubicBezTo>
                <a:cubicBezTo>
                  <a:pt x="8281" y="6619"/>
                  <a:pt x="8264" y="6702"/>
                  <a:pt x="8260" y="6796"/>
                </a:cubicBezTo>
                <a:cubicBezTo>
                  <a:pt x="8258" y="6845"/>
                  <a:pt x="8230" y="6993"/>
                  <a:pt x="8235" y="7020"/>
                </a:cubicBezTo>
                <a:cubicBezTo>
                  <a:pt x="8260" y="7045"/>
                  <a:pt x="8268" y="7053"/>
                  <a:pt x="8285" y="7020"/>
                </a:cubicBezTo>
              </a:path>
              <a:path w="2283" h="944">
                <a:moveTo>
                  <a:pt x="8508" y="6400"/>
                </a:moveTo>
                <a:cubicBezTo>
                  <a:pt x="8568" y="6290"/>
                  <a:pt x="8544" y="6295"/>
                  <a:pt x="8632" y="6251"/>
                </a:cubicBezTo>
                <a:cubicBezTo>
                  <a:pt x="8689" y="6222"/>
                  <a:pt x="8751" y="6206"/>
                  <a:pt x="8806" y="6251"/>
                </a:cubicBezTo>
                <a:cubicBezTo>
                  <a:pt x="8864" y="6298"/>
                  <a:pt x="8876" y="6351"/>
                  <a:pt x="8880" y="6424"/>
                </a:cubicBezTo>
                <a:cubicBezTo>
                  <a:pt x="8883" y="6488"/>
                  <a:pt x="8856" y="6565"/>
                  <a:pt x="8830" y="6623"/>
                </a:cubicBezTo>
                <a:cubicBezTo>
                  <a:pt x="8803" y="6684"/>
                  <a:pt x="8761" y="6736"/>
                  <a:pt x="8731" y="6796"/>
                </a:cubicBezTo>
                <a:cubicBezTo>
                  <a:pt x="8704" y="6849"/>
                  <a:pt x="8671" y="6902"/>
                  <a:pt x="8632" y="6945"/>
                </a:cubicBezTo>
                <a:cubicBezTo>
                  <a:pt x="8559" y="7025"/>
                  <a:pt x="8635" y="7041"/>
                  <a:pt x="8706" y="7045"/>
                </a:cubicBezTo>
                <a:cubicBezTo>
                  <a:pt x="8774" y="7048"/>
                  <a:pt x="8885" y="7033"/>
                  <a:pt x="8954" y="7020"/>
                </a:cubicBezTo>
                <a:cubicBezTo>
                  <a:pt x="9049" y="7002"/>
                  <a:pt x="9129" y="6995"/>
                  <a:pt x="9227" y="6995"/>
                </a:cubicBezTo>
                <a:cubicBezTo>
                  <a:pt x="9244" y="6995"/>
                  <a:pt x="9260" y="6995"/>
                  <a:pt x="9277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7"/>
          <p:cNvSpPr/>
          <p:nvPr/>
        </p:nvSpPr>
        <p:spPr>
          <a:xfrm>
            <a:off x="2544840" y="298296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7069" y="8310"/>
                </a:moveTo>
                <a:cubicBezTo>
                  <a:pt x="7162" y="8310"/>
                  <a:pt x="7228" y="8310"/>
                  <a:pt x="7317" y="8285"/>
                </a:cubicBezTo>
              </a:path>
              <a:path w="324" h="224">
                <a:moveTo>
                  <a:pt x="7069" y="8483"/>
                </a:moveTo>
                <a:cubicBezTo>
                  <a:pt x="7139" y="8483"/>
                  <a:pt x="7203" y="8516"/>
                  <a:pt x="7268" y="8508"/>
                </a:cubicBezTo>
                <a:cubicBezTo>
                  <a:pt x="7309" y="8500"/>
                  <a:pt x="7351" y="8491"/>
                  <a:pt x="7392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8"/>
          <p:cNvSpPr/>
          <p:nvPr/>
        </p:nvSpPr>
        <p:spPr>
          <a:xfrm>
            <a:off x="2946240" y="2830680"/>
            <a:ext cx="125640" cy="339480"/>
          </a:xfrm>
          <a:custGeom>
            <a:avLst/>
            <a:gdLst/>
            <a:ahLst/>
            <a:rect l="l" t="t" r="r" b="b"/>
            <a:pathLst>
              <a:path w="348" h="944">
                <a:moveTo>
                  <a:pt x="8210" y="7863"/>
                </a:moveTo>
                <a:cubicBezTo>
                  <a:pt x="8210" y="7936"/>
                  <a:pt x="8189" y="7992"/>
                  <a:pt x="8186" y="8062"/>
                </a:cubicBezTo>
                <a:cubicBezTo>
                  <a:pt x="8176" y="8309"/>
                  <a:pt x="8186" y="8559"/>
                  <a:pt x="8186" y="8806"/>
                </a:cubicBezTo>
              </a:path>
              <a:path w="348" h="944">
                <a:moveTo>
                  <a:pt x="8508" y="8706"/>
                </a:moveTo>
                <a:cubicBezTo>
                  <a:pt x="8516" y="8690"/>
                  <a:pt x="8525" y="8673"/>
                  <a:pt x="853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9"/>
          <p:cNvSpPr/>
          <p:nvPr/>
        </p:nvSpPr>
        <p:spPr>
          <a:xfrm>
            <a:off x="3205080" y="281304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8930" y="7888"/>
                </a:moveTo>
                <a:cubicBezTo>
                  <a:pt x="8930" y="8042"/>
                  <a:pt x="8933" y="8185"/>
                  <a:pt x="8905" y="8334"/>
                </a:cubicBezTo>
                <a:cubicBezTo>
                  <a:pt x="8885" y="8438"/>
                  <a:pt x="8889" y="8612"/>
                  <a:pt x="8930" y="8706"/>
                </a:cubicBezTo>
              </a:path>
              <a:path w="1762" h="894">
                <a:moveTo>
                  <a:pt x="9376" y="7987"/>
                </a:moveTo>
                <a:cubicBezTo>
                  <a:pt x="9364" y="7896"/>
                  <a:pt x="9350" y="7867"/>
                  <a:pt x="9252" y="7863"/>
                </a:cubicBezTo>
                <a:cubicBezTo>
                  <a:pt x="9177" y="7860"/>
                  <a:pt x="9075" y="7859"/>
                  <a:pt x="9029" y="7938"/>
                </a:cubicBezTo>
                <a:cubicBezTo>
                  <a:pt x="8992" y="8001"/>
                  <a:pt x="9099" y="8098"/>
                  <a:pt x="9128" y="8136"/>
                </a:cubicBezTo>
                <a:cubicBezTo>
                  <a:pt x="9186" y="8214"/>
                  <a:pt x="9246" y="8290"/>
                  <a:pt x="9302" y="8359"/>
                </a:cubicBezTo>
                <a:cubicBezTo>
                  <a:pt x="9346" y="8414"/>
                  <a:pt x="9389" y="8575"/>
                  <a:pt x="9327" y="8632"/>
                </a:cubicBezTo>
                <a:cubicBezTo>
                  <a:pt x="9310" y="8632"/>
                  <a:pt x="9294" y="8632"/>
                  <a:pt x="9277" y="8632"/>
                </a:cubicBezTo>
                <a:cubicBezTo>
                  <a:pt x="9238" y="8621"/>
                  <a:pt x="9178" y="8589"/>
                  <a:pt x="9153" y="8558"/>
                </a:cubicBezTo>
                <a:cubicBezTo>
                  <a:pt x="9110" y="8506"/>
                  <a:pt x="9138" y="8405"/>
                  <a:pt x="9178" y="8359"/>
                </a:cubicBezTo>
                <a:cubicBezTo>
                  <a:pt x="9230" y="8299"/>
                  <a:pt x="9330" y="8313"/>
                  <a:pt x="9376" y="8235"/>
                </a:cubicBezTo>
                <a:cubicBezTo>
                  <a:pt x="9422" y="8156"/>
                  <a:pt x="9476" y="8091"/>
                  <a:pt x="9525" y="8012"/>
                </a:cubicBezTo>
              </a:path>
              <a:path w="1762" h="894">
                <a:moveTo>
                  <a:pt x="9674" y="7888"/>
                </a:moveTo>
                <a:cubicBezTo>
                  <a:pt x="9674" y="7991"/>
                  <a:pt x="9663" y="8063"/>
                  <a:pt x="9649" y="8161"/>
                </a:cubicBezTo>
                <a:cubicBezTo>
                  <a:pt x="9640" y="8225"/>
                  <a:pt x="9628" y="8298"/>
                  <a:pt x="9624" y="8359"/>
                </a:cubicBezTo>
                <a:cubicBezTo>
                  <a:pt x="9620" y="8419"/>
                  <a:pt x="9640" y="8507"/>
                  <a:pt x="9674" y="8558"/>
                </a:cubicBezTo>
                <a:cubicBezTo>
                  <a:pt x="9721" y="8627"/>
                  <a:pt x="9772" y="8624"/>
                  <a:pt x="9823" y="8657"/>
                </a:cubicBezTo>
                <a:cubicBezTo>
                  <a:pt x="9931" y="8726"/>
                  <a:pt x="9941" y="8701"/>
                  <a:pt x="10046" y="8632"/>
                </a:cubicBezTo>
                <a:cubicBezTo>
                  <a:pt x="10091" y="8602"/>
                  <a:pt x="10159" y="8553"/>
                  <a:pt x="10145" y="8483"/>
                </a:cubicBezTo>
                <a:cubicBezTo>
                  <a:pt x="10126" y="8390"/>
                  <a:pt x="10114" y="8363"/>
                  <a:pt x="10046" y="8334"/>
                </a:cubicBezTo>
                <a:cubicBezTo>
                  <a:pt x="9966" y="8391"/>
                  <a:pt x="9951" y="8453"/>
                  <a:pt x="9971" y="8558"/>
                </a:cubicBezTo>
                <a:cubicBezTo>
                  <a:pt x="9976" y="8582"/>
                  <a:pt x="10042" y="8691"/>
                  <a:pt x="10071" y="8706"/>
                </a:cubicBezTo>
                <a:cubicBezTo>
                  <a:pt x="10087" y="8706"/>
                  <a:pt x="10104" y="8706"/>
                  <a:pt x="10120" y="8706"/>
                </a:cubicBezTo>
              </a:path>
              <a:path w="1762" h="894">
                <a:moveTo>
                  <a:pt x="10616" y="7888"/>
                </a:moveTo>
                <a:cubicBezTo>
                  <a:pt x="10522" y="7810"/>
                  <a:pt x="10502" y="7788"/>
                  <a:pt x="10393" y="7863"/>
                </a:cubicBezTo>
                <a:cubicBezTo>
                  <a:pt x="10328" y="7908"/>
                  <a:pt x="10381" y="8036"/>
                  <a:pt x="10418" y="8086"/>
                </a:cubicBezTo>
                <a:cubicBezTo>
                  <a:pt x="10484" y="8175"/>
                  <a:pt x="10555" y="8267"/>
                  <a:pt x="10616" y="8359"/>
                </a:cubicBezTo>
                <a:cubicBezTo>
                  <a:pt x="10651" y="8412"/>
                  <a:pt x="10681" y="8493"/>
                  <a:pt x="10666" y="8558"/>
                </a:cubicBezTo>
                <a:cubicBezTo>
                  <a:pt x="10658" y="8583"/>
                  <a:pt x="10649" y="8607"/>
                  <a:pt x="10641" y="8632"/>
                </a:cubicBezTo>
                <a:cubicBezTo>
                  <a:pt x="10542" y="8612"/>
                  <a:pt x="10509" y="8586"/>
                  <a:pt x="10468" y="8483"/>
                </a:cubicBezTo>
                <a:cubicBezTo>
                  <a:pt x="10434" y="8399"/>
                  <a:pt x="10400" y="8396"/>
                  <a:pt x="10443" y="8310"/>
                </a:cubicBezTo>
                <a:cubicBezTo>
                  <a:pt x="10475" y="8247"/>
                  <a:pt x="10483" y="8200"/>
                  <a:pt x="10517" y="8136"/>
                </a:cubicBezTo>
                <a:cubicBezTo>
                  <a:pt x="10545" y="8084"/>
                  <a:pt x="10582" y="8012"/>
                  <a:pt x="10592" y="7962"/>
                </a:cubicBezTo>
                <a:cubicBezTo>
                  <a:pt x="10602" y="7914"/>
                  <a:pt x="10577" y="7902"/>
                  <a:pt x="10567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10"/>
          <p:cNvSpPr/>
          <p:nvPr/>
        </p:nvSpPr>
        <p:spPr>
          <a:xfrm>
            <a:off x="2527200" y="3537000"/>
            <a:ext cx="135000" cy="106200"/>
          </a:xfrm>
          <a:custGeom>
            <a:avLst/>
            <a:gdLst/>
            <a:ahLst/>
            <a:rect l="l" t="t" r="r" b="b"/>
            <a:pathLst>
              <a:path w="373" h="298">
                <a:moveTo>
                  <a:pt x="7020" y="9847"/>
                </a:moveTo>
                <a:cubicBezTo>
                  <a:pt x="7097" y="9819"/>
                  <a:pt x="7159" y="9823"/>
                  <a:pt x="7243" y="9823"/>
                </a:cubicBezTo>
                <a:cubicBezTo>
                  <a:pt x="7260" y="9823"/>
                  <a:pt x="7276" y="9823"/>
                  <a:pt x="7293" y="9823"/>
                </a:cubicBezTo>
              </a:path>
              <a:path w="373" h="298">
                <a:moveTo>
                  <a:pt x="7119" y="10046"/>
                </a:moveTo>
                <a:cubicBezTo>
                  <a:pt x="7235" y="10099"/>
                  <a:pt x="7259" y="10120"/>
                  <a:pt x="7392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1"/>
          <p:cNvSpPr/>
          <p:nvPr/>
        </p:nvSpPr>
        <p:spPr>
          <a:xfrm>
            <a:off x="2894040" y="3429000"/>
            <a:ext cx="436680" cy="401760"/>
          </a:xfrm>
          <a:custGeom>
            <a:avLst/>
            <a:gdLst/>
            <a:ahLst/>
            <a:rect l="l" t="t" r="r" b="b"/>
            <a:pathLst>
              <a:path w="1216" h="1117">
                <a:moveTo>
                  <a:pt x="8037" y="9897"/>
                </a:moveTo>
                <a:cubicBezTo>
                  <a:pt x="8153" y="9897"/>
                  <a:pt x="8268" y="9897"/>
                  <a:pt x="8384" y="9897"/>
                </a:cubicBezTo>
              </a:path>
              <a:path w="1216" h="1117">
                <a:moveTo>
                  <a:pt x="8607" y="9699"/>
                </a:moveTo>
                <a:cubicBezTo>
                  <a:pt x="8638" y="9644"/>
                  <a:pt x="8683" y="9542"/>
                  <a:pt x="8756" y="9525"/>
                </a:cubicBezTo>
                <a:cubicBezTo>
                  <a:pt x="8833" y="9507"/>
                  <a:pt x="8936" y="9525"/>
                  <a:pt x="8979" y="9599"/>
                </a:cubicBezTo>
                <a:cubicBezTo>
                  <a:pt x="9015" y="9660"/>
                  <a:pt x="8997" y="9688"/>
                  <a:pt x="8979" y="9748"/>
                </a:cubicBezTo>
                <a:cubicBezTo>
                  <a:pt x="8957" y="9822"/>
                  <a:pt x="8943" y="9859"/>
                  <a:pt x="8905" y="9922"/>
                </a:cubicBezTo>
                <a:cubicBezTo>
                  <a:pt x="8874" y="9973"/>
                  <a:pt x="8836" y="10020"/>
                  <a:pt x="8806" y="10071"/>
                </a:cubicBezTo>
                <a:cubicBezTo>
                  <a:pt x="8764" y="10141"/>
                  <a:pt x="8722" y="10200"/>
                  <a:pt x="8682" y="10269"/>
                </a:cubicBezTo>
                <a:cubicBezTo>
                  <a:pt x="8670" y="10290"/>
                  <a:pt x="8611" y="10379"/>
                  <a:pt x="8582" y="10418"/>
                </a:cubicBezTo>
                <a:cubicBezTo>
                  <a:pt x="8543" y="10471"/>
                  <a:pt x="8511" y="10502"/>
                  <a:pt x="8508" y="10567"/>
                </a:cubicBezTo>
                <a:cubicBezTo>
                  <a:pt x="8508" y="10592"/>
                  <a:pt x="8508" y="10616"/>
                  <a:pt x="8508" y="10641"/>
                </a:cubicBezTo>
                <a:cubicBezTo>
                  <a:pt x="8605" y="10641"/>
                  <a:pt x="8618" y="10617"/>
                  <a:pt x="8682" y="10592"/>
                </a:cubicBezTo>
                <a:cubicBezTo>
                  <a:pt x="8734" y="10571"/>
                  <a:pt x="8849" y="10569"/>
                  <a:pt x="8905" y="10567"/>
                </a:cubicBezTo>
                <a:cubicBezTo>
                  <a:pt x="9020" y="10562"/>
                  <a:pt x="9137" y="10567"/>
                  <a:pt x="9252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arithm Proper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uv) =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+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/v) =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–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n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Ink 4"/>
          <p:cNvSpPr/>
          <p:nvPr/>
        </p:nvSpPr>
        <p:spPr>
          <a:xfrm>
            <a:off x="1027080" y="6518160"/>
            <a:ext cx="97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853" y="18107"/>
                </a:moveTo>
                <a:cubicBezTo>
                  <a:pt x="2861" y="18115"/>
                  <a:pt x="2869" y="18124"/>
                  <a:pt x="2877" y="181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s also works for natural lo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(uv) = Ln u + Ln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(u/v) = Ln u – Ln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u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n Ln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pand (rewrite as a sum, difference and/or multiple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0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4"/>
          <p:cNvSpPr/>
          <p:nvPr/>
        </p:nvSpPr>
        <p:spPr>
          <a:xfrm>
            <a:off x="2608200" y="1820880"/>
            <a:ext cx="266760" cy="73080"/>
          </a:xfrm>
          <a:custGeom>
            <a:avLst/>
            <a:gdLst/>
            <a:ahLst/>
            <a:rect l="l" t="t" r="r" b="b"/>
            <a:pathLst>
              <a:path w="745" h="200">
                <a:moveTo>
                  <a:pt x="7243" y="5110"/>
                </a:moveTo>
                <a:cubicBezTo>
                  <a:pt x="7323" y="5080"/>
                  <a:pt x="7385" y="5104"/>
                  <a:pt x="7466" y="5085"/>
                </a:cubicBezTo>
                <a:cubicBezTo>
                  <a:pt x="7546" y="5066"/>
                  <a:pt x="7626" y="5042"/>
                  <a:pt x="7714" y="5060"/>
                </a:cubicBezTo>
                <a:cubicBezTo>
                  <a:pt x="7762" y="5084"/>
                  <a:pt x="7776" y="5092"/>
                  <a:pt x="7813" y="5085"/>
                </a:cubicBezTo>
              </a:path>
              <a:path w="745" h="200">
                <a:moveTo>
                  <a:pt x="7441" y="5234"/>
                </a:moveTo>
                <a:cubicBezTo>
                  <a:pt x="7449" y="5242"/>
                  <a:pt x="7458" y="5251"/>
                  <a:pt x="7466" y="5259"/>
                </a:cubicBezTo>
                <a:cubicBezTo>
                  <a:pt x="7515" y="5234"/>
                  <a:pt x="7605" y="5217"/>
                  <a:pt x="7665" y="5209"/>
                </a:cubicBezTo>
                <a:cubicBezTo>
                  <a:pt x="7743" y="5199"/>
                  <a:pt x="7808" y="5184"/>
                  <a:pt x="7888" y="5184"/>
                </a:cubicBezTo>
                <a:cubicBezTo>
                  <a:pt x="7954" y="5184"/>
                  <a:pt x="7980" y="5156"/>
                  <a:pt x="7962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5"/>
          <p:cNvSpPr/>
          <p:nvPr/>
        </p:nvSpPr>
        <p:spPr>
          <a:xfrm>
            <a:off x="3259080" y="1581120"/>
            <a:ext cx="2724120" cy="669960"/>
          </a:xfrm>
          <a:custGeom>
            <a:avLst/>
            <a:gdLst/>
            <a:ahLst/>
            <a:rect l="l" t="t" r="r" b="b"/>
            <a:pathLst>
              <a:path w="7566" h="1862">
                <a:moveTo>
                  <a:pt x="9054" y="4490"/>
                </a:moveTo>
                <a:cubicBezTo>
                  <a:pt x="9054" y="4651"/>
                  <a:pt x="9065" y="4805"/>
                  <a:pt x="9079" y="4961"/>
                </a:cubicBezTo>
                <a:cubicBezTo>
                  <a:pt x="9090" y="5085"/>
                  <a:pt x="9077" y="5211"/>
                  <a:pt x="9103" y="5333"/>
                </a:cubicBezTo>
                <a:cubicBezTo>
                  <a:pt x="9122" y="5421"/>
                  <a:pt x="9143" y="5516"/>
                  <a:pt x="9153" y="5606"/>
                </a:cubicBezTo>
                <a:cubicBezTo>
                  <a:pt x="9153" y="5664"/>
                  <a:pt x="9153" y="5672"/>
                  <a:pt x="9153" y="5705"/>
                </a:cubicBezTo>
              </a:path>
              <a:path w="7566" h="1862">
                <a:moveTo>
                  <a:pt x="9451" y="5011"/>
                </a:moveTo>
                <a:cubicBezTo>
                  <a:pt x="9442" y="5081"/>
                  <a:pt x="9412" y="5142"/>
                  <a:pt x="9401" y="5209"/>
                </a:cubicBezTo>
                <a:cubicBezTo>
                  <a:pt x="9386" y="5299"/>
                  <a:pt x="9393" y="5375"/>
                  <a:pt x="9401" y="5457"/>
                </a:cubicBezTo>
                <a:cubicBezTo>
                  <a:pt x="9408" y="5526"/>
                  <a:pt x="9434" y="5596"/>
                  <a:pt x="9475" y="5655"/>
                </a:cubicBezTo>
                <a:cubicBezTo>
                  <a:pt x="9532" y="5738"/>
                  <a:pt x="9642" y="5728"/>
                  <a:pt x="9723" y="5705"/>
                </a:cubicBezTo>
                <a:cubicBezTo>
                  <a:pt x="9801" y="5683"/>
                  <a:pt x="9854" y="5620"/>
                  <a:pt x="9897" y="5556"/>
                </a:cubicBezTo>
                <a:cubicBezTo>
                  <a:pt x="9958" y="5465"/>
                  <a:pt x="9947" y="5392"/>
                  <a:pt x="9947" y="5283"/>
                </a:cubicBezTo>
                <a:cubicBezTo>
                  <a:pt x="9947" y="5190"/>
                  <a:pt x="9936" y="5124"/>
                  <a:pt x="9872" y="5060"/>
                </a:cubicBezTo>
                <a:cubicBezTo>
                  <a:pt x="9804" y="4992"/>
                  <a:pt x="9777" y="5022"/>
                  <a:pt x="9699" y="5035"/>
                </a:cubicBezTo>
                <a:cubicBezTo>
                  <a:pt x="9642" y="5044"/>
                  <a:pt x="9610" y="5080"/>
                  <a:pt x="9575" y="5135"/>
                </a:cubicBezTo>
                <a:cubicBezTo>
                  <a:pt x="9535" y="5197"/>
                  <a:pt x="9501" y="5308"/>
                  <a:pt x="9525" y="5383"/>
                </a:cubicBezTo>
                <a:cubicBezTo>
                  <a:pt x="9533" y="5391"/>
                  <a:pt x="9542" y="5399"/>
                  <a:pt x="9550" y="5407"/>
                </a:cubicBezTo>
              </a:path>
              <a:path w="7566" h="1862">
                <a:moveTo>
                  <a:pt x="10418" y="5110"/>
                </a:moveTo>
                <a:cubicBezTo>
                  <a:pt x="10410" y="4980"/>
                  <a:pt x="10412" y="4866"/>
                  <a:pt x="10244" y="4936"/>
                </a:cubicBezTo>
                <a:cubicBezTo>
                  <a:pt x="10183" y="4962"/>
                  <a:pt x="10101" y="5081"/>
                  <a:pt x="10071" y="5135"/>
                </a:cubicBezTo>
                <a:cubicBezTo>
                  <a:pt x="10035" y="5199"/>
                  <a:pt x="10046" y="5262"/>
                  <a:pt x="10046" y="5333"/>
                </a:cubicBezTo>
                <a:cubicBezTo>
                  <a:pt x="10046" y="5404"/>
                  <a:pt x="10073" y="5434"/>
                  <a:pt x="10120" y="5482"/>
                </a:cubicBezTo>
                <a:cubicBezTo>
                  <a:pt x="10169" y="5532"/>
                  <a:pt x="10285" y="5512"/>
                  <a:pt x="10344" y="5482"/>
                </a:cubicBezTo>
                <a:cubicBezTo>
                  <a:pt x="10384" y="5461"/>
                  <a:pt x="10457" y="5380"/>
                  <a:pt x="10468" y="5333"/>
                </a:cubicBezTo>
                <a:cubicBezTo>
                  <a:pt x="10482" y="5272"/>
                  <a:pt x="10492" y="5227"/>
                  <a:pt x="10492" y="5159"/>
                </a:cubicBezTo>
                <a:cubicBezTo>
                  <a:pt x="10492" y="5143"/>
                  <a:pt x="10492" y="5126"/>
                  <a:pt x="10492" y="5110"/>
                </a:cubicBezTo>
                <a:cubicBezTo>
                  <a:pt x="10469" y="5204"/>
                  <a:pt x="10468" y="5285"/>
                  <a:pt x="10468" y="5383"/>
                </a:cubicBezTo>
                <a:cubicBezTo>
                  <a:pt x="10468" y="5487"/>
                  <a:pt x="10481" y="5580"/>
                  <a:pt x="10492" y="5680"/>
                </a:cubicBezTo>
                <a:cubicBezTo>
                  <a:pt x="10503" y="5784"/>
                  <a:pt x="10498" y="5901"/>
                  <a:pt x="10517" y="6003"/>
                </a:cubicBezTo>
                <a:cubicBezTo>
                  <a:pt x="10531" y="6079"/>
                  <a:pt x="10542" y="6137"/>
                  <a:pt x="10492" y="6201"/>
                </a:cubicBezTo>
                <a:cubicBezTo>
                  <a:pt x="10447" y="6259"/>
                  <a:pt x="10414" y="6251"/>
                  <a:pt x="10344" y="6251"/>
                </a:cubicBezTo>
                <a:cubicBezTo>
                  <a:pt x="10262" y="6251"/>
                  <a:pt x="10144" y="6235"/>
                  <a:pt x="10071" y="6201"/>
                </a:cubicBezTo>
                <a:cubicBezTo>
                  <a:pt x="10023" y="6179"/>
                  <a:pt x="10027" y="6144"/>
                  <a:pt x="10021" y="6102"/>
                </a:cubicBezTo>
              </a:path>
              <a:path w="7566" h="1862">
                <a:moveTo>
                  <a:pt x="10815" y="5333"/>
                </a:moveTo>
                <a:cubicBezTo>
                  <a:pt x="10825" y="5402"/>
                  <a:pt x="10840" y="5453"/>
                  <a:pt x="10840" y="5531"/>
                </a:cubicBezTo>
                <a:cubicBezTo>
                  <a:pt x="10840" y="5605"/>
                  <a:pt x="10825" y="5672"/>
                  <a:pt x="10790" y="5730"/>
                </a:cubicBezTo>
              </a:path>
              <a:path w="7566" h="1862">
                <a:moveTo>
                  <a:pt x="10988" y="5482"/>
                </a:moveTo>
                <a:cubicBezTo>
                  <a:pt x="10988" y="5567"/>
                  <a:pt x="10984" y="5613"/>
                  <a:pt x="11038" y="5680"/>
                </a:cubicBezTo>
                <a:cubicBezTo>
                  <a:pt x="11119" y="5634"/>
                  <a:pt x="11133" y="5629"/>
                  <a:pt x="11137" y="5531"/>
                </a:cubicBezTo>
                <a:cubicBezTo>
                  <a:pt x="11139" y="5485"/>
                  <a:pt x="11124" y="5400"/>
                  <a:pt x="11063" y="5383"/>
                </a:cubicBezTo>
                <a:cubicBezTo>
                  <a:pt x="11009" y="5368"/>
                  <a:pt x="11001" y="5364"/>
                  <a:pt x="10964" y="5383"/>
                </a:cubicBezTo>
              </a:path>
              <a:path w="7566" h="1862">
                <a:moveTo>
                  <a:pt x="11509" y="4812"/>
                </a:moveTo>
                <a:cubicBezTo>
                  <a:pt x="11562" y="4918"/>
                  <a:pt x="11619" y="5014"/>
                  <a:pt x="11683" y="5110"/>
                </a:cubicBezTo>
                <a:cubicBezTo>
                  <a:pt x="11717" y="5160"/>
                  <a:pt x="11741" y="5214"/>
                  <a:pt x="11782" y="5259"/>
                </a:cubicBezTo>
                <a:cubicBezTo>
                  <a:pt x="11825" y="5306"/>
                  <a:pt x="11843" y="5308"/>
                  <a:pt x="11906" y="5308"/>
                </a:cubicBezTo>
              </a:path>
              <a:path w="7566" h="1862">
                <a:moveTo>
                  <a:pt x="12105" y="4638"/>
                </a:moveTo>
                <a:cubicBezTo>
                  <a:pt x="12105" y="4714"/>
                  <a:pt x="12097" y="4790"/>
                  <a:pt x="12080" y="4862"/>
                </a:cubicBezTo>
                <a:cubicBezTo>
                  <a:pt x="12054" y="4972"/>
                  <a:pt x="12021" y="5105"/>
                  <a:pt x="11981" y="5209"/>
                </a:cubicBezTo>
                <a:cubicBezTo>
                  <a:pt x="11929" y="5342"/>
                  <a:pt x="11897" y="5469"/>
                  <a:pt x="11857" y="5606"/>
                </a:cubicBezTo>
                <a:cubicBezTo>
                  <a:pt x="11819" y="5736"/>
                  <a:pt x="11796" y="5878"/>
                  <a:pt x="11757" y="6003"/>
                </a:cubicBezTo>
                <a:cubicBezTo>
                  <a:pt x="11735" y="6073"/>
                  <a:pt x="11733" y="6125"/>
                  <a:pt x="11733" y="6201"/>
                </a:cubicBezTo>
                <a:cubicBezTo>
                  <a:pt x="11733" y="6209"/>
                  <a:pt x="11733" y="6218"/>
                  <a:pt x="11733" y="6226"/>
                </a:cubicBezTo>
              </a:path>
              <a:path w="7566" h="1862">
                <a:moveTo>
                  <a:pt x="12551" y="5110"/>
                </a:moveTo>
                <a:lnTo>
                  <a:pt x="12526" y="5110"/>
                </a:lnTo>
                <a:lnTo>
                  <a:pt x="12601" y="5110"/>
                </a:lnTo>
                <a:lnTo>
                  <a:pt x="12650" y="5110"/>
                </a:lnTo>
                <a:lnTo>
                  <a:pt x="12700" y="5110"/>
                </a:lnTo>
                <a:lnTo>
                  <a:pt x="12774" y="5135"/>
                </a:lnTo>
                <a:lnTo>
                  <a:pt x="12849" y="5135"/>
                </a:lnTo>
                <a:lnTo>
                  <a:pt x="12923" y="5135"/>
                </a:lnTo>
                <a:lnTo>
                  <a:pt x="13022" y="5135"/>
                </a:lnTo>
                <a:lnTo>
                  <a:pt x="13097" y="5135"/>
                </a:lnTo>
                <a:lnTo>
                  <a:pt x="13196" y="5135"/>
                </a:lnTo>
                <a:lnTo>
                  <a:pt x="13271" y="5135"/>
                </a:lnTo>
                <a:lnTo>
                  <a:pt x="13345" y="5135"/>
                </a:lnTo>
                <a:lnTo>
                  <a:pt x="13419" y="5135"/>
                </a:lnTo>
                <a:lnTo>
                  <a:pt x="13469" y="5159"/>
                </a:lnTo>
                <a:lnTo>
                  <a:pt x="13519" y="5159"/>
                </a:lnTo>
                <a:lnTo>
                  <a:pt x="13519" y="5110"/>
                </a:lnTo>
              </a:path>
              <a:path w="7566" h="1862">
                <a:moveTo>
                  <a:pt x="13990" y="4390"/>
                </a:moveTo>
                <a:cubicBezTo>
                  <a:pt x="13990" y="4462"/>
                  <a:pt x="13968" y="4500"/>
                  <a:pt x="13965" y="4564"/>
                </a:cubicBezTo>
                <a:cubicBezTo>
                  <a:pt x="13960" y="4670"/>
                  <a:pt x="13979" y="4761"/>
                  <a:pt x="13990" y="4862"/>
                </a:cubicBezTo>
                <a:cubicBezTo>
                  <a:pt x="14006" y="5003"/>
                  <a:pt x="13986" y="5151"/>
                  <a:pt x="13965" y="5283"/>
                </a:cubicBezTo>
                <a:cubicBezTo>
                  <a:pt x="13958" y="5329"/>
                  <a:pt x="13965" y="5385"/>
                  <a:pt x="13965" y="5432"/>
                </a:cubicBezTo>
                <a:cubicBezTo>
                  <a:pt x="13965" y="5381"/>
                  <a:pt x="13966" y="5362"/>
                  <a:pt x="13990" y="5333"/>
                </a:cubicBezTo>
              </a:path>
              <a:path w="7566" h="1862">
                <a:moveTo>
                  <a:pt x="14263" y="4911"/>
                </a:moveTo>
                <a:cubicBezTo>
                  <a:pt x="14254" y="4989"/>
                  <a:pt x="14225" y="5061"/>
                  <a:pt x="14213" y="5135"/>
                </a:cubicBezTo>
                <a:cubicBezTo>
                  <a:pt x="14201" y="5208"/>
                  <a:pt x="14185" y="5284"/>
                  <a:pt x="14213" y="5358"/>
                </a:cubicBezTo>
                <a:cubicBezTo>
                  <a:pt x="14241" y="5434"/>
                  <a:pt x="14361" y="5421"/>
                  <a:pt x="14412" y="5407"/>
                </a:cubicBezTo>
                <a:cubicBezTo>
                  <a:pt x="14536" y="5371"/>
                  <a:pt x="14624" y="5259"/>
                  <a:pt x="14660" y="5135"/>
                </a:cubicBezTo>
                <a:cubicBezTo>
                  <a:pt x="14685" y="5050"/>
                  <a:pt x="14630" y="4954"/>
                  <a:pt x="14585" y="4887"/>
                </a:cubicBezTo>
                <a:cubicBezTo>
                  <a:pt x="14553" y="4839"/>
                  <a:pt x="14487" y="4815"/>
                  <a:pt x="14436" y="4812"/>
                </a:cubicBezTo>
                <a:cubicBezTo>
                  <a:pt x="14382" y="4809"/>
                  <a:pt x="14301" y="4829"/>
                  <a:pt x="14263" y="4862"/>
                </a:cubicBezTo>
                <a:cubicBezTo>
                  <a:pt x="14189" y="4925"/>
                  <a:pt x="14188" y="4970"/>
                  <a:pt x="14188" y="5060"/>
                </a:cubicBezTo>
                <a:cubicBezTo>
                  <a:pt x="14188" y="5068"/>
                  <a:pt x="14188" y="5077"/>
                  <a:pt x="14188" y="5085"/>
                </a:cubicBezTo>
              </a:path>
              <a:path w="7566" h="1862">
                <a:moveTo>
                  <a:pt x="15106" y="4961"/>
                </a:moveTo>
                <a:cubicBezTo>
                  <a:pt x="15126" y="4901"/>
                  <a:pt x="15145" y="4886"/>
                  <a:pt x="15106" y="4862"/>
                </a:cubicBezTo>
                <a:cubicBezTo>
                  <a:pt x="15033" y="4838"/>
                  <a:pt x="14947" y="4819"/>
                  <a:pt x="14883" y="4887"/>
                </a:cubicBezTo>
                <a:cubicBezTo>
                  <a:pt x="14831" y="4943"/>
                  <a:pt x="14804" y="4995"/>
                  <a:pt x="14759" y="5060"/>
                </a:cubicBezTo>
                <a:cubicBezTo>
                  <a:pt x="14722" y="5113"/>
                  <a:pt x="14722" y="5175"/>
                  <a:pt x="14759" y="5234"/>
                </a:cubicBezTo>
                <a:cubicBezTo>
                  <a:pt x="14804" y="5308"/>
                  <a:pt x="14850" y="5270"/>
                  <a:pt x="14908" y="5259"/>
                </a:cubicBezTo>
                <a:cubicBezTo>
                  <a:pt x="14973" y="5247"/>
                  <a:pt x="15014" y="5222"/>
                  <a:pt x="15056" y="5159"/>
                </a:cubicBezTo>
                <a:cubicBezTo>
                  <a:pt x="15094" y="5102"/>
                  <a:pt x="15105" y="5037"/>
                  <a:pt x="15131" y="4986"/>
                </a:cubicBezTo>
                <a:cubicBezTo>
                  <a:pt x="15156" y="4961"/>
                  <a:pt x="15164" y="4953"/>
                  <a:pt x="15131" y="4936"/>
                </a:cubicBezTo>
                <a:cubicBezTo>
                  <a:pt x="15120" y="5021"/>
                  <a:pt x="15106" y="5093"/>
                  <a:pt x="15106" y="5184"/>
                </a:cubicBezTo>
                <a:cubicBezTo>
                  <a:pt x="15106" y="5339"/>
                  <a:pt x="15114" y="5482"/>
                  <a:pt x="15131" y="5631"/>
                </a:cubicBezTo>
                <a:cubicBezTo>
                  <a:pt x="15142" y="5732"/>
                  <a:pt x="15132" y="5838"/>
                  <a:pt x="15081" y="5928"/>
                </a:cubicBezTo>
                <a:cubicBezTo>
                  <a:pt x="15042" y="5997"/>
                  <a:pt x="15013" y="6024"/>
                  <a:pt x="14932" y="6028"/>
                </a:cubicBezTo>
                <a:cubicBezTo>
                  <a:pt x="14854" y="6031"/>
                  <a:pt x="14738" y="6009"/>
                  <a:pt x="14709" y="5928"/>
                </a:cubicBezTo>
                <a:cubicBezTo>
                  <a:pt x="14709" y="5884"/>
                  <a:pt x="14706" y="5870"/>
                  <a:pt x="14734" y="5854"/>
                </a:cubicBezTo>
              </a:path>
              <a:path w="7566" h="1862">
                <a:moveTo>
                  <a:pt x="15354" y="5259"/>
                </a:moveTo>
                <a:cubicBezTo>
                  <a:pt x="15346" y="5363"/>
                  <a:pt x="15329" y="5449"/>
                  <a:pt x="15329" y="5556"/>
                </a:cubicBezTo>
                <a:cubicBezTo>
                  <a:pt x="15329" y="5573"/>
                  <a:pt x="15329" y="5589"/>
                  <a:pt x="15329" y="5606"/>
                </a:cubicBezTo>
              </a:path>
              <a:path w="7566" h="1862">
                <a:moveTo>
                  <a:pt x="15503" y="5358"/>
                </a:moveTo>
                <a:cubicBezTo>
                  <a:pt x="15482" y="5414"/>
                  <a:pt x="15449" y="5502"/>
                  <a:pt x="15503" y="5556"/>
                </a:cubicBezTo>
                <a:cubicBezTo>
                  <a:pt x="15554" y="5606"/>
                  <a:pt x="15635" y="5538"/>
                  <a:pt x="15652" y="5482"/>
                </a:cubicBezTo>
                <a:cubicBezTo>
                  <a:pt x="15673" y="5409"/>
                  <a:pt x="15573" y="5392"/>
                  <a:pt x="15528" y="5358"/>
                </a:cubicBezTo>
                <a:cubicBezTo>
                  <a:pt x="15503" y="5333"/>
                  <a:pt x="15495" y="5325"/>
                  <a:pt x="15528" y="5308"/>
                </a:cubicBezTo>
              </a:path>
              <a:path w="7566" h="1862">
                <a:moveTo>
                  <a:pt x="16024" y="4638"/>
                </a:moveTo>
                <a:cubicBezTo>
                  <a:pt x="16105" y="4606"/>
                  <a:pt x="16135" y="4589"/>
                  <a:pt x="16222" y="4589"/>
                </a:cubicBezTo>
                <a:cubicBezTo>
                  <a:pt x="16309" y="4589"/>
                  <a:pt x="16392" y="4555"/>
                  <a:pt x="16470" y="4589"/>
                </a:cubicBezTo>
                <a:cubicBezTo>
                  <a:pt x="16478" y="4597"/>
                  <a:pt x="16487" y="4606"/>
                  <a:pt x="16495" y="4614"/>
                </a:cubicBezTo>
                <a:cubicBezTo>
                  <a:pt x="16455" y="4653"/>
                  <a:pt x="16409" y="4708"/>
                  <a:pt x="16371" y="4738"/>
                </a:cubicBezTo>
                <a:cubicBezTo>
                  <a:pt x="16277" y="4812"/>
                  <a:pt x="16202" y="4896"/>
                  <a:pt x="16123" y="4986"/>
                </a:cubicBezTo>
                <a:cubicBezTo>
                  <a:pt x="16066" y="5051"/>
                  <a:pt x="16030" y="5122"/>
                  <a:pt x="15974" y="5184"/>
                </a:cubicBezTo>
                <a:cubicBezTo>
                  <a:pt x="15933" y="5230"/>
                  <a:pt x="15934" y="5220"/>
                  <a:pt x="15925" y="5283"/>
                </a:cubicBezTo>
                <a:cubicBezTo>
                  <a:pt x="15966" y="5304"/>
                  <a:pt x="16052" y="5283"/>
                  <a:pt x="16123" y="5283"/>
                </a:cubicBezTo>
                <a:cubicBezTo>
                  <a:pt x="16177" y="5283"/>
                  <a:pt x="16613" y="5310"/>
                  <a:pt x="16619" y="5259"/>
                </a:cubicBezTo>
                <a:cubicBezTo>
                  <a:pt x="16611" y="5251"/>
                  <a:pt x="16602" y="5242"/>
                  <a:pt x="16594" y="5234"/>
                </a:cubicBezTo>
              </a:path>
              <a:path w="7566" h="1862">
                <a:moveTo>
                  <a:pt x="15925" y="4986"/>
                </a:moveTo>
                <a:cubicBezTo>
                  <a:pt x="16038" y="4986"/>
                  <a:pt x="16141" y="4993"/>
                  <a:pt x="16247" y="5011"/>
                </a:cubicBezTo>
                <a:cubicBezTo>
                  <a:pt x="16309" y="5021"/>
                  <a:pt x="16383" y="5011"/>
                  <a:pt x="16446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6"/>
          <p:cNvSpPr/>
          <p:nvPr/>
        </p:nvSpPr>
        <p:spPr>
          <a:xfrm>
            <a:off x="3071880" y="2232000"/>
            <a:ext cx="2840040" cy="635040"/>
          </a:xfrm>
          <a:custGeom>
            <a:avLst/>
            <a:gdLst/>
            <a:ahLst/>
            <a:rect l="l" t="t" r="r" b="b"/>
            <a:pathLst>
              <a:path w="7889" h="1762">
                <a:moveTo>
                  <a:pt x="8533" y="6276"/>
                </a:moveTo>
                <a:cubicBezTo>
                  <a:pt x="8533" y="6532"/>
                  <a:pt x="8519" y="6798"/>
                  <a:pt x="8558" y="7045"/>
                </a:cubicBezTo>
                <a:cubicBezTo>
                  <a:pt x="8568" y="7107"/>
                  <a:pt x="8558" y="7180"/>
                  <a:pt x="8558" y="7243"/>
                </a:cubicBezTo>
              </a:path>
              <a:path w="7889" h="1762">
                <a:moveTo>
                  <a:pt x="8855" y="6623"/>
                </a:moveTo>
                <a:cubicBezTo>
                  <a:pt x="8855" y="6717"/>
                  <a:pt x="8841" y="6786"/>
                  <a:pt x="8830" y="6871"/>
                </a:cubicBezTo>
                <a:cubicBezTo>
                  <a:pt x="8815" y="6986"/>
                  <a:pt x="8838" y="7121"/>
                  <a:pt x="8905" y="7218"/>
                </a:cubicBezTo>
                <a:cubicBezTo>
                  <a:pt x="8938" y="7266"/>
                  <a:pt x="8965" y="7327"/>
                  <a:pt x="9029" y="7342"/>
                </a:cubicBezTo>
                <a:cubicBezTo>
                  <a:pt x="9088" y="7356"/>
                  <a:pt x="9176" y="7348"/>
                  <a:pt x="9227" y="7317"/>
                </a:cubicBezTo>
                <a:cubicBezTo>
                  <a:pt x="9281" y="7284"/>
                  <a:pt x="9323" y="7223"/>
                  <a:pt x="9351" y="7169"/>
                </a:cubicBezTo>
                <a:cubicBezTo>
                  <a:pt x="9395" y="7086"/>
                  <a:pt x="9421" y="6966"/>
                  <a:pt x="9401" y="6871"/>
                </a:cubicBezTo>
                <a:cubicBezTo>
                  <a:pt x="9389" y="6813"/>
                  <a:pt x="9375" y="6692"/>
                  <a:pt x="9327" y="6648"/>
                </a:cubicBezTo>
                <a:cubicBezTo>
                  <a:pt x="9264" y="6589"/>
                  <a:pt x="9226" y="6581"/>
                  <a:pt x="9153" y="6548"/>
                </a:cubicBezTo>
                <a:cubicBezTo>
                  <a:pt x="9086" y="6518"/>
                  <a:pt x="9045" y="6519"/>
                  <a:pt x="8979" y="6573"/>
                </a:cubicBezTo>
                <a:cubicBezTo>
                  <a:pt x="8937" y="6608"/>
                  <a:pt x="8892" y="6668"/>
                  <a:pt x="8880" y="6722"/>
                </a:cubicBezTo>
                <a:cubicBezTo>
                  <a:pt x="8864" y="6792"/>
                  <a:pt x="8871" y="6909"/>
                  <a:pt x="8905" y="6970"/>
                </a:cubicBezTo>
                <a:cubicBezTo>
                  <a:pt x="8936" y="7025"/>
                  <a:pt x="8962" y="7053"/>
                  <a:pt x="9004" y="7094"/>
                </a:cubicBezTo>
              </a:path>
              <a:path w="7889" h="1762">
                <a:moveTo>
                  <a:pt x="9773" y="6722"/>
                </a:moveTo>
                <a:cubicBezTo>
                  <a:pt x="9773" y="6652"/>
                  <a:pt x="9780" y="6626"/>
                  <a:pt x="9748" y="6573"/>
                </a:cubicBezTo>
                <a:cubicBezTo>
                  <a:pt x="9620" y="6589"/>
                  <a:pt x="9590" y="6628"/>
                  <a:pt x="9500" y="6722"/>
                </a:cubicBezTo>
                <a:cubicBezTo>
                  <a:pt x="9447" y="6778"/>
                  <a:pt x="9451" y="6822"/>
                  <a:pt x="9451" y="6896"/>
                </a:cubicBezTo>
                <a:cubicBezTo>
                  <a:pt x="9451" y="6960"/>
                  <a:pt x="9447" y="7045"/>
                  <a:pt x="9500" y="7094"/>
                </a:cubicBezTo>
                <a:cubicBezTo>
                  <a:pt x="9529" y="7121"/>
                  <a:pt x="9637" y="7175"/>
                  <a:pt x="9674" y="7169"/>
                </a:cubicBezTo>
                <a:cubicBezTo>
                  <a:pt x="9702" y="7165"/>
                  <a:pt x="9799" y="7122"/>
                  <a:pt x="9823" y="7094"/>
                </a:cubicBezTo>
                <a:cubicBezTo>
                  <a:pt x="9856" y="7056"/>
                  <a:pt x="9911" y="6970"/>
                  <a:pt x="9922" y="6921"/>
                </a:cubicBezTo>
                <a:cubicBezTo>
                  <a:pt x="9941" y="6836"/>
                  <a:pt x="9953" y="6778"/>
                  <a:pt x="9922" y="6697"/>
                </a:cubicBezTo>
                <a:cubicBezTo>
                  <a:pt x="9858" y="6778"/>
                  <a:pt x="9890" y="6826"/>
                  <a:pt x="9872" y="6921"/>
                </a:cubicBezTo>
                <a:cubicBezTo>
                  <a:pt x="9854" y="7015"/>
                  <a:pt x="9855" y="7142"/>
                  <a:pt x="9872" y="7243"/>
                </a:cubicBezTo>
                <a:cubicBezTo>
                  <a:pt x="9892" y="7361"/>
                  <a:pt x="9897" y="7468"/>
                  <a:pt x="9897" y="7590"/>
                </a:cubicBezTo>
                <a:cubicBezTo>
                  <a:pt x="9897" y="7690"/>
                  <a:pt x="9897" y="7773"/>
                  <a:pt x="9847" y="7863"/>
                </a:cubicBezTo>
                <a:cubicBezTo>
                  <a:pt x="9830" y="7894"/>
                  <a:pt x="9734" y="7954"/>
                  <a:pt x="9699" y="7962"/>
                </a:cubicBezTo>
                <a:cubicBezTo>
                  <a:pt x="9640" y="7976"/>
                  <a:pt x="9528" y="7936"/>
                  <a:pt x="9475" y="7913"/>
                </a:cubicBezTo>
                <a:cubicBezTo>
                  <a:pt x="9410" y="7885"/>
                  <a:pt x="9385" y="7848"/>
                  <a:pt x="9351" y="7789"/>
                </a:cubicBezTo>
              </a:path>
              <a:path w="7889" h="1762">
                <a:moveTo>
                  <a:pt x="10170" y="7218"/>
                </a:moveTo>
                <a:cubicBezTo>
                  <a:pt x="10170" y="7248"/>
                  <a:pt x="10138" y="7543"/>
                  <a:pt x="10195" y="7565"/>
                </a:cubicBezTo>
                <a:cubicBezTo>
                  <a:pt x="10203" y="7557"/>
                  <a:pt x="10212" y="7549"/>
                  <a:pt x="10220" y="7541"/>
                </a:cubicBezTo>
              </a:path>
              <a:path w="7889" h="1762">
                <a:moveTo>
                  <a:pt x="10393" y="7193"/>
                </a:moveTo>
                <a:cubicBezTo>
                  <a:pt x="10374" y="7242"/>
                  <a:pt x="10328" y="7338"/>
                  <a:pt x="10344" y="7392"/>
                </a:cubicBezTo>
                <a:cubicBezTo>
                  <a:pt x="10353" y="7422"/>
                  <a:pt x="10420" y="7468"/>
                  <a:pt x="10443" y="7491"/>
                </a:cubicBezTo>
                <a:cubicBezTo>
                  <a:pt x="10470" y="7469"/>
                  <a:pt x="10559" y="7431"/>
                  <a:pt x="10567" y="7392"/>
                </a:cubicBezTo>
                <a:cubicBezTo>
                  <a:pt x="10598" y="7243"/>
                  <a:pt x="10471" y="7280"/>
                  <a:pt x="10418" y="7193"/>
                </a:cubicBezTo>
                <a:cubicBezTo>
                  <a:pt x="10418" y="7177"/>
                  <a:pt x="10418" y="7160"/>
                  <a:pt x="10418" y="7144"/>
                </a:cubicBezTo>
              </a:path>
              <a:path w="7889" h="1762">
                <a:moveTo>
                  <a:pt x="10964" y="6350"/>
                </a:moveTo>
                <a:cubicBezTo>
                  <a:pt x="10964" y="6567"/>
                  <a:pt x="10966" y="6782"/>
                  <a:pt x="10988" y="6995"/>
                </a:cubicBezTo>
                <a:cubicBezTo>
                  <a:pt x="10998" y="7092"/>
                  <a:pt x="11005" y="7103"/>
                  <a:pt x="11013" y="7169"/>
                </a:cubicBezTo>
                <a:cubicBezTo>
                  <a:pt x="11017" y="7197"/>
                  <a:pt x="11005" y="7333"/>
                  <a:pt x="11038" y="7268"/>
                </a:cubicBezTo>
              </a:path>
              <a:path w="7889" h="1762">
                <a:moveTo>
                  <a:pt x="11286" y="6499"/>
                </a:moveTo>
                <a:cubicBezTo>
                  <a:pt x="11286" y="6638"/>
                  <a:pt x="11251" y="6842"/>
                  <a:pt x="11311" y="6970"/>
                </a:cubicBezTo>
                <a:cubicBezTo>
                  <a:pt x="11339" y="7030"/>
                  <a:pt x="11388" y="7148"/>
                  <a:pt x="11460" y="7169"/>
                </a:cubicBezTo>
                <a:cubicBezTo>
                  <a:pt x="11512" y="7184"/>
                  <a:pt x="11601" y="7208"/>
                  <a:pt x="11658" y="7193"/>
                </a:cubicBezTo>
                <a:cubicBezTo>
                  <a:pt x="11742" y="7170"/>
                  <a:pt x="11769" y="7157"/>
                  <a:pt x="11832" y="7094"/>
                </a:cubicBezTo>
                <a:cubicBezTo>
                  <a:pt x="11880" y="7046"/>
                  <a:pt x="11903" y="6987"/>
                  <a:pt x="11906" y="6921"/>
                </a:cubicBezTo>
                <a:cubicBezTo>
                  <a:pt x="11910" y="6828"/>
                  <a:pt x="11933" y="6764"/>
                  <a:pt x="11906" y="6672"/>
                </a:cubicBezTo>
                <a:cubicBezTo>
                  <a:pt x="11889" y="6612"/>
                  <a:pt x="11826" y="6513"/>
                  <a:pt x="11782" y="6474"/>
                </a:cubicBezTo>
                <a:cubicBezTo>
                  <a:pt x="11724" y="6423"/>
                  <a:pt x="11635" y="6385"/>
                  <a:pt x="11559" y="6375"/>
                </a:cubicBezTo>
                <a:cubicBezTo>
                  <a:pt x="11488" y="6365"/>
                  <a:pt x="11435" y="6402"/>
                  <a:pt x="11385" y="6449"/>
                </a:cubicBezTo>
                <a:cubicBezTo>
                  <a:pt x="11324" y="6506"/>
                  <a:pt x="11320" y="6545"/>
                  <a:pt x="11311" y="6623"/>
                </a:cubicBezTo>
              </a:path>
              <a:path w="7889" h="1762">
                <a:moveTo>
                  <a:pt x="12452" y="6598"/>
                </a:moveTo>
                <a:cubicBezTo>
                  <a:pt x="12452" y="6670"/>
                  <a:pt x="12466" y="6738"/>
                  <a:pt x="12477" y="6796"/>
                </a:cubicBezTo>
                <a:cubicBezTo>
                  <a:pt x="12489" y="6860"/>
                  <a:pt x="12492" y="6933"/>
                  <a:pt x="12502" y="6995"/>
                </a:cubicBezTo>
                <a:cubicBezTo>
                  <a:pt x="12506" y="7018"/>
                  <a:pt x="12526" y="7180"/>
                  <a:pt x="12526" y="7119"/>
                </a:cubicBezTo>
              </a:path>
              <a:path w="7889" h="1762">
                <a:moveTo>
                  <a:pt x="12204" y="6772"/>
                </a:moveTo>
                <a:cubicBezTo>
                  <a:pt x="12349" y="6772"/>
                  <a:pt x="12485" y="6781"/>
                  <a:pt x="12626" y="6796"/>
                </a:cubicBezTo>
                <a:cubicBezTo>
                  <a:pt x="12720" y="6806"/>
                  <a:pt x="12816" y="6805"/>
                  <a:pt x="12898" y="6821"/>
                </a:cubicBezTo>
                <a:cubicBezTo>
                  <a:pt x="12943" y="6821"/>
                  <a:pt x="12963" y="6824"/>
                  <a:pt x="12923" y="6796"/>
                </a:cubicBezTo>
              </a:path>
              <a:path w="7889" h="1762">
                <a:moveTo>
                  <a:pt x="13395" y="6201"/>
                </a:moveTo>
                <a:cubicBezTo>
                  <a:pt x="13376" y="6309"/>
                  <a:pt x="13348" y="6415"/>
                  <a:pt x="13345" y="6524"/>
                </a:cubicBezTo>
                <a:cubicBezTo>
                  <a:pt x="13338" y="6731"/>
                  <a:pt x="13338" y="6946"/>
                  <a:pt x="13370" y="7144"/>
                </a:cubicBezTo>
                <a:cubicBezTo>
                  <a:pt x="13379" y="7202"/>
                  <a:pt x="13366" y="7219"/>
                  <a:pt x="13395" y="7268"/>
                </a:cubicBezTo>
              </a:path>
              <a:path w="7889" h="1762">
                <a:moveTo>
                  <a:pt x="13643" y="6697"/>
                </a:moveTo>
                <a:cubicBezTo>
                  <a:pt x="13635" y="6776"/>
                  <a:pt x="13606" y="6819"/>
                  <a:pt x="13593" y="6896"/>
                </a:cubicBezTo>
                <a:cubicBezTo>
                  <a:pt x="13581" y="6970"/>
                  <a:pt x="13590" y="7053"/>
                  <a:pt x="13618" y="7119"/>
                </a:cubicBezTo>
                <a:cubicBezTo>
                  <a:pt x="13655" y="7207"/>
                  <a:pt x="13684" y="7226"/>
                  <a:pt x="13767" y="7268"/>
                </a:cubicBezTo>
                <a:cubicBezTo>
                  <a:pt x="13827" y="7298"/>
                  <a:pt x="13923" y="7311"/>
                  <a:pt x="13990" y="7293"/>
                </a:cubicBezTo>
                <a:cubicBezTo>
                  <a:pt x="14053" y="7276"/>
                  <a:pt x="14127" y="7223"/>
                  <a:pt x="14163" y="7169"/>
                </a:cubicBezTo>
                <a:cubicBezTo>
                  <a:pt x="14199" y="7116"/>
                  <a:pt x="14202" y="7009"/>
                  <a:pt x="14188" y="6945"/>
                </a:cubicBezTo>
                <a:cubicBezTo>
                  <a:pt x="14169" y="6857"/>
                  <a:pt x="14107" y="6731"/>
                  <a:pt x="14039" y="6672"/>
                </a:cubicBezTo>
                <a:cubicBezTo>
                  <a:pt x="13990" y="6629"/>
                  <a:pt x="13903" y="6601"/>
                  <a:pt x="13841" y="6598"/>
                </a:cubicBezTo>
                <a:cubicBezTo>
                  <a:pt x="13762" y="6594"/>
                  <a:pt x="13742" y="6635"/>
                  <a:pt x="13692" y="6672"/>
                </a:cubicBezTo>
                <a:cubicBezTo>
                  <a:pt x="13634" y="6715"/>
                  <a:pt x="13585" y="6793"/>
                  <a:pt x="13593" y="6871"/>
                </a:cubicBezTo>
                <a:cubicBezTo>
                  <a:pt x="13601" y="6944"/>
                  <a:pt x="13629" y="7008"/>
                  <a:pt x="13692" y="7045"/>
                </a:cubicBezTo>
                <a:cubicBezTo>
                  <a:pt x="13742" y="7069"/>
                  <a:pt x="13758" y="7077"/>
                  <a:pt x="13791" y="7094"/>
                </a:cubicBezTo>
              </a:path>
              <a:path w="7889" h="1762">
                <a:moveTo>
                  <a:pt x="14536" y="6573"/>
                </a:moveTo>
                <a:cubicBezTo>
                  <a:pt x="14448" y="6584"/>
                  <a:pt x="14425" y="6609"/>
                  <a:pt x="14362" y="6672"/>
                </a:cubicBezTo>
                <a:cubicBezTo>
                  <a:pt x="14302" y="6731"/>
                  <a:pt x="14254" y="6811"/>
                  <a:pt x="14238" y="6896"/>
                </a:cubicBezTo>
                <a:cubicBezTo>
                  <a:pt x="14223" y="6975"/>
                  <a:pt x="14243" y="7053"/>
                  <a:pt x="14288" y="7119"/>
                </a:cubicBezTo>
                <a:cubicBezTo>
                  <a:pt x="14323" y="7170"/>
                  <a:pt x="14355" y="7206"/>
                  <a:pt x="14412" y="7218"/>
                </a:cubicBezTo>
                <a:cubicBezTo>
                  <a:pt x="14501" y="7236"/>
                  <a:pt x="14548" y="7201"/>
                  <a:pt x="14610" y="7144"/>
                </a:cubicBezTo>
                <a:cubicBezTo>
                  <a:pt x="14649" y="7108"/>
                  <a:pt x="14697" y="7022"/>
                  <a:pt x="14709" y="6970"/>
                </a:cubicBezTo>
                <a:cubicBezTo>
                  <a:pt x="14728" y="6886"/>
                  <a:pt x="14722" y="6852"/>
                  <a:pt x="14709" y="6772"/>
                </a:cubicBezTo>
                <a:cubicBezTo>
                  <a:pt x="14699" y="6711"/>
                  <a:pt x="14703" y="6716"/>
                  <a:pt x="14660" y="6672"/>
                </a:cubicBezTo>
                <a:cubicBezTo>
                  <a:pt x="14565" y="6753"/>
                  <a:pt x="14585" y="6815"/>
                  <a:pt x="14585" y="6945"/>
                </a:cubicBezTo>
                <a:cubicBezTo>
                  <a:pt x="14585" y="7079"/>
                  <a:pt x="14602" y="7187"/>
                  <a:pt x="14635" y="7317"/>
                </a:cubicBezTo>
                <a:cubicBezTo>
                  <a:pt x="14665" y="7438"/>
                  <a:pt x="14680" y="7565"/>
                  <a:pt x="14684" y="7689"/>
                </a:cubicBezTo>
                <a:cubicBezTo>
                  <a:pt x="14686" y="7758"/>
                  <a:pt x="14693" y="7859"/>
                  <a:pt x="14635" y="7913"/>
                </a:cubicBezTo>
                <a:cubicBezTo>
                  <a:pt x="14574" y="7970"/>
                  <a:pt x="14451" y="7940"/>
                  <a:pt x="14387" y="7913"/>
                </a:cubicBezTo>
                <a:cubicBezTo>
                  <a:pt x="14327" y="7887"/>
                  <a:pt x="14256" y="7830"/>
                  <a:pt x="14238" y="7764"/>
                </a:cubicBezTo>
                <a:cubicBezTo>
                  <a:pt x="14238" y="7747"/>
                  <a:pt x="14238" y="7731"/>
                  <a:pt x="14238" y="7714"/>
                </a:cubicBezTo>
              </a:path>
              <a:path w="7889" h="1762">
                <a:moveTo>
                  <a:pt x="14908" y="7094"/>
                </a:moveTo>
                <a:cubicBezTo>
                  <a:pt x="14944" y="7202"/>
                  <a:pt x="14929" y="7291"/>
                  <a:pt x="14957" y="7392"/>
                </a:cubicBezTo>
                <a:cubicBezTo>
                  <a:pt x="14977" y="7432"/>
                  <a:pt x="14976" y="7448"/>
                  <a:pt x="15007" y="7441"/>
                </a:cubicBezTo>
              </a:path>
              <a:path w="7889" h="1762">
                <a:moveTo>
                  <a:pt x="15180" y="7119"/>
                </a:moveTo>
                <a:cubicBezTo>
                  <a:pt x="15139" y="7183"/>
                  <a:pt x="15110" y="7262"/>
                  <a:pt x="15131" y="7342"/>
                </a:cubicBezTo>
                <a:cubicBezTo>
                  <a:pt x="15147" y="7404"/>
                  <a:pt x="15225" y="7414"/>
                  <a:pt x="15280" y="7417"/>
                </a:cubicBezTo>
                <a:cubicBezTo>
                  <a:pt x="15347" y="7421"/>
                  <a:pt x="15407" y="7370"/>
                  <a:pt x="15379" y="7293"/>
                </a:cubicBezTo>
                <a:cubicBezTo>
                  <a:pt x="15347" y="7206"/>
                  <a:pt x="15279" y="7181"/>
                  <a:pt x="15205" y="7144"/>
                </a:cubicBezTo>
                <a:cubicBezTo>
                  <a:pt x="15162" y="7122"/>
                  <a:pt x="15150" y="7118"/>
                  <a:pt x="15131" y="7094"/>
                </a:cubicBezTo>
              </a:path>
              <a:path w="7889" h="1762">
                <a:moveTo>
                  <a:pt x="15602" y="6424"/>
                </a:moveTo>
                <a:cubicBezTo>
                  <a:pt x="15699" y="6404"/>
                  <a:pt x="15776" y="6400"/>
                  <a:pt x="15875" y="6400"/>
                </a:cubicBezTo>
                <a:cubicBezTo>
                  <a:pt x="15980" y="6400"/>
                  <a:pt x="16074" y="6408"/>
                  <a:pt x="16173" y="6424"/>
                </a:cubicBezTo>
                <a:cubicBezTo>
                  <a:pt x="16234" y="6434"/>
                  <a:pt x="16228" y="6430"/>
                  <a:pt x="16272" y="6474"/>
                </a:cubicBezTo>
                <a:cubicBezTo>
                  <a:pt x="16230" y="6516"/>
                  <a:pt x="16189" y="6588"/>
                  <a:pt x="16148" y="6623"/>
                </a:cubicBezTo>
                <a:cubicBezTo>
                  <a:pt x="16078" y="6683"/>
                  <a:pt x="16006" y="6726"/>
                  <a:pt x="15949" y="6796"/>
                </a:cubicBezTo>
                <a:cubicBezTo>
                  <a:pt x="15910" y="6843"/>
                  <a:pt x="15886" y="6897"/>
                  <a:pt x="15850" y="6945"/>
                </a:cubicBezTo>
                <a:cubicBezTo>
                  <a:pt x="15801" y="7009"/>
                  <a:pt x="15828" y="7061"/>
                  <a:pt x="15900" y="7094"/>
                </a:cubicBezTo>
                <a:cubicBezTo>
                  <a:pt x="15980" y="7130"/>
                  <a:pt x="16063" y="7119"/>
                  <a:pt x="16148" y="7119"/>
                </a:cubicBezTo>
                <a:cubicBezTo>
                  <a:pt x="16224" y="7119"/>
                  <a:pt x="16301" y="7117"/>
                  <a:pt x="16371" y="7094"/>
                </a:cubicBezTo>
                <a:cubicBezTo>
                  <a:pt x="16388" y="7086"/>
                  <a:pt x="16404" y="7077"/>
                  <a:pt x="16421" y="7069"/>
                </a:cubicBezTo>
              </a:path>
              <a:path w="7889" h="1762">
                <a:moveTo>
                  <a:pt x="15677" y="6623"/>
                </a:moveTo>
                <a:cubicBezTo>
                  <a:pt x="15659" y="6570"/>
                  <a:pt x="15778" y="6598"/>
                  <a:pt x="15850" y="6598"/>
                </a:cubicBezTo>
                <a:cubicBezTo>
                  <a:pt x="15959" y="6598"/>
                  <a:pt x="16065" y="6616"/>
                  <a:pt x="16173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7"/>
          <p:cNvSpPr/>
          <p:nvPr/>
        </p:nvSpPr>
        <p:spPr>
          <a:xfrm>
            <a:off x="2589120" y="3106800"/>
            <a:ext cx="117720" cy="5544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7218" y="8657"/>
                </a:moveTo>
                <a:cubicBezTo>
                  <a:pt x="7295" y="8657"/>
                  <a:pt x="7348" y="8635"/>
                  <a:pt x="7417" y="8632"/>
                </a:cubicBezTo>
                <a:cubicBezTo>
                  <a:pt x="7475" y="8632"/>
                  <a:pt x="7483" y="8632"/>
                  <a:pt x="7516" y="8632"/>
                </a:cubicBezTo>
              </a:path>
              <a:path w="324" h="150">
                <a:moveTo>
                  <a:pt x="7193" y="8781"/>
                </a:moveTo>
                <a:cubicBezTo>
                  <a:pt x="7301" y="8781"/>
                  <a:pt x="7408" y="8781"/>
                  <a:pt x="7516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Ink 8"/>
          <p:cNvSpPr/>
          <p:nvPr/>
        </p:nvSpPr>
        <p:spPr>
          <a:xfrm>
            <a:off x="3251160" y="2813040"/>
            <a:ext cx="1293840" cy="758880"/>
          </a:xfrm>
          <a:custGeom>
            <a:avLst/>
            <a:gdLst/>
            <a:ahLst/>
            <a:rect l="l" t="t" r="r" b="b"/>
            <a:pathLst>
              <a:path w="3598" h="2110">
                <a:moveTo>
                  <a:pt x="9029" y="8111"/>
                </a:moveTo>
                <a:cubicBezTo>
                  <a:pt x="9029" y="8240"/>
                  <a:pt x="9040" y="8358"/>
                  <a:pt x="9054" y="8483"/>
                </a:cubicBezTo>
                <a:cubicBezTo>
                  <a:pt x="9065" y="8580"/>
                  <a:pt x="9062" y="8685"/>
                  <a:pt x="9079" y="8781"/>
                </a:cubicBezTo>
                <a:cubicBezTo>
                  <a:pt x="9089" y="8839"/>
                  <a:pt x="9109" y="8954"/>
                  <a:pt x="9128" y="9004"/>
                </a:cubicBezTo>
                <a:cubicBezTo>
                  <a:pt x="9149" y="9060"/>
                  <a:pt x="9159" y="9106"/>
                  <a:pt x="9178" y="9029"/>
                </a:cubicBezTo>
              </a:path>
              <a:path w="3598" h="2110">
                <a:moveTo>
                  <a:pt x="9351" y="8508"/>
                </a:moveTo>
                <a:cubicBezTo>
                  <a:pt x="9343" y="8602"/>
                  <a:pt x="9327" y="8685"/>
                  <a:pt x="9327" y="8781"/>
                </a:cubicBezTo>
                <a:cubicBezTo>
                  <a:pt x="9327" y="8829"/>
                  <a:pt x="9372" y="8892"/>
                  <a:pt x="9401" y="8930"/>
                </a:cubicBezTo>
                <a:cubicBezTo>
                  <a:pt x="9449" y="8993"/>
                  <a:pt x="9476" y="9004"/>
                  <a:pt x="9550" y="9004"/>
                </a:cubicBezTo>
                <a:cubicBezTo>
                  <a:pt x="9644" y="9004"/>
                  <a:pt x="9676" y="9015"/>
                  <a:pt x="9748" y="8954"/>
                </a:cubicBezTo>
                <a:cubicBezTo>
                  <a:pt x="9804" y="8907"/>
                  <a:pt x="9820" y="8841"/>
                  <a:pt x="9823" y="8781"/>
                </a:cubicBezTo>
                <a:cubicBezTo>
                  <a:pt x="9827" y="8683"/>
                  <a:pt x="9812" y="8645"/>
                  <a:pt x="9773" y="8558"/>
                </a:cubicBezTo>
                <a:cubicBezTo>
                  <a:pt x="9754" y="8516"/>
                  <a:pt x="9669" y="8424"/>
                  <a:pt x="9624" y="8409"/>
                </a:cubicBezTo>
                <a:cubicBezTo>
                  <a:pt x="9499" y="8367"/>
                  <a:pt x="9531" y="8360"/>
                  <a:pt x="9401" y="8409"/>
                </a:cubicBezTo>
                <a:cubicBezTo>
                  <a:pt x="9353" y="8427"/>
                  <a:pt x="9331" y="8447"/>
                  <a:pt x="9327" y="8508"/>
                </a:cubicBezTo>
                <a:cubicBezTo>
                  <a:pt x="9322" y="8584"/>
                  <a:pt x="9326" y="8638"/>
                  <a:pt x="9351" y="8706"/>
                </a:cubicBezTo>
                <a:cubicBezTo>
                  <a:pt x="9389" y="8811"/>
                  <a:pt x="9405" y="8867"/>
                  <a:pt x="9500" y="8930"/>
                </a:cubicBezTo>
                <a:cubicBezTo>
                  <a:pt x="9560" y="8959"/>
                  <a:pt x="9586" y="8973"/>
                  <a:pt x="9624" y="9004"/>
                </a:cubicBezTo>
              </a:path>
              <a:path w="3598" h="2110">
                <a:moveTo>
                  <a:pt x="10244" y="8558"/>
                </a:moveTo>
                <a:cubicBezTo>
                  <a:pt x="10234" y="8447"/>
                  <a:pt x="10234" y="8389"/>
                  <a:pt x="10096" y="8409"/>
                </a:cubicBezTo>
                <a:cubicBezTo>
                  <a:pt x="10016" y="8420"/>
                  <a:pt x="9941" y="8508"/>
                  <a:pt x="9922" y="8582"/>
                </a:cubicBezTo>
                <a:cubicBezTo>
                  <a:pt x="9906" y="8646"/>
                  <a:pt x="9917" y="8724"/>
                  <a:pt x="9947" y="8781"/>
                </a:cubicBezTo>
                <a:cubicBezTo>
                  <a:pt x="9992" y="8867"/>
                  <a:pt x="10039" y="8822"/>
                  <a:pt x="10096" y="8880"/>
                </a:cubicBezTo>
                <a:cubicBezTo>
                  <a:pt x="10104" y="8897"/>
                  <a:pt x="10112" y="8913"/>
                  <a:pt x="10120" y="8930"/>
                </a:cubicBezTo>
                <a:cubicBezTo>
                  <a:pt x="10185" y="8911"/>
                  <a:pt x="10268" y="8849"/>
                  <a:pt x="10319" y="8781"/>
                </a:cubicBezTo>
                <a:cubicBezTo>
                  <a:pt x="10353" y="8736"/>
                  <a:pt x="10366" y="8606"/>
                  <a:pt x="10344" y="8558"/>
                </a:cubicBezTo>
                <a:cubicBezTo>
                  <a:pt x="10309" y="8558"/>
                  <a:pt x="10296" y="8549"/>
                  <a:pt x="10294" y="8508"/>
                </a:cubicBezTo>
                <a:cubicBezTo>
                  <a:pt x="10268" y="8585"/>
                  <a:pt x="10269" y="8648"/>
                  <a:pt x="10269" y="8731"/>
                </a:cubicBezTo>
                <a:cubicBezTo>
                  <a:pt x="10269" y="8831"/>
                  <a:pt x="10274" y="8933"/>
                  <a:pt x="10294" y="9029"/>
                </a:cubicBezTo>
                <a:cubicBezTo>
                  <a:pt x="10318" y="9146"/>
                  <a:pt x="10319" y="9255"/>
                  <a:pt x="10319" y="9376"/>
                </a:cubicBezTo>
                <a:cubicBezTo>
                  <a:pt x="10319" y="9505"/>
                  <a:pt x="10309" y="9627"/>
                  <a:pt x="10294" y="9748"/>
                </a:cubicBezTo>
                <a:cubicBezTo>
                  <a:pt x="10285" y="9818"/>
                  <a:pt x="10281" y="9897"/>
                  <a:pt x="10195" y="9922"/>
                </a:cubicBezTo>
                <a:cubicBezTo>
                  <a:pt x="10110" y="9947"/>
                  <a:pt x="10054" y="9882"/>
                  <a:pt x="9996" y="9847"/>
                </a:cubicBezTo>
                <a:cubicBezTo>
                  <a:pt x="9922" y="9803"/>
                  <a:pt x="9904" y="9753"/>
                  <a:pt x="9872" y="9674"/>
                </a:cubicBezTo>
              </a:path>
              <a:path w="3598" h="2110">
                <a:moveTo>
                  <a:pt x="10641" y="8731"/>
                </a:moveTo>
                <a:cubicBezTo>
                  <a:pt x="10631" y="8802"/>
                  <a:pt x="10588" y="8857"/>
                  <a:pt x="10567" y="8930"/>
                </a:cubicBezTo>
                <a:cubicBezTo>
                  <a:pt x="10546" y="9002"/>
                  <a:pt x="10607" y="9132"/>
                  <a:pt x="10616" y="9153"/>
                </a:cubicBezTo>
                <a:cubicBezTo>
                  <a:pt x="10655" y="9244"/>
                  <a:pt x="10681" y="9247"/>
                  <a:pt x="10790" y="9252"/>
                </a:cubicBezTo>
                <a:cubicBezTo>
                  <a:pt x="10861" y="9255"/>
                  <a:pt x="10938" y="9248"/>
                  <a:pt x="10964" y="9178"/>
                </a:cubicBezTo>
                <a:cubicBezTo>
                  <a:pt x="10978" y="9139"/>
                  <a:pt x="10949" y="9026"/>
                  <a:pt x="10914" y="9004"/>
                </a:cubicBezTo>
                <a:cubicBezTo>
                  <a:pt x="10857" y="8967"/>
                  <a:pt x="10776" y="9020"/>
                  <a:pt x="10765" y="9079"/>
                </a:cubicBezTo>
                <a:cubicBezTo>
                  <a:pt x="10752" y="9150"/>
                  <a:pt x="10731" y="9224"/>
                  <a:pt x="10790" y="9302"/>
                </a:cubicBezTo>
                <a:cubicBezTo>
                  <a:pt x="10795" y="9309"/>
                  <a:pt x="10851" y="9324"/>
                  <a:pt x="10864" y="9327"/>
                </a:cubicBezTo>
              </a:path>
              <a:path w="3598" h="2110">
                <a:moveTo>
                  <a:pt x="11112" y="8310"/>
                </a:moveTo>
                <a:cubicBezTo>
                  <a:pt x="11167" y="8375"/>
                  <a:pt x="11237" y="8447"/>
                  <a:pt x="11286" y="8508"/>
                </a:cubicBezTo>
                <a:cubicBezTo>
                  <a:pt x="11353" y="8591"/>
                  <a:pt x="11419" y="8629"/>
                  <a:pt x="11485" y="8706"/>
                </a:cubicBezTo>
                <a:cubicBezTo>
                  <a:pt x="11555" y="8787"/>
                  <a:pt x="11626" y="8811"/>
                  <a:pt x="11708" y="8880"/>
                </a:cubicBezTo>
                <a:cubicBezTo>
                  <a:pt x="11757" y="8930"/>
                  <a:pt x="11774" y="8947"/>
                  <a:pt x="11807" y="8880"/>
                </a:cubicBezTo>
              </a:path>
              <a:path w="3598" h="2110">
                <a:moveTo>
                  <a:pt x="11559" y="8210"/>
                </a:moveTo>
                <a:cubicBezTo>
                  <a:pt x="11518" y="8284"/>
                  <a:pt x="11505" y="8339"/>
                  <a:pt x="11460" y="8409"/>
                </a:cubicBezTo>
                <a:cubicBezTo>
                  <a:pt x="11399" y="8505"/>
                  <a:pt x="11388" y="8608"/>
                  <a:pt x="11336" y="8706"/>
                </a:cubicBezTo>
                <a:cubicBezTo>
                  <a:pt x="11302" y="8771"/>
                  <a:pt x="11291" y="8855"/>
                  <a:pt x="11261" y="8930"/>
                </a:cubicBezTo>
              </a:path>
              <a:path w="3598" h="2110">
                <a:moveTo>
                  <a:pt x="11708" y="7838"/>
                </a:moveTo>
                <a:cubicBezTo>
                  <a:pt x="11779" y="7795"/>
                  <a:pt x="11805" y="7825"/>
                  <a:pt x="11881" y="7838"/>
                </a:cubicBezTo>
                <a:cubicBezTo>
                  <a:pt x="11943" y="7848"/>
                  <a:pt x="11937" y="7844"/>
                  <a:pt x="11981" y="7888"/>
                </a:cubicBezTo>
                <a:cubicBezTo>
                  <a:pt x="11920" y="7949"/>
                  <a:pt x="11879" y="7968"/>
                  <a:pt x="11807" y="8012"/>
                </a:cubicBezTo>
                <a:cubicBezTo>
                  <a:pt x="11777" y="8042"/>
                  <a:pt x="11763" y="8053"/>
                  <a:pt x="11733" y="8062"/>
                </a:cubicBezTo>
                <a:cubicBezTo>
                  <a:pt x="11817" y="8093"/>
                  <a:pt x="11856" y="8100"/>
                  <a:pt x="11931" y="8161"/>
                </a:cubicBezTo>
                <a:cubicBezTo>
                  <a:pt x="11970" y="8192"/>
                  <a:pt x="11979" y="8245"/>
                  <a:pt x="12005" y="8285"/>
                </a:cubicBezTo>
                <a:cubicBezTo>
                  <a:pt x="11931" y="8323"/>
                  <a:pt x="11907" y="8289"/>
                  <a:pt x="11832" y="8285"/>
                </a:cubicBezTo>
                <a:cubicBezTo>
                  <a:pt x="11782" y="8285"/>
                  <a:pt x="11766" y="8285"/>
                  <a:pt x="11733" y="8285"/>
                </a:cubicBezTo>
              </a:path>
              <a:path w="3598" h="2110">
                <a:moveTo>
                  <a:pt x="12378" y="8260"/>
                </a:moveTo>
                <a:cubicBezTo>
                  <a:pt x="12353" y="8351"/>
                  <a:pt x="12344" y="8466"/>
                  <a:pt x="12378" y="8558"/>
                </a:cubicBezTo>
                <a:cubicBezTo>
                  <a:pt x="12394" y="8601"/>
                  <a:pt x="12467" y="8687"/>
                  <a:pt x="12477" y="8706"/>
                </a:cubicBezTo>
                <a:cubicBezTo>
                  <a:pt x="12477" y="8714"/>
                  <a:pt x="12477" y="8723"/>
                  <a:pt x="12477" y="8731"/>
                </a:cubicBezTo>
              </a:path>
              <a:path w="3598" h="2110">
                <a:moveTo>
                  <a:pt x="12204" y="8409"/>
                </a:moveTo>
                <a:cubicBezTo>
                  <a:pt x="12337" y="8362"/>
                  <a:pt x="12410" y="8359"/>
                  <a:pt x="12551" y="8359"/>
                </a:cubicBezTo>
                <a:cubicBezTo>
                  <a:pt x="12576" y="8359"/>
                  <a:pt x="12601" y="8359"/>
                  <a:pt x="1262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Ink 9"/>
          <p:cNvSpPr/>
          <p:nvPr/>
        </p:nvSpPr>
        <p:spPr>
          <a:xfrm>
            <a:off x="4714920" y="2867040"/>
            <a:ext cx="1009440" cy="749160"/>
          </a:xfrm>
          <a:custGeom>
            <a:avLst/>
            <a:gdLst/>
            <a:ahLst/>
            <a:rect l="l" t="t" r="r" b="b"/>
            <a:pathLst>
              <a:path w="2804" h="2085">
                <a:moveTo>
                  <a:pt x="13122" y="7962"/>
                </a:moveTo>
                <a:cubicBezTo>
                  <a:pt x="13114" y="8050"/>
                  <a:pt x="13097" y="8119"/>
                  <a:pt x="13097" y="8210"/>
                </a:cubicBezTo>
                <a:cubicBezTo>
                  <a:pt x="13097" y="8314"/>
                  <a:pt x="13132" y="8383"/>
                  <a:pt x="13146" y="8483"/>
                </a:cubicBezTo>
                <a:cubicBezTo>
                  <a:pt x="13159" y="8574"/>
                  <a:pt x="13201" y="8650"/>
                  <a:pt x="13221" y="8731"/>
                </a:cubicBezTo>
                <a:cubicBezTo>
                  <a:pt x="13236" y="8791"/>
                  <a:pt x="13238" y="8826"/>
                  <a:pt x="13295" y="8855"/>
                </a:cubicBezTo>
              </a:path>
              <a:path w="2804" h="2085">
                <a:moveTo>
                  <a:pt x="13419" y="8359"/>
                </a:moveTo>
                <a:cubicBezTo>
                  <a:pt x="13419" y="8458"/>
                  <a:pt x="13402" y="8574"/>
                  <a:pt x="13444" y="8657"/>
                </a:cubicBezTo>
                <a:cubicBezTo>
                  <a:pt x="13480" y="8729"/>
                  <a:pt x="13533" y="8756"/>
                  <a:pt x="13593" y="8781"/>
                </a:cubicBezTo>
                <a:cubicBezTo>
                  <a:pt x="13649" y="8804"/>
                  <a:pt x="13728" y="8824"/>
                  <a:pt x="13791" y="8806"/>
                </a:cubicBezTo>
                <a:cubicBezTo>
                  <a:pt x="13882" y="8781"/>
                  <a:pt x="13893" y="8696"/>
                  <a:pt x="13915" y="8632"/>
                </a:cubicBezTo>
                <a:cubicBezTo>
                  <a:pt x="13951" y="8528"/>
                  <a:pt x="13898" y="8431"/>
                  <a:pt x="13841" y="8334"/>
                </a:cubicBezTo>
                <a:cubicBezTo>
                  <a:pt x="13813" y="8286"/>
                  <a:pt x="13715" y="8259"/>
                  <a:pt x="13667" y="8235"/>
                </a:cubicBezTo>
                <a:cubicBezTo>
                  <a:pt x="13604" y="8203"/>
                  <a:pt x="13523" y="8201"/>
                  <a:pt x="13469" y="8260"/>
                </a:cubicBezTo>
                <a:cubicBezTo>
                  <a:pt x="13425" y="8308"/>
                  <a:pt x="13419" y="8348"/>
                  <a:pt x="13419" y="8409"/>
                </a:cubicBezTo>
                <a:cubicBezTo>
                  <a:pt x="13419" y="8465"/>
                  <a:pt x="13454" y="8586"/>
                  <a:pt x="13494" y="8632"/>
                </a:cubicBezTo>
                <a:cubicBezTo>
                  <a:pt x="13547" y="8659"/>
                  <a:pt x="13567" y="8671"/>
                  <a:pt x="13593" y="8706"/>
                </a:cubicBezTo>
              </a:path>
              <a:path w="2804" h="2085">
                <a:moveTo>
                  <a:pt x="14337" y="8334"/>
                </a:moveTo>
                <a:cubicBezTo>
                  <a:pt x="14273" y="8245"/>
                  <a:pt x="14257" y="8257"/>
                  <a:pt x="14163" y="8310"/>
                </a:cubicBezTo>
                <a:cubicBezTo>
                  <a:pt x="14100" y="8345"/>
                  <a:pt x="14059" y="8354"/>
                  <a:pt x="14039" y="8434"/>
                </a:cubicBezTo>
                <a:cubicBezTo>
                  <a:pt x="14023" y="8495"/>
                  <a:pt x="14038" y="8589"/>
                  <a:pt x="14089" y="8632"/>
                </a:cubicBezTo>
                <a:cubicBezTo>
                  <a:pt x="14125" y="8663"/>
                  <a:pt x="14210" y="8731"/>
                  <a:pt x="14263" y="8731"/>
                </a:cubicBezTo>
                <a:cubicBezTo>
                  <a:pt x="14323" y="8731"/>
                  <a:pt x="14395" y="8689"/>
                  <a:pt x="14412" y="8632"/>
                </a:cubicBezTo>
                <a:cubicBezTo>
                  <a:pt x="14446" y="8518"/>
                  <a:pt x="14439" y="8445"/>
                  <a:pt x="14412" y="8334"/>
                </a:cubicBezTo>
                <a:cubicBezTo>
                  <a:pt x="14336" y="8366"/>
                  <a:pt x="14341" y="8381"/>
                  <a:pt x="14337" y="8483"/>
                </a:cubicBezTo>
                <a:cubicBezTo>
                  <a:pt x="14333" y="8593"/>
                  <a:pt x="14376" y="8697"/>
                  <a:pt x="14387" y="8806"/>
                </a:cubicBezTo>
                <a:cubicBezTo>
                  <a:pt x="14399" y="8929"/>
                  <a:pt x="14427" y="9055"/>
                  <a:pt x="14436" y="9178"/>
                </a:cubicBezTo>
                <a:cubicBezTo>
                  <a:pt x="14445" y="9300"/>
                  <a:pt x="14454" y="9387"/>
                  <a:pt x="14436" y="9500"/>
                </a:cubicBezTo>
                <a:cubicBezTo>
                  <a:pt x="14423" y="9581"/>
                  <a:pt x="14426" y="9619"/>
                  <a:pt x="14337" y="9624"/>
                </a:cubicBezTo>
                <a:cubicBezTo>
                  <a:pt x="14261" y="9629"/>
                  <a:pt x="14208" y="9611"/>
                  <a:pt x="14139" y="9599"/>
                </a:cubicBezTo>
                <a:cubicBezTo>
                  <a:pt x="14082" y="9589"/>
                  <a:pt x="14050" y="9555"/>
                  <a:pt x="14015" y="9500"/>
                </a:cubicBezTo>
                <a:cubicBezTo>
                  <a:pt x="14007" y="9484"/>
                  <a:pt x="13998" y="9467"/>
                  <a:pt x="13990" y="9451"/>
                </a:cubicBezTo>
              </a:path>
              <a:path w="2804" h="2085">
                <a:moveTo>
                  <a:pt x="14660" y="8706"/>
                </a:moveTo>
                <a:cubicBezTo>
                  <a:pt x="14688" y="8802"/>
                  <a:pt x="14675" y="8800"/>
                  <a:pt x="14660" y="8880"/>
                </a:cubicBezTo>
                <a:cubicBezTo>
                  <a:pt x="14651" y="8924"/>
                  <a:pt x="14688" y="9056"/>
                  <a:pt x="14734" y="9079"/>
                </a:cubicBezTo>
                <a:cubicBezTo>
                  <a:pt x="14767" y="9096"/>
                  <a:pt x="14867" y="9118"/>
                  <a:pt x="14908" y="9103"/>
                </a:cubicBezTo>
                <a:cubicBezTo>
                  <a:pt x="14952" y="9086"/>
                  <a:pt x="14979" y="9055"/>
                  <a:pt x="14982" y="9004"/>
                </a:cubicBezTo>
                <a:cubicBezTo>
                  <a:pt x="14990" y="8843"/>
                  <a:pt x="14918" y="8891"/>
                  <a:pt x="14833" y="8930"/>
                </a:cubicBezTo>
                <a:cubicBezTo>
                  <a:pt x="14770" y="8959"/>
                  <a:pt x="14767" y="9025"/>
                  <a:pt x="14784" y="9103"/>
                </a:cubicBezTo>
                <a:cubicBezTo>
                  <a:pt x="14805" y="9147"/>
                  <a:pt x="14808" y="9159"/>
                  <a:pt x="14833" y="9178"/>
                </a:cubicBezTo>
              </a:path>
              <a:path w="2804" h="2085">
                <a:moveTo>
                  <a:pt x="15230" y="8285"/>
                </a:moveTo>
                <a:cubicBezTo>
                  <a:pt x="15230" y="8359"/>
                  <a:pt x="15232" y="8414"/>
                  <a:pt x="15255" y="8483"/>
                </a:cubicBezTo>
                <a:cubicBezTo>
                  <a:pt x="15277" y="8548"/>
                  <a:pt x="15302" y="8576"/>
                  <a:pt x="15354" y="8632"/>
                </a:cubicBezTo>
                <a:cubicBezTo>
                  <a:pt x="15444" y="8729"/>
                  <a:pt x="15465" y="8713"/>
                  <a:pt x="15577" y="8657"/>
                </a:cubicBezTo>
                <a:cubicBezTo>
                  <a:pt x="15648" y="8621"/>
                  <a:pt x="15646" y="8560"/>
                  <a:pt x="15677" y="8483"/>
                </a:cubicBezTo>
                <a:cubicBezTo>
                  <a:pt x="15707" y="8408"/>
                  <a:pt x="15719" y="8397"/>
                  <a:pt x="15726" y="8310"/>
                </a:cubicBezTo>
                <a:cubicBezTo>
                  <a:pt x="15726" y="8293"/>
                  <a:pt x="15726" y="8277"/>
                  <a:pt x="15726" y="8260"/>
                </a:cubicBezTo>
                <a:cubicBezTo>
                  <a:pt x="15694" y="8324"/>
                  <a:pt x="15680" y="8334"/>
                  <a:pt x="15677" y="8409"/>
                </a:cubicBezTo>
                <a:cubicBezTo>
                  <a:pt x="15673" y="8514"/>
                  <a:pt x="15690" y="8605"/>
                  <a:pt x="15701" y="8706"/>
                </a:cubicBezTo>
                <a:cubicBezTo>
                  <a:pt x="15714" y="8830"/>
                  <a:pt x="15743" y="8957"/>
                  <a:pt x="15776" y="9079"/>
                </a:cubicBezTo>
                <a:cubicBezTo>
                  <a:pt x="15813" y="9217"/>
                  <a:pt x="15814" y="9358"/>
                  <a:pt x="15850" y="9500"/>
                </a:cubicBezTo>
                <a:cubicBezTo>
                  <a:pt x="15877" y="9607"/>
                  <a:pt x="15926" y="9734"/>
                  <a:pt x="15900" y="9847"/>
                </a:cubicBezTo>
                <a:cubicBezTo>
                  <a:pt x="15890" y="9891"/>
                  <a:pt x="15842" y="10019"/>
                  <a:pt x="15801" y="10046"/>
                </a:cubicBezTo>
                <a:cubicBezTo>
                  <a:pt x="15748" y="10081"/>
                  <a:pt x="15577" y="10008"/>
                  <a:pt x="15528" y="9996"/>
                </a:cubicBezTo>
                <a:cubicBezTo>
                  <a:pt x="15503" y="9988"/>
                  <a:pt x="15478" y="9979"/>
                  <a:pt x="1545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Ink 10"/>
          <p:cNvSpPr/>
          <p:nvPr/>
        </p:nvSpPr>
        <p:spPr>
          <a:xfrm>
            <a:off x="5929200" y="2840040"/>
            <a:ext cx="1608120" cy="588960"/>
          </a:xfrm>
          <a:custGeom>
            <a:avLst/>
            <a:gdLst/>
            <a:ahLst/>
            <a:rect l="l" t="t" r="r" b="b"/>
            <a:pathLst>
              <a:path w="4466" h="1638">
                <a:moveTo>
                  <a:pt x="16470" y="8359"/>
                </a:moveTo>
                <a:cubicBezTo>
                  <a:pt x="16560" y="8376"/>
                  <a:pt x="16598" y="8409"/>
                  <a:pt x="16694" y="8409"/>
                </a:cubicBezTo>
                <a:cubicBezTo>
                  <a:pt x="16743" y="8409"/>
                  <a:pt x="16793" y="8409"/>
                  <a:pt x="16842" y="8409"/>
                </a:cubicBezTo>
              </a:path>
              <a:path w="4466" h="1638">
                <a:moveTo>
                  <a:pt x="16594" y="8582"/>
                </a:moveTo>
                <a:cubicBezTo>
                  <a:pt x="16664" y="8642"/>
                  <a:pt x="16675" y="8632"/>
                  <a:pt x="16768" y="8632"/>
                </a:cubicBezTo>
              </a:path>
              <a:path w="4466" h="1638">
                <a:moveTo>
                  <a:pt x="17264" y="8062"/>
                </a:moveTo>
                <a:cubicBezTo>
                  <a:pt x="17310" y="7982"/>
                  <a:pt x="17342" y="7967"/>
                  <a:pt x="17438" y="7962"/>
                </a:cubicBezTo>
                <a:cubicBezTo>
                  <a:pt x="17517" y="7958"/>
                  <a:pt x="17581" y="7990"/>
                  <a:pt x="17636" y="8037"/>
                </a:cubicBezTo>
                <a:cubicBezTo>
                  <a:pt x="17700" y="8092"/>
                  <a:pt x="17692" y="8142"/>
                  <a:pt x="17661" y="8210"/>
                </a:cubicBezTo>
                <a:cubicBezTo>
                  <a:pt x="17625" y="8289"/>
                  <a:pt x="17555" y="8307"/>
                  <a:pt x="17487" y="8334"/>
                </a:cubicBezTo>
                <a:cubicBezTo>
                  <a:pt x="17443" y="8351"/>
                  <a:pt x="17338" y="8403"/>
                  <a:pt x="17314" y="8434"/>
                </a:cubicBezTo>
                <a:cubicBezTo>
                  <a:pt x="17306" y="8450"/>
                  <a:pt x="17297" y="8467"/>
                  <a:pt x="17289" y="8483"/>
                </a:cubicBezTo>
                <a:cubicBezTo>
                  <a:pt x="17447" y="8483"/>
                  <a:pt x="17456" y="8501"/>
                  <a:pt x="17587" y="8558"/>
                </a:cubicBezTo>
                <a:cubicBezTo>
                  <a:pt x="17639" y="8580"/>
                  <a:pt x="17721" y="8628"/>
                  <a:pt x="17735" y="8706"/>
                </a:cubicBezTo>
                <a:cubicBezTo>
                  <a:pt x="17757" y="8830"/>
                  <a:pt x="17604" y="8829"/>
                  <a:pt x="17512" y="8880"/>
                </a:cubicBezTo>
                <a:cubicBezTo>
                  <a:pt x="17441" y="8919"/>
                  <a:pt x="17302" y="8970"/>
                  <a:pt x="17214" y="8930"/>
                </a:cubicBezTo>
                <a:cubicBezTo>
                  <a:pt x="17142" y="8897"/>
                  <a:pt x="17118" y="8840"/>
                  <a:pt x="17115" y="8781"/>
                </a:cubicBezTo>
                <a:cubicBezTo>
                  <a:pt x="17115" y="8764"/>
                  <a:pt x="17115" y="8748"/>
                  <a:pt x="17115" y="8731"/>
                </a:cubicBezTo>
              </a:path>
              <a:path w="4466" h="1638">
                <a:moveTo>
                  <a:pt x="18107" y="7888"/>
                </a:moveTo>
                <a:cubicBezTo>
                  <a:pt x="18107" y="8098"/>
                  <a:pt x="18118" y="8300"/>
                  <a:pt x="18132" y="8508"/>
                </a:cubicBezTo>
                <a:cubicBezTo>
                  <a:pt x="18138" y="8602"/>
                  <a:pt x="18153" y="8690"/>
                  <a:pt x="18157" y="8781"/>
                </a:cubicBezTo>
                <a:cubicBezTo>
                  <a:pt x="18157" y="8856"/>
                  <a:pt x="18157" y="8880"/>
                  <a:pt x="18182" y="8781"/>
                </a:cubicBezTo>
              </a:path>
              <a:path w="4466" h="1638">
                <a:moveTo>
                  <a:pt x="18331" y="8409"/>
                </a:moveTo>
                <a:cubicBezTo>
                  <a:pt x="18331" y="8527"/>
                  <a:pt x="18336" y="8628"/>
                  <a:pt x="18355" y="8731"/>
                </a:cubicBezTo>
                <a:cubicBezTo>
                  <a:pt x="18373" y="8832"/>
                  <a:pt x="18408" y="8846"/>
                  <a:pt x="18479" y="8806"/>
                </a:cubicBezTo>
                <a:cubicBezTo>
                  <a:pt x="18552" y="8765"/>
                  <a:pt x="18614" y="8721"/>
                  <a:pt x="18628" y="8632"/>
                </a:cubicBezTo>
                <a:cubicBezTo>
                  <a:pt x="18642" y="8541"/>
                  <a:pt x="18671" y="8448"/>
                  <a:pt x="18628" y="8359"/>
                </a:cubicBezTo>
                <a:cubicBezTo>
                  <a:pt x="18606" y="8315"/>
                  <a:pt x="18523" y="8270"/>
                  <a:pt x="18479" y="8260"/>
                </a:cubicBezTo>
                <a:cubicBezTo>
                  <a:pt x="18410" y="8244"/>
                  <a:pt x="18338" y="8272"/>
                  <a:pt x="18281" y="8310"/>
                </a:cubicBezTo>
                <a:cubicBezTo>
                  <a:pt x="18199" y="8365"/>
                  <a:pt x="18188" y="8381"/>
                  <a:pt x="18182" y="8483"/>
                </a:cubicBezTo>
                <a:cubicBezTo>
                  <a:pt x="18179" y="8538"/>
                  <a:pt x="18230" y="8590"/>
                  <a:pt x="18256" y="8632"/>
                </a:cubicBezTo>
              </a:path>
              <a:path w="4466" h="1638">
                <a:moveTo>
                  <a:pt x="19000" y="8409"/>
                </a:moveTo>
                <a:cubicBezTo>
                  <a:pt x="19017" y="8376"/>
                  <a:pt x="19033" y="8343"/>
                  <a:pt x="19050" y="8310"/>
                </a:cubicBezTo>
                <a:cubicBezTo>
                  <a:pt x="18992" y="8275"/>
                  <a:pt x="18876" y="8292"/>
                  <a:pt x="18827" y="8334"/>
                </a:cubicBezTo>
                <a:cubicBezTo>
                  <a:pt x="18768" y="8384"/>
                  <a:pt x="18692" y="8478"/>
                  <a:pt x="18678" y="8558"/>
                </a:cubicBezTo>
                <a:cubicBezTo>
                  <a:pt x="18670" y="8605"/>
                  <a:pt x="18709" y="8672"/>
                  <a:pt x="18752" y="8706"/>
                </a:cubicBezTo>
                <a:cubicBezTo>
                  <a:pt x="18807" y="8749"/>
                  <a:pt x="18913" y="8686"/>
                  <a:pt x="18951" y="8657"/>
                </a:cubicBezTo>
                <a:cubicBezTo>
                  <a:pt x="19000" y="8619"/>
                  <a:pt x="19063" y="8542"/>
                  <a:pt x="19075" y="8483"/>
                </a:cubicBezTo>
                <a:cubicBezTo>
                  <a:pt x="19075" y="8458"/>
                  <a:pt x="19075" y="8434"/>
                  <a:pt x="19075" y="8409"/>
                </a:cubicBezTo>
                <a:cubicBezTo>
                  <a:pt x="18999" y="8428"/>
                  <a:pt x="19003" y="8485"/>
                  <a:pt x="19000" y="8558"/>
                </a:cubicBezTo>
                <a:cubicBezTo>
                  <a:pt x="18996" y="8674"/>
                  <a:pt x="18982" y="8762"/>
                  <a:pt x="19000" y="8880"/>
                </a:cubicBezTo>
                <a:cubicBezTo>
                  <a:pt x="19019" y="9007"/>
                  <a:pt x="19046" y="9125"/>
                  <a:pt x="19050" y="9252"/>
                </a:cubicBezTo>
                <a:cubicBezTo>
                  <a:pt x="19053" y="9352"/>
                  <a:pt x="19064" y="9433"/>
                  <a:pt x="18976" y="9500"/>
                </a:cubicBezTo>
                <a:cubicBezTo>
                  <a:pt x="18920" y="9542"/>
                  <a:pt x="18758" y="9551"/>
                  <a:pt x="18703" y="9500"/>
                </a:cubicBezTo>
                <a:cubicBezTo>
                  <a:pt x="18678" y="9451"/>
                  <a:pt x="18669" y="9434"/>
                  <a:pt x="18653" y="9401"/>
                </a:cubicBezTo>
              </a:path>
              <a:path w="4466" h="1638">
                <a:moveTo>
                  <a:pt x="19199" y="8657"/>
                </a:moveTo>
                <a:cubicBezTo>
                  <a:pt x="19185" y="8739"/>
                  <a:pt x="19152" y="8866"/>
                  <a:pt x="19174" y="8954"/>
                </a:cubicBezTo>
                <a:cubicBezTo>
                  <a:pt x="19195" y="9037"/>
                  <a:pt x="19245" y="9010"/>
                  <a:pt x="19298" y="9004"/>
                </a:cubicBezTo>
                <a:cubicBezTo>
                  <a:pt x="19363" y="8996"/>
                  <a:pt x="19411" y="9002"/>
                  <a:pt x="19447" y="8930"/>
                </a:cubicBezTo>
                <a:cubicBezTo>
                  <a:pt x="19469" y="8863"/>
                  <a:pt x="19481" y="8845"/>
                  <a:pt x="19447" y="8806"/>
                </a:cubicBezTo>
                <a:cubicBezTo>
                  <a:pt x="19402" y="8819"/>
                  <a:pt x="19353" y="8837"/>
                  <a:pt x="19323" y="8880"/>
                </a:cubicBezTo>
                <a:cubicBezTo>
                  <a:pt x="19285" y="8935"/>
                  <a:pt x="19256" y="8938"/>
                  <a:pt x="19323" y="8954"/>
                </a:cubicBezTo>
              </a:path>
              <a:path w="4466" h="1638">
                <a:moveTo>
                  <a:pt x="19645" y="8086"/>
                </a:moveTo>
                <a:cubicBezTo>
                  <a:pt x="19691" y="8178"/>
                  <a:pt x="19735" y="8252"/>
                  <a:pt x="19794" y="8334"/>
                </a:cubicBezTo>
                <a:cubicBezTo>
                  <a:pt x="19858" y="8424"/>
                  <a:pt x="19924" y="8449"/>
                  <a:pt x="20017" y="8508"/>
                </a:cubicBezTo>
                <a:cubicBezTo>
                  <a:pt x="20105" y="8563"/>
                  <a:pt x="20141" y="8558"/>
                  <a:pt x="20241" y="8558"/>
                </a:cubicBezTo>
              </a:path>
              <a:path w="4466" h="1638">
                <a:moveTo>
                  <a:pt x="19893" y="8111"/>
                </a:moveTo>
                <a:cubicBezTo>
                  <a:pt x="19841" y="8211"/>
                  <a:pt x="19778" y="8400"/>
                  <a:pt x="19695" y="8483"/>
                </a:cubicBezTo>
                <a:cubicBezTo>
                  <a:pt x="19652" y="8526"/>
                  <a:pt x="19626" y="8626"/>
                  <a:pt x="19571" y="8657"/>
                </a:cubicBezTo>
                <a:cubicBezTo>
                  <a:pt x="19563" y="8657"/>
                  <a:pt x="19554" y="8657"/>
                  <a:pt x="19546" y="8657"/>
                </a:cubicBezTo>
              </a:path>
              <a:path w="4466" h="1638">
                <a:moveTo>
                  <a:pt x="20588" y="8012"/>
                </a:moveTo>
                <a:cubicBezTo>
                  <a:pt x="20588" y="8118"/>
                  <a:pt x="20593" y="8211"/>
                  <a:pt x="20613" y="8310"/>
                </a:cubicBezTo>
                <a:cubicBezTo>
                  <a:pt x="20625" y="8369"/>
                  <a:pt x="20634" y="8449"/>
                  <a:pt x="20638" y="8508"/>
                </a:cubicBezTo>
                <a:cubicBezTo>
                  <a:pt x="20638" y="8525"/>
                  <a:pt x="20638" y="8541"/>
                  <a:pt x="20638" y="8558"/>
                </a:cubicBezTo>
              </a:path>
              <a:path w="4466" h="1638">
                <a:moveTo>
                  <a:pt x="20389" y="8334"/>
                </a:moveTo>
                <a:cubicBezTo>
                  <a:pt x="20546" y="8334"/>
                  <a:pt x="20708" y="8349"/>
                  <a:pt x="20861" y="8310"/>
                </a:cubicBezTo>
                <a:cubicBezTo>
                  <a:pt x="20886" y="8302"/>
                  <a:pt x="20910" y="8293"/>
                  <a:pt x="20935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Ink 11"/>
          <p:cNvSpPr/>
          <p:nvPr/>
        </p:nvSpPr>
        <p:spPr>
          <a:xfrm>
            <a:off x="7678800" y="2768760"/>
            <a:ext cx="760320" cy="696600"/>
          </a:xfrm>
          <a:custGeom>
            <a:avLst/>
            <a:gdLst/>
            <a:ahLst/>
            <a:rect l="l" t="t" r="r" b="b"/>
            <a:pathLst>
              <a:path w="2109" h="1936">
                <a:moveTo>
                  <a:pt x="21357" y="7689"/>
                </a:moveTo>
                <a:cubicBezTo>
                  <a:pt x="21348" y="7792"/>
                  <a:pt x="21332" y="7879"/>
                  <a:pt x="21332" y="7987"/>
                </a:cubicBezTo>
                <a:cubicBezTo>
                  <a:pt x="21332" y="8133"/>
                  <a:pt x="21341" y="8268"/>
                  <a:pt x="21357" y="8409"/>
                </a:cubicBezTo>
                <a:cubicBezTo>
                  <a:pt x="21359" y="8427"/>
                  <a:pt x="21390" y="8638"/>
                  <a:pt x="21406" y="8632"/>
                </a:cubicBezTo>
                <a:cubicBezTo>
                  <a:pt x="21406" y="8615"/>
                  <a:pt x="21406" y="8599"/>
                  <a:pt x="21406" y="8582"/>
                </a:cubicBezTo>
              </a:path>
              <a:path w="2109" h="1936">
                <a:moveTo>
                  <a:pt x="21555" y="8086"/>
                </a:moveTo>
                <a:cubicBezTo>
                  <a:pt x="21521" y="8200"/>
                  <a:pt x="21479" y="8262"/>
                  <a:pt x="21530" y="8359"/>
                </a:cubicBezTo>
                <a:cubicBezTo>
                  <a:pt x="21568" y="8431"/>
                  <a:pt x="21599" y="8471"/>
                  <a:pt x="21679" y="8483"/>
                </a:cubicBezTo>
                <a:cubicBezTo>
                  <a:pt x="21776" y="8498"/>
                  <a:pt x="21857" y="8493"/>
                  <a:pt x="21927" y="8434"/>
                </a:cubicBezTo>
                <a:cubicBezTo>
                  <a:pt x="21978" y="8391"/>
                  <a:pt x="21998" y="8323"/>
                  <a:pt x="22002" y="8260"/>
                </a:cubicBezTo>
                <a:cubicBezTo>
                  <a:pt x="22006" y="8186"/>
                  <a:pt x="21961" y="8082"/>
                  <a:pt x="21903" y="8037"/>
                </a:cubicBezTo>
                <a:cubicBezTo>
                  <a:pt x="21773" y="7937"/>
                  <a:pt x="21641" y="7928"/>
                  <a:pt x="21530" y="8062"/>
                </a:cubicBezTo>
                <a:cubicBezTo>
                  <a:pt x="21485" y="8117"/>
                  <a:pt x="21470" y="8226"/>
                  <a:pt x="21506" y="8285"/>
                </a:cubicBezTo>
                <a:cubicBezTo>
                  <a:pt x="21550" y="8329"/>
                  <a:pt x="21560" y="8346"/>
                  <a:pt x="21605" y="8334"/>
                </a:cubicBezTo>
              </a:path>
              <a:path w="2109" h="1936">
                <a:moveTo>
                  <a:pt x="22299" y="8086"/>
                </a:moveTo>
                <a:cubicBezTo>
                  <a:pt x="22228" y="8006"/>
                  <a:pt x="22200" y="7986"/>
                  <a:pt x="22101" y="8062"/>
                </a:cubicBezTo>
                <a:cubicBezTo>
                  <a:pt x="22030" y="8117"/>
                  <a:pt x="21982" y="8172"/>
                  <a:pt x="21977" y="8260"/>
                </a:cubicBezTo>
                <a:cubicBezTo>
                  <a:pt x="21975" y="8292"/>
                  <a:pt x="22019" y="8393"/>
                  <a:pt x="22051" y="8409"/>
                </a:cubicBezTo>
                <a:cubicBezTo>
                  <a:pt x="22117" y="8442"/>
                  <a:pt x="22207" y="8398"/>
                  <a:pt x="22250" y="8359"/>
                </a:cubicBezTo>
                <a:cubicBezTo>
                  <a:pt x="22294" y="8318"/>
                  <a:pt x="22353" y="8295"/>
                  <a:pt x="22349" y="8210"/>
                </a:cubicBezTo>
                <a:cubicBezTo>
                  <a:pt x="22341" y="8194"/>
                  <a:pt x="22332" y="8177"/>
                  <a:pt x="22324" y="8161"/>
                </a:cubicBezTo>
                <a:cubicBezTo>
                  <a:pt x="22297" y="8231"/>
                  <a:pt x="22299" y="8283"/>
                  <a:pt x="22299" y="8359"/>
                </a:cubicBezTo>
                <a:cubicBezTo>
                  <a:pt x="22299" y="8484"/>
                  <a:pt x="22338" y="8586"/>
                  <a:pt x="22349" y="8706"/>
                </a:cubicBezTo>
                <a:cubicBezTo>
                  <a:pt x="22359" y="8809"/>
                  <a:pt x="22350" y="8912"/>
                  <a:pt x="22299" y="9004"/>
                </a:cubicBezTo>
                <a:cubicBezTo>
                  <a:pt x="22262" y="9071"/>
                  <a:pt x="22178" y="9122"/>
                  <a:pt x="22101" y="9103"/>
                </a:cubicBezTo>
                <a:cubicBezTo>
                  <a:pt x="22046" y="9090"/>
                  <a:pt x="22005" y="9013"/>
                  <a:pt x="22027" y="8954"/>
                </a:cubicBezTo>
                <a:cubicBezTo>
                  <a:pt x="22043" y="8929"/>
                  <a:pt x="22060" y="8905"/>
                  <a:pt x="22076" y="8880"/>
                </a:cubicBezTo>
              </a:path>
              <a:path w="2109" h="1936">
                <a:moveTo>
                  <a:pt x="22547" y="8434"/>
                </a:moveTo>
                <a:cubicBezTo>
                  <a:pt x="22534" y="8485"/>
                  <a:pt x="22485" y="8607"/>
                  <a:pt x="22498" y="8657"/>
                </a:cubicBezTo>
                <a:cubicBezTo>
                  <a:pt x="22518" y="8735"/>
                  <a:pt x="22550" y="8791"/>
                  <a:pt x="22622" y="8806"/>
                </a:cubicBezTo>
                <a:cubicBezTo>
                  <a:pt x="22719" y="8826"/>
                  <a:pt x="22724" y="8749"/>
                  <a:pt x="22771" y="8706"/>
                </a:cubicBezTo>
                <a:cubicBezTo>
                  <a:pt x="22812" y="8706"/>
                  <a:pt x="22821" y="8690"/>
                  <a:pt x="22796" y="8632"/>
                </a:cubicBezTo>
                <a:cubicBezTo>
                  <a:pt x="22718" y="8632"/>
                  <a:pt x="22724" y="8669"/>
                  <a:pt x="22671" y="8706"/>
                </a:cubicBezTo>
                <a:cubicBezTo>
                  <a:pt x="22619" y="8743"/>
                  <a:pt x="22622" y="8695"/>
                  <a:pt x="22647" y="8781"/>
                </a:cubicBezTo>
              </a:path>
              <a:path w="2109" h="1936">
                <a:moveTo>
                  <a:pt x="23019" y="7987"/>
                </a:moveTo>
                <a:cubicBezTo>
                  <a:pt x="23073" y="8160"/>
                  <a:pt x="23060" y="8164"/>
                  <a:pt x="23168" y="8260"/>
                </a:cubicBezTo>
                <a:cubicBezTo>
                  <a:pt x="23217" y="8304"/>
                  <a:pt x="23293" y="8338"/>
                  <a:pt x="23366" y="8310"/>
                </a:cubicBezTo>
                <a:cubicBezTo>
                  <a:pt x="23374" y="8302"/>
                  <a:pt x="23383" y="8293"/>
                  <a:pt x="23391" y="8285"/>
                </a:cubicBezTo>
              </a:path>
              <a:path w="2109" h="1936">
                <a:moveTo>
                  <a:pt x="23366" y="7888"/>
                </a:moveTo>
                <a:cubicBezTo>
                  <a:pt x="23344" y="8047"/>
                  <a:pt x="23345" y="8176"/>
                  <a:pt x="23366" y="8334"/>
                </a:cubicBezTo>
                <a:cubicBezTo>
                  <a:pt x="23389" y="8507"/>
                  <a:pt x="23424" y="8681"/>
                  <a:pt x="23440" y="8855"/>
                </a:cubicBezTo>
                <a:cubicBezTo>
                  <a:pt x="23453" y="8999"/>
                  <a:pt x="23448" y="9167"/>
                  <a:pt x="23391" y="9302"/>
                </a:cubicBezTo>
                <a:cubicBezTo>
                  <a:pt x="23338" y="9427"/>
                  <a:pt x="23252" y="9586"/>
                  <a:pt x="23118" y="9599"/>
                </a:cubicBezTo>
                <a:cubicBezTo>
                  <a:pt x="23009" y="9610"/>
                  <a:pt x="22906" y="9618"/>
                  <a:pt x="22796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Ink 12"/>
          <p:cNvSpPr/>
          <p:nvPr/>
        </p:nvSpPr>
        <p:spPr>
          <a:xfrm>
            <a:off x="1990800" y="3402000"/>
            <a:ext cx="3108240" cy="625320"/>
          </a:xfrm>
          <a:custGeom>
            <a:avLst/>
            <a:gdLst/>
            <a:ahLst/>
            <a:rect l="l" t="t" r="r" b="b"/>
            <a:pathLst>
              <a:path w="8633" h="1737">
                <a:moveTo>
                  <a:pt x="5531" y="10046"/>
                </a:moveTo>
                <a:cubicBezTo>
                  <a:pt x="5594" y="9972"/>
                  <a:pt x="5631" y="9971"/>
                  <a:pt x="5730" y="9971"/>
                </a:cubicBezTo>
              </a:path>
              <a:path w="8633" h="1737">
                <a:moveTo>
                  <a:pt x="5606" y="10145"/>
                </a:moveTo>
                <a:cubicBezTo>
                  <a:pt x="5660" y="10138"/>
                  <a:pt x="5701" y="10127"/>
                  <a:pt x="5755" y="10120"/>
                </a:cubicBezTo>
              </a:path>
              <a:path w="8633" h="1737">
                <a:moveTo>
                  <a:pt x="6201" y="9624"/>
                </a:moveTo>
                <a:cubicBezTo>
                  <a:pt x="6186" y="9624"/>
                  <a:pt x="6176" y="9682"/>
                  <a:pt x="6176" y="9748"/>
                </a:cubicBezTo>
                <a:cubicBezTo>
                  <a:pt x="6176" y="9835"/>
                  <a:pt x="6152" y="9908"/>
                  <a:pt x="6152" y="9996"/>
                </a:cubicBezTo>
                <a:cubicBezTo>
                  <a:pt x="6152" y="10125"/>
                  <a:pt x="6155" y="10253"/>
                  <a:pt x="6176" y="10368"/>
                </a:cubicBezTo>
                <a:cubicBezTo>
                  <a:pt x="6185" y="10416"/>
                  <a:pt x="6192" y="10484"/>
                  <a:pt x="6251" y="10492"/>
                </a:cubicBezTo>
                <a:cubicBezTo>
                  <a:pt x="6348" y="10506"/>
                  <a:pt x="6361" y="10504"/>
                  <a:pt x="6474" y="10492"/>
                </a:cubicBezTo>
                <a:cubicBezTo>
                  <a:pt x="6542" y="10492"/>
                  <a:pt x="6563" y="10498"/>
                  <a:pt x="6573" y="10443"/>
                </a:cubicBezTo>
              </a:path>
              <a:path w="8633" h="1737">
                <a:moveTo>
                  <a:pt x="6623" y="9996"/>
                </a:moveTo>
                <a:cubicBezTo>
                  <a:pt x="6623" y="10135"/>
                  <a:pt x="6604" y="10288"/>
                  <a:pt x="6648" y="10418"/>
                </a:cubicBezTo>
                <a:cubicBezTo>
                  <a:pt x="6679" y="10483"/>
                  <a:pt x="6672" y="10329"/>
                  <a:pt x="6672" y="10294"/>
                </a:cubicBezTo>
                <a:cubicBezTo>
                  <a:pt x="6672" y="10164"/>
                  <a:pt x="6671" y="10044"/>
                  <a:pt x="6697" y="9922"/>
                </a:cubicBezTo>
                <a:cubicBezTo>
                  <a:pt x="6697" y="9887"/>
                  <a:pt x="6702" y="9869"/>
                  <a:pt x="6722" y="9847"/>
                </a:cubicBezTo>
                <a:cubicBezTo>
                  <a:pt x="6815" y="9874"/>
                  <a:pt x="6794" y="9891"/>
                  <a:pt x="6846" y="9971"/>
                </a:cubicBezTo>
                <a:cubicBezTo>
                  <a:pt x="6876" y="10018"/>
                  <a:pt x="6911" y="10098"/>
                  <a:pt x="6921" y="10120"/>
                </a:cubicBezTo>
                <a:cubicBezTo>
                  <a:pt x="6937" y="10158"/>
                  <a:pt x="6985" y="10258"/>
                  <a:pt x="6995" y="10294"/>
                </a:cubicBezTo>
                <a:cubicBezTo>
                  <a:pt x="7007" y="10340"/>
                  <a:pt x="7022" y="10462"/>
                  <a:pt x="7069" y="10492"/>
                </a:cubicBezTo>
                <a:cubicBezTo>
                  <a:pt x="7086" y="10492"/>
                  <a:pt x="7102" y="10492"/>
                  <a:pt x="7119" y="10492"/>
                </a:cubicBezTo>
              </a:path>
              <a:path w="8633" h="1737">
                <a:moveTo>
                  <a:pt x="7441" y="9475"/>
                </a:moveTo>
                <a:cubicBezTo>
                  <a:pt x="7489" y="9570"/>
                  <a:pt x="7508" y="9658"/>
                  <a:pt x="7541" y="9748"/>
                </a:cubicBezTo>
                <a:cubicBezTo>
                  <a:pt x="7563" y="9810"/>
                  <a:pt x="7642" y="9927"/>
                  <a:pt x="7689" y="9971"/>
                </a:cubicBezTo>
                <a:cubicBezTo>
                  <a:pt x="7757" y="10035"/>
                  <a:pt x="7817" y="10132"/>
                  <a:pt x="7888" y="10195"/>
                </a:cubicBezTo>
                <a:cubicBezTo>
                  <a:pt x="7951" y="10251"/>
                  <a:pt x="8002" y="10304"/>
                  <a:pt x="8062" y="10368"/>
                </a:cubicBezTo>
                <a:cubicBezTo>
                  <a:pt x="8112" y="10421"/>
                  <a:pt x="8134" y="10414"/>
                  <a:pt x="8186" y="10443"/>
                </a:cubicBezTo>
              </a:path>
              <a:path w="8633" h="1737">
                <a:moveTo>
                  <a:pt x="7913" y="9500"/>
                </a:moveTo>
                <a:cubicBezTo>
                  <a:pt x="7905" y="9562"/>
                  <a:pt x="7875" y="9646"/>
                  <a:pt x="7838" y="9699"/>
                </a:cubicBezTo>
                <a:cubicBezTo>
                  <a:pt x="7787" y="9772"/>
                  <a:pt x="7752" y="9855"/>
                  <a:pt x="7689" y="9922"/>
                </a:cubicBezTo>
                <a:cubicBezTo>
                  <a:pt x="7632" y="9983"/>
                  <a:pt x="7609" y="10050"/>
                  <a:pt x="7565" y="10120"/>
                </a:cubicBezTo>
                <a:cubicBezTo>
                  <a:pt x="7535" y="10168"/>
                  <a:pt x="7457" y="10236"/>
                  <a:pt x="7441" y="10269"/>
                </a:cubicBezTo>
                <a:cubicBezTo>
                  <a:pt x="7412" y="10327"/>
                  <a:pt x="7400" y="10360"/>
                  <a:pt x="7392" y="10418"/>
                </a:cubicBezTo>
              </a:path>
              <a:path w="8633" h="1737">
                <a:moveTo>
                  <a:pt x="8682" y="9847"/>
                </a:moveTo>
                <a:cubicBezTo>
                  <a:pt x="8682" y="9968"/>
                  <a:pt x="8691" y="10081"/>
                  <a:pt x="8706" y="10195"/>
                </a:cubicBezTo>
                <a:cubicBezTo>
                  <a:pt x="8718" y="10284"/>
                  <a:pt x="8734" y="10329"/>
                  <a:pt x="8756" y="10418"/>
                </a:cubicBezTo>
                <a:cubicBezTo>
                  <a:pt x="8756" y="10426"/>
                  <a:pt x="8756" y="10435"/>
                  <a:pt x="8756" y="10443"/>
                </a:cubicBezTo>
              </a:path>
              <a:path w="8633" h="1737">
                <a:moveTo>
                  <a:pt x="8409" y="10046"/>
                </a:moveTo>
                <a:cubicBezTo>
                  <a:pt x="8607" y="10046"/>
                  <a:pt x="8806" y="10046"/>
                  <a:pt x="9004" y="10046"/>
                </a:cubicBezTo>
              </a:path>
              <a:path w="8633" h="1737">
                <a:moveTo>
                  <a:pt x="9401" y="9451"/>
                </a:moveTo>
                <a:cubicBezTo>
                  <a:pt x="9394" y="9537"/>
                  <a:pt x="9365" y="9625"/>
                  <a:pt x="9351" y="9699"/>
                </a:cubicBezTo>
                <a:cubicBezTo>
                  <a:pt x="9325" y="9835"/>
                  <a:pt x="9358" y="9992"/>
                  <a:pt x="9376" y="10120"/>
                </a:cubicBezTo>
                <a:cubicBezTo>
                  <a:pt x="9384" y="10181"/>
                  <a:pt x="9395" y="10221"/>
                  <a:pt x="9451" y="10269"/>
                </a:cubicBezTo>
                <a:cubicBezTo>
                  <a:pt x="9529" y="10337"/>
                  <a:pt x="9572" y="10344"/>
                  <a:pt x="9674" y="10344"/>
                </a:cubicBezTo>
                <a:cubicBezTo>
                  <a:pt x="9783" y="10344"/>
                  <a:pt x="9746" y="10297"/>
                  <a:pt x="9823" y="10269"/>
                </a:cubicBezTo>
                <a:cubicBezTo>
                  <a:pt x="9839" y="10269"/>
                  <a:pt x="9856" y="10269"/>
                  <a:pt x="9872" y="10269"/>
                </a:cubicBezTo>
              </a:path>
              <a:path w="8633" h="1737">
                <a:moveTo>
                  <a:pt x="9922" y="9971"/>
                </a:moveTo>
                <a:cubicBezTo>
                  <a:pt x="9893" y="10086"/>
                  <a:pt x="9930" y="10121"/>
                  <a:pt x="9947" y="10195"/>
                </a:cubicBezTo>
                <a:cubicBezTo>
                  <a:pt x="9971" y="10301"/>
                  <a:pt x="9929" y="10243"/>
                  <a:pt x="9996" y="10294"/>
                </a:cubicBezTo>
                <a:cubicBezTo>
                  <a:pt x="9996" y="10164"/>
                  <a:pt x="9990" y="10043"/>
                  <a:pt x="10021" y="9922"/>
                </a:cubicBezTo>
                <a:cubicBezTo>
                  <a:pt x="10039" y="9850"/>
                  <a:pt x="10044" y="9827"/>
                  <a:pt x="10120" y="9823"/>
                </a:cubicBezTo>
                <a:cubicBezTo>
                  <a:pt x="10194" y="9819"/>
                  <a:pt x="10253" y="9860"/>
                  <a:pt x="10294" y="9922"/>
                </a:cubicBezTo>
                <a:cubicBezTo>
                  <a:pt x="10357" y="10017"/>
                  <a:pt x="10393" y="10055"/>
                  <a:pt x="10443" y="10145"/>
                </a:cubicBezTo>
                <a:cubicBezTo>
                  <a:pt x="10475" y="10201"/>
                  <a:pt x="10495" y="10305"/>
                  <a:pt x="10517" y="10220"/>
                </a:cubicBezTo>
              </a:path>
              <a:path w="8633" h="1737">
                <a:moveTo>
                  <a:pt x="10616" y="9823"/>
                </a:moveTo>
                <a:cubicBezTo>
                  <a:pt x="10671" y="9904"/>
                  <a:pt x="10721" y="9977"/>
                  <a:pt x="10790" y="10046"/>
                </a:cubicBezTo>
                <a:cubicBezTo>
                  <a:pt x="10858" y="10115"/>
                  <a:pt x="10941" y="10208"/>
                  <a:pt x="11013" y="10269"/>
                </a:cubicBezTo>
                <a:cubicBezTo>
                  <a:pt x="11048" y="10269"/>
                  <a:pt x="11066" y="10274"/>
                  <a:pt x="11088" y="10294"/>
                </a:cubicBezTo>
              </a:path>
              <a:path w="8633" h="1737">
                <a:moveTo>
                  <a:pt x="11162" y="9599"/>
                </a:moveTo>
                <a:cubicBezTo>
                  <a:pt x="11110" y="9754"/>
                  <a:pt x="11088" y="9881"/>
                  <a:pt x="11088" y="10046"/>
                </a:cubicBezTo>
                <a:cubicBezTo>
                  <a:pt x="11088" y="10231"/>
                  <a:pt x="11101" y="10411"/>
                  <a:pt x="11112" y="10592"/>
                </a:cubicBezTo>
                <a:cubicBezTo>
                  <a:pt x="11122" y="10759"/>
                  <a:pt x="11137" y="10920"/>
                  <a:pt x="11137" y="11088"/>
                </a:cubicBezTo>
                <a:cubicBezTo>
                  <a:pt x="11137" y="11121"/>
                  <a:pt x="11137" y="11154"/>
                  <a:pt x="11137" y="11187"/>
                </a:cubicBezTo>
              </a:path>
              <a:path w="8633" h="1737">
                <a:moveTo>
                  <a:pt x="11584" y="9971"/>
                </a:moveTo>
                <a:cubicBezTo>
                  <a:pt x="11716" y="9971"/>
                  <a:pt x="11849" y="9971"/>
                  <a:pt x="11981" y="9971"/>
                </a:cubicBezTo>
              </a:path>
              <a:path w="8633" h="1737">
                <a:moveTo>
                  <a:pt x="12378" y="9500"/>
                </a:moveTo>
                <a:cubicBezTo>
                  <a:pt x="12378" y="9637"/>
                  <a:pt x="12368" y="9764"/>
                  <a:pt x="12353" y="9897"/>
                </a:cubicBezTo>
                <a:cubicBezTo>
                  <a:pt x="12344" y="9975"/>
                  <a:pt x="12340" y="10156"/>
                  <a:pt x="12378" y="10195"/>
                </a:cubicBezTo>
                <a:cubicBezTo>
                  <a:pt x="12439" y="10258"/>
                  <a:pt x="12458" y="10245"/>
                  <a:pt x="12526" y="10294"/>
                </a:cubicBezTo>
                <a:cubicBezTo>
                  <a:pt x="12615" y="10359"/>
                  <a:pt x="12658" y="10368"/>
                  <a:pt x="12750" y="10294"/>
                </a:cubicBezTo>
                <a:cubicBezTo>
                  <a:pt x="12824" y="10235"/>
                  <a:pt x="12791" y="10298"/>
                  <a:pt x="12849" y="10195"/>
                </a:cubicBezTo>
              </a:path>
              <a:path w="8633" h="1737">
                <a:moveTo>
                  <a:pt x="12898" y="9897"/>
                </a:moveTo>
                <a:cubicBezTo>
                  <a:pt x="12868" y="9927"/>
                  <a:pt x="12874" y="9985"/>
                  <a:pt x="12874" y="10046"/>
                </a:cubicBezTo>
                <a:cubicBezTo>
                  <a:pt x="12874" y="10108"/>
                  <a:pt x="12899" y="10221"/>
                  <a:pt x="12948" y="10269"/>
                </a:cubicBezTo>
                <a:cubicBezTo>
                  <a:pt x="12956" y="10269"/>
                  <a:pt x="12965" y="10269"/>
                  <a:pt x="12973" y="10269"/>
                </a:cubicBezTo>
                <a:cubicBezTo>
                  <a:pt x="12999" y="10191"/>
                  <a:pt x="12998" y="10129"/>
                  <a:pt x="12998" y="10046"/>
                </a:cubicBezTo>
                <a:cubicBezTo>
                  <a:pt x="12998" y="9970"/>
                  <a:pt x="12975" y="9877"/>
                  <a:pt x="13047" y="9823"/>
                </a:cubicBezTo>
                <a:cubicBezTo>
                  <a:pt x="13113" y="9774"/>
                  <a:pt x="13193" y="9856"/>
                  <a:pt x="13221" y="9897"/>
                </a:cubicBezTo>
                <a:cubicBezTo>
                  <a:pt x="13277" y="9978"/>
                  <a:pt x="13328" y="10033"/>
                  <a:pt x="13370" y="10120"/>
                </a:cubicBezTo>
                <a:cubicBezTo>
                  <a:pt x="13409" y="10202"/>
                  <a:pt x="13436" y="10265"/>
                  <a:pt x="13469" y="10344"/>
                </a:cubicBezTo>
                <a:cubicBezTo>
                  <a:pt x="13477" y="10369"/>
                  <a:pt x="13486" y="10393"/>
                  <a:pt x="13494" y="10418"/>
                </a:cubicBezTo>
              </a:path>
              <a:path w="8633" h="1737">
                <a:moveTo>
                  <a:pt x="13717" y="9674"/>
                </a:moveTo>
                <a:cubicBezTo>
                  <a:pt x="13880" y="9674"/>
                  <a:pt x="13893" y="9669"/>
                  <a:pt x="13990" y="9748"/>
                </a:cubicBezTo>
                <a:cubicBezTo>
                  <a:pt x="14049" y="9796"/>
                  <a:pt x="13999" y="9830"/>
                  <a:pt x="13990" y="9897"/>
                </a:cubicBezTo>
                <a:cubicBezTo>
                  <a:pt x="13977" y="9988"/>
                  <a:pt x="13961" y="9994"/>
                  <a:pt x="13915" y="10071"/>
                </a:cubicBezTo>
                <a:cubicBezTo>
                  <a:pt x="13869" y="10149"/>
                  <a:pt x="13866" y="10174"/>
                  <a:pt x="13866" y="10269"/>
                </a:cubicBezTo>
                <a:cubicBezTo>
                  <a:pt x="13866" y="10349"/>
                  <a:pt x="13932" y="10344"/>
                  <a:pt x="13990" y="10344"/>
                </a:cubicBezTo>
                <a:cubicBezTo>
                  <a:pt x="14104" y="10344"/>
                  <a:pt x="14110" y="10367"/>
                  <a:pt x="14163" y="10269"/>
                </a:cubicBezTo>
              </a:path>
              <a:path w="8633" h="1737">
                <a:moveTo>
                  <a:pt x="13692" y="9996"/>
                </a:moveTo>
                <a:cubicBezTo>
                  <a:pt x="13837" y="9996"/>
                  <a:pt x="13935" y="10017"/>
                  <a:pt x="14064" y="10046"/>
                </a:cubicBezTo>
                <a:cubicBezTo>
                  <a:pt x="14089" y="10046"/>
                  <a:pt x="14114" y="10046"/>
                  <a:pt x="14139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nk 13"/>
          <p:cNvSpPr/>
          <p:nvPr/>
        </p:nvSpPr>
        <p:spPr>
          <a:xfrm>
            <a:off x="1062000" y="4599000"/>
            <a:ext cx="189000" cy="357120"/>
          </a:xfrm>
          <a:custGeom>
            <a:avLst/>
            <a:gdLst/>
            <a:ahLst/>
            <a:rect l="l" t="t" r="r" b="b"/>
            <a:pathLst>
              <a:path w="522" h="994">
                <a:moveTo>
                  <a:pt x="2952" y="12799"/>
                </a:moveTo>
                <a:cubicBezTo>
                  <a:pt x="2998" y="12771"/>
                  <a:pt x="3091" y="12756"/>
                  <a:pt x="3150" y="12774"/>
                </a:cubicBezTo>
                <a:cubicBezTo>
                  <a:pt x="3198" y="12789"/>
                  <a:pt x="3235" y="12809"/>
                  <a:pt x="3274" y="12849"/>
                </a:cubicBezTo>
                <a:cubicBezTo>
                  <a:pt x="3336" y="12911"/>
                  <a:pt x="3340" y="12961"/>
                  <a:pt x="3299" y="13047"/>
                </a:cubicBezTo>
                <a:cubicBezTo>
                  <a:pt x="3280" y="13088"/>
                  <a:pt x="3210" y="13125"/>
                  <a:pt x="3175" y="13146"/>
                </a:cubicBezTo>
                <a:cubicBezTo>
                  <a:pt x="3127" y="13170"/>
                  <a:pt x="3113" y="13178"/>
                  <a:pt x="3076" y="13171"/>
                </a:cubicBezTo>
                <a:cubicBezTo>
                  <a:pt x="3127" y="13202"/>
                  <a:pt x="3189" y="13216"/>
                  <a:pt x="3249" y="13246"/>
                </a:cubicBezTo>
                <a:cubicBezTo>
                  <a:pt x="3312" y="13278"/>
                  <a:pt x="3428" y="13352"/>
                  <a:pt x="3448" y="13419"/>
                </a:cubicBezTo>
                <a:cubicBezTo>
                  <a:pt x="3467" y="13483"/>
                  <a:pt x="3473" y="13549"/>
                  <a:pt x="3473" y="13618"/>
                </a:cubicBezTo>
                <a:cubicBezTo>
                  <a:pt x="3473" y="13683"/>
                  <a:pt x="3442" y="13698"/>
                  <a:pt x="3398" y="13742"/>
                </a:cubicBezTo>
                <a:cubicBezTo>
                  <a:pt x="3358" y="13782"/>
                  <a:pt x="3272" y="13764"/>
                  <a:pt x="3225" y="13742"/>
                </a:cubicBezTo>
                <a:cubicBezTo>
                  <a:pt x="3177" y="13720"/>
                  <a:pt x="3104" y="13629"/>
                  <a:pt x="3125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14"/>
          <p:cNvSpPr/>
          <p:nvPr/>
        </p:nvSpPr>
        <p:spPr>
          <a:xfrm>
            <a:off x="1393920" y="4670280"/>
            <a:ext cx="1338120" cy="652680"/>
          </a:xfrm>
          <a:custGeom>
            <a:avLst/>
            <a:gdLst/>
            <a:ahLst/>
            <a:rect l="l" t="t" r="r" b="b"/>
            <a:pathLst>
              <a:path w="3721" h="1812">
                <a:moveTo>
                  <a:pt x="3870" y="12973"/>
                </a:moveTo>
                <a:cubicBezTo>
                  <a:pt x="3888" y="13038"/>
                  <a:pt x="3870" y="13090"/>
                  <a:pt x="3870" y="13171"/>
                </a:cubicBezTo>
                <a:cubicBezTo>
                  <a:pt x="3870" y="13372"/>
                  <a:pt x="3871" y="13573"/>
                  <a:pt x="3894" y="13767"/>
                </a:cubicBezTo>
                <a:cubicBezTo>
                  <a:pt x="3902" y="13837"/>
                  <a:pt x="3907" y="13906"/>
                  <a:pt x="3919" y="13965"/>
                </a:cubicBezTo>
                <a:cubicBezTo>
                  <a:pt x="3919" y="14017"/>
                  <a:pt x="3920" y="14032"/>
                  <a:pt x="3944" y="13965"/>
                </a:cubicBezTo>
              </a:path>
              <a:path w="3721" h="1812">
                <a:moveTo>
                  <a:pt x="4142" y="13444"/>
                </a:moveTo>
                <a:cubicBezTo>
                  <a:pt x="4133" y="13514"/>
                  <a:pt x="4095" y="13681"/>
                  <a:pt x="4118" y="13767"/>
                </a:cubicBezTo>
                <a:cubicBezTo>
                  <a:pt x="4141" y="13851"/>
                  <a:pt x="4198" y="13884"/>
                  <a:pt x="4242" y="13940"/>
                </a:cubicBezTo>
                <a:cubicBezTo>
                  <a:pt x="4289" y="13999"/>
                  <a:pt x="4311" y="14034"/>
                  <a:pt x="4390" y="14039"/>
                </a:cubicBezTo>
                <a:cubicBezTo>
                  <a:pt x="4471" y="14044"/>
                  <a:pt x="4488" y="14002"/>
                  <a:pt x="4539" y="13965"/>
                </a:cubicBezTo>
                <a:cubicBezTo>
                  <a:pt x="4610" y="13913"/>
                  <a:pt x="4628" y="13861"/>
                  <a:pt x="4638" y="13767"/>
                </a:cubicBezTo>
                <a:cubicBezTo>
                  <a:pt x="4647" y="13685"/>
                  <a:pt x="4635" y="13571"/>
                  <a:pt x="4614" y="13494"/>
                </a:cubicBezTo>
                <a:cubicBezTo>
                  <a:pt x="4596" y="13427"/>
                  <a:pt x="4546" y="13352"/>
                  <a:pt x="4514" y="13295"/>
                </a:cubicBezTo>
                <a:cubicBezTo>
                  <a:pt x="4495" y="13262"/>
                  <a:pt x="4432" y="13183"/>
                  <a:pt x="4390" y="13171"/>
                </a:cubicBezTo>
                <a:cubicBezTo>
                  <a:pt x="4327" y="13153"/>
                  <a:pt x="4254" y="13164"/>
                  <a:pt x="4217" y="13221"/>
                </a:cubicBezTo>
                <a:cubicBezTo>
                  <a:pt x="4163" y="13305"/>
                  <a:pt x="4122" y="13396"/>
                  <a:pt x="4118" y="13494"/>
                </a:cubicBezTo>
                <a:cubicBezTo>
                  <a:pt x="4113" y="13615"/>
                  <a:pt x="4104" y="13731"/>
                  <a:pt x="4167" y="13841"/>
                </a:cubicBezTo>
                <a:cubicBezTo>
                  <a:pt x="4184" y="13858"/>
                  <a:pt x="4200" y="13874"/>
                  <a:pt x="4217" y="13891"/>
                </a:cubicBezTo>
              </a:path>
              <a:path w="3721" h="1812">
                <a:moveTo>
                  <a:pt x="5035" y="13345"/>
                </a:moveTo>
                <a:cubicBezTo>
                  <a:pt x="4988" y="13273"/>
                  <a:pt x="4927" y="13235"/>
                  <a:pt x="4837" y="13320"/>
                </a:cubicBezTo>
                <a:cubicBezTo>
                  <a:pt x="4795" y="13359"/>
                  <a:pt x="4764" y="13443"/>
                  <a:pt x="4738" y="13494"/>
                </a:cubicBezTo>
                <a:cubicBezTo>
                  <a:pt x="4704" y="13562"/>
                  <a:pt x="4716" y="13623"/>
                  <a:pt x="4738" y="13692"/>
                </a:cubicBezTo>
                <a:cubicBezTo>
                  <a:pt x="4755" y="13743"/>
                  <a:pt x="4790" y="13810"/>
                  <a:pt x="4837" y="13841"/>
                </a:cubicBezTo>
                <a:cubicBezTo>
                  <a:pt x="4917" y="13892"/>
                  <a:pt x="4968" y="13864"/>
                  <a:pt x="5011" y="13791"/>
                </a:cubicBezTo>
                <a:cubicBezTo>
                  <a:pt x="5034" y="13751"/>
                  <a:pt x="5099" y="13683"/>
                  <a:pt x="5110" y="13643"/>
                </a:cubicBezTo>
                <a:cubicBezTo>
                  <a:pt x="5123" y="13595"/>
                  <a:pt x="5129" y="13544"/>
                  <a:pt x="5135" y="13494"/>
                </a:cubicBezTo>
                <a:cubicBezTo>
                  <a:pt x="5088" y="13563"/>
                  <a:pt x="5069" y="13656"/>
                  <a:pt x="5060" y="13742"/>
                </a:cubicBezTo>
                <a:cubicBezTo>
                  <a:pt x="5043" y="13900"/>
                  <a:pt x="5071" y="14060"/>
                  <a:pt x="5085" y="14213"/>
                </a:cubicBezTo>
                <a:cubicBezTo>
                  <a:pt x="5100" y="14374"/>
                  <a:pt x="5060" y="14532"/>
                  <a:pt x="5035" y="14684"/>
                </a:cubicBezTo>
                <a:cubicBezTo>
                  <a:pt x="5023" y="14759"/>
                  <a:pt x="5007" y="14800"/>
                  <a:pt x="4911" y="14784"/>
                </a:cubicBezTo>
                <a:cubicBezTo>
                  <a:pt x="4834" y="14772"/>
                  <a:pt x="4746" y="14735"/>
                  <a:pt x="4688" y="14684"/>
                </a:cubicBezTo>
                <a:cubicBezTo>
                  <a:pt x="4657" y="14657"/>
                  <a:pt x="4654" y="14638"/>
                  <a:pt x="4638" y="14610"/>
                </a:cubicBezTo>
              </a:path>
              <a:path w="3721" h="1812">
                <a:moveTo>
                  <a:pt x="5358" y="13841"/>
                </a:moveTo>
                <a:cubicBezTo>
                  <a:pt x="5358" y="13913"/>
                  <a:pt x="5379" y="13950"/>
                  <a:pt x="5383" y="14015"/>
                </a:cubicBezTo>
                <a:cubicBezTo>
                  <a:pt x="5386" y="14072"/>
                  <a:pt x="5383" y="14131"/>
                  <a:pt x="5383" y="14188"/>
                </a:cubicBezTo>
              </a:path>
              <a:path w="3721" h="1812">
                <a:moveTo>
                  <a:pt x="5531" y="13891"/>
                </a:moveTo>
                <a:cubicBezTo>
                  <a:pt x="5518" y="14014"/>
                  <a:pt x="5490" y="14149"/>
                  <a:pt x="5631" y="14213"/>
                </a:cubicBezTo>
                <a:cubicBezTo>
                  <a:pt x="5737" y="14261"/>
                  <a:pt x="5752" y="14122"/>
                  <a:pt x="5755" y="14064"/>
                </a:cubicBezTo>
                <a:cubicBezTo>
                  <a:pt x="5758" y="13997"/>
                  <a:pt x="5725" y="13939"/>
                  <a:pt x="5680" y="13891"/>
                </a:cubicBezTo>
                <a:cubicBezTo>
                  <a:pt x="5622" y="13829"/>
                  <a:pt x="5617" y="13842"/>
                  <a:pt x="5606" y="13767"/>
                </a:cubicBezTo>
              </a:path>
              <a:path w="3721" h="1812">
                <a:moveTo>
                  <a:pt x="5978" y="13320"/>
                </a:moveTo>
                <a:cubicBezTo>
                  <a:pt x="6055" y="13418"/>
                  <a:pt x="6150" y="13476"/>
                  <a:pt x="6226" y="13568"/>
                </a:cubicBezTo>
                <a:cubicBezTo>
                  <a:pt x="6305" y="13663"/>
                  <a:pt x="6367" y="13774"/>
                  <a:pt x="6449" y="13866"/>
                </a:cubicBezTo>
                <a:cubicBezTo>
                  <a:pt x="6522" y="13948"/>
                  <a:pt x="6580" y="14031"/>
                  <a:pt x="6672" y="14089"/>
                </a:cubicBezTo>
              </a:path>
              <a:path w="3721" h="1812">
                <a:moveTo>
                  <a:pt x="6524" y="13171"/>
                </a:moveTo>
                <a:cubicBezTo>
                  <a:pt x="6440" y="13242"/>
                  <a:pt x="6342" y="13328"/>
                  <a:pt x="6276" y="13419"/>
                </a:cubicBezTo>
                <a:cubicBezTo>
                  <a:pt x="6193" y="13534"/>
                  <a:pt x="6144" y="13670"/>
                  <a:pt x="6077" y="13791"/>
                </a:cubicBezTo>
                <a:cubicBezTo>
                  <a:pt x="6026" y="13883"/>
                  <a:pt x="5980" y="13972"/>
                  <a:pt x="5928" y="14064"/>
                </a:cubicBezTo>
                <a:cubicBezTo>
                  <a:pt x="5920" y="14081"/>
                  <a:pt x="5912" y="14097"/>
                  <a:pt x="5904" y="14114"/>
                </a:cubicBezTo>
              </a:path>
              <a:path w="3721" h="1812">
                <a:moveTo>
                  <a:pt x="6896" y="13469"/>
                </a:moveTo>
                <a:cubicBezTo>
                  <a:pt x="7033" y="13469"/>
                  <a:pt x="7160" y="13476"/>
                  <a:pt x="7293" y="13494"/>
                </a:cubicBezTo>
                <a:cubicBezTo>
                  <a:pt x="7361" y="13503"/>
                  <a:pt x="7434" y="13507"/>
                  <a:pt x="7491" y="13519"/>
                </a:cubicBezTo>
                <a:cubicBezTo>
                  <a:pt x="7547" y="13530"/>
                  <a:pt x="7556" y="13503"/>
                  <a:pt x="7590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15"/>
          <p:cNvSpPr/>
          <p:nvPr/>
        </p:nvSpPr>
        <p:spPr>
          <a:xfrm>
            <a:off x="2911320" y="4581360"/>
            <a:ext cx="2295720" cy="892440"/>
          </a:xfrm>
          <a:custGeom>
            <a:avLst/>
            <a:gdLst/>
            <a:ahLst/>
            <a:rect l="l" t="t" r="r" b="b"/>
            <a:pathLst>
              <a:path w="6376" h="2481">
                <a:moveTo>
                  <a:pt x="8086" y="13047"/>
                </a:moveTo>
                <a:cubicBezTo>
                  <a:pt x="8135" y="13018"/>
                  <a:pt x="8222" y="13007"/>
                  <a:pt x="8285" y="13022"/>
                </a:cubicBezTo>
                <a:cubicBezTo>
                  <a:pt x="8350" y="13038"/>
                  <a:pt x="8397" y="13101"/>
                  <a:pt x="8434" y="13146"/>
                </a:cubicBezTo>
                <a:cubicBezTo>
                  <a:pt x="8473" y="13193"/>
                  <a:pt x="8458" y="13259"/>
                  <a:pt x="8458" y="13320"/>
                </a:cubicBezTo>
                <a:cubicBezTo>
                  <a:pt x="8458" y="13434"/>
                  <a:pt x="8444" y="13539"/>
                  <a:pt x="8409" y="13643"/>
                </a:cubicBezTo>
                <a:cubicBezTo>
                  <a:pt x="8386" y="13712"/>
                  <a:pt x="8356" y="13808"/>
                  <a:pt x="8310" y="13866"/>
                </a:cubicBezTo>
                <a:cubicBezTo>
                  <a:pt x="8269" y="13919"/>
                  <a:pt x="8208" y="13968"/>
                  <a:pt x="8136" y="13940"/>
                </a:cubicBezTo>
                <a:cubicBezTo>
                  <a:pt x="8073" y="13916"/>
                  <a:pt x="8086" y="13843"/>
                  <a:pt x="8086" y="13791"/>
                </a:cubicBezTo>
                <a:cubicBezTo>
                  <a:pt x="8086" y="13750"/>
                  <a:pt x="8079" y="13669"/>
                  <a:pt x="8111" y="13643"/>
                </a:cubicBezTo>
                <a:cubicBezTo>
                  <a:pt x="8175" y="13591"/>
                  <a:pt x="8213" y="13621"/>
                  <a:pt x="8260" y="13667"/>
                </a:cubicBezTo>
                <a:cubicBezTo>
                  <a:pt x="8294" y="13701"/>
                  <a:pt x="8327" y="13763"/>
                  <a:pt x="8359" y="13791"/>
                </a:cubicBezTo>
                <a:cubicBezTo>
                  <a:pt x="8416" y="13839"/>
                  <a:pt x="8404" y="13879"/>
                  <a:pt x="8458" y="13940"/>
                </a:cubicBezTo>
                <a:cubicBezTo>
                  <a:pt x="8491" y="13977"/>
                  <a:pt x="8522" y="14020"/>
                  <a:pt x="8533" y="14064"/>
                </a:cubicBezTo>
              </a:path>
              <a:path w="6376" h="2481">
                <a:moveTo>
                  <a:pt x="8781" y="12973"/>
                </a:moveTo>
                <a:cubicBezTo>
                  <a:pt x="8781" y="13095"/>
                  <a:pt x="8793" y="13202"/>
                  <a:pt x="8806" y="13320"/>
                </a:cubicBezTo>
                <a:cubicBezTo>
                  <a:pt x="8816" y="13413"/>
                  <a:pt x="8817" y="13502"/>
                  <a:pt x="8830" y="13593"/>
                </a:cubicBezTo>
                <a:cubicBezTo>
                  <a:pt x="8837" y="13645"/>
                  <a:pt x="8803" y="13734"/>
                  <a:pt x="8855" y="13767"/>
                </a:cubicBezTo>
                <a:cubicBezTo>
                  <a:pt x="8863" y="13767"/>
                  <a:pt x="8872" y="13767"/>
                  <a:pt x="8880" y="13767"/>
                </a:cubicBezTo>
              </a:path>
              <a:path w="6376" h="2481">
                <a:moveTo>
                  <a:pt x="9029" y="13271"/>
                </a:moveTo>
                <a:cubicBezTo>
                  <a:pt x="9000" y="13351"/>
                  <a:pt x="8953" y="13451"/>
                  <a:pt x="8979" y="13543"/>
                </a:cubicBezTo>
                <a:cubicBezTo>
                  <a:pt x="9001" y="13620"/>
                  <a:pt x="9041" y="13680"/>
                  <a:pt x="9079" y="13742"/>
                </a:cubicBezTo>
                <a:cubicBezTo>
                  <a:pt x="9117" y="13805"/>
                  <a:pt x="9154" y="13837"/>
                  <a:pt x="9227" y="13841"/>
                </a:cubicBezTo>
                <a:cubicBezTo>
                  <a:pt x="9292" y="13845"/>
                  <a:pt x="9326" y="13799"/>
                  <a:pt x="9351" y="13742"/>
                </a:cubicBezTo>
                <a:cubicBezTo>
                  <a:pt x="9390" y="13655"/>
                  <a:pt x="9376" y="13561"/>
                  <a:pt x="9376" y="13469"/>
                </a:cubicBezTo>
                <a:cubicBezTo>
                  <a:pt x="9376" y="13374"/>
                  <a:pt x="9368" y="13308"/>
                  <a:pt x="9327" y="13221"/>
                </a:cubicBezTo>
                <a:cubicBezTo>
                  <a:pt x="9306" y="13176"/>
                  <a:pt x="9278" y="13095"/>
                  <a:pt x="9227" y="13072"/>
                </a:cubicBezTo>
                <a:cubicBezTo>
                  <a:pt x="9180" y="13051"/>
                  <a:pt x="9128" y="13083"/>
                  <a:pt x="9103" y="13122"/>
                </a:cubicBezTo>
                <a:cubicBezTo>
                  <a:pt x="9059" y="13192"/>
                  <a:pt x="9079" y="13291"/>
                  <a:pt x="9079" y="13370"/>
                </a:cubicBezTo>
                <a:cubicBezTo>
                  <a:pt x="9079" y="13450"/>
                  <a:pt x="9096" y="13497"/>
                  <a:pt x="9128" y="13568"/>
                </a:cubicBezTo>
              </a:path>
              <a:path w="6376" h="2481">
                <a:moveTo>
                  <a:pt x="9699" y="13320"/>
                </a:moveTo>
                <a:cubicBezTo>
                  <a:pt x="9699" y="13276"/>
                  <a:pt x="9702" y="13262"/>
                  <a:pt x="9674" y="13246"/>
                </a:cubicBezTo>
                <a:cubicBezTo>
                  <a:pt x="9613" y="13252"/>
                  <a:pt x="9545" y="13267"/>
                  <a:pt x="9500" y="13320"/>
                </a:cubicBezTo>
                <a:cubicBezTo>
                  <a:pt x="9463" y="13363"/>
                  <a:pt x="9465" y="13465"/>
                  <a:pt x="9475" y="13519"/>
                </a:cubicBezTo>
                <a:cubicBezTo>
                  <a:pt x="9490" y="13603"/>
                  <a:pt x="9524" y="13720"/>
                  <a:pt x="9624" y="13742"/>
                </a:cubicBezTo>
                <a:cubicBezTo>
                  <a:pt x="9711" y="13761"/>
                  <a:pt x="9738" y="13709"/>
                  <a:pt x="9773" y="13643"/>
                </a:cubicBezTo>
                <a:cubicBezTo>
                  <a:pt x="9818" y="13559"/>
                  <a:pt x="9837" y="13505"/>
                  <a:pt x="9798" y="13419"/>
                </a:cubicBezTo>
                <a:cubicBezTo>
                  <a:pt x="9776" y="13376"/>
                  <a:pt x="9772" y="13364"/>
                  <a:pt x="9748" y="13345"/>
                </a:cubicBezTo>
                <a:cubicBezTo>
                  <a:pt x="9718" y="13395"/>
                  <a:pt x="9701" y="13456"/>
                  <a:pt x="9699" y="13519"/>
                </a:cubicBezTo>
                <a:cubicBezTo>
                  <a:pt x="9694" y="13662"/>
                  <a:pt x="9720" y="13797"/>
                  <a:pt x="9723" y="13940"/>
                </a:cubicBezTo>
                <a:cubicBezTo>
                  <a:pt x="9727" y="14118"/>
                  <a:pt x="9717" y="14289"/>
                  <a:pt x="9699" y="14461"/>
                </a:cubicBezTo>
                <a:cubicBezTo>
                  <a:pt x="9691" y="14537"/>
                  <a:pt x="9686" y="14598"/>
                  <a:pt x="9649" y="14660"/>
                </a:cubicBezTo>
                <a:cubicBezTo>
                  <a:pt x="9580" y="14640"/>
                  <a:pt x="9563" y="14607"/>
                  <a:pt x="9525" y="14536"/>
                </a:cubicBezTo>
                <a:cubicBezTo>
                  <a:pt x="9487" y="14465"/>
                  <a:pt x="9467" y="14452"/>
                  <a:pt x="9475" y="14387"/>
                </a:cubicBezTo>
                <a:cubicBezTo>
                  <a:pt x="9475" y="14370"/>
                  <a:pt x="9475" y="14354"/>
                  <a:pt x="9475" y="14337"/>
                </a:cubicBezTo>
              </a:path>
              <a:path w="6376" h="2481">
                <a:moveTo>
                  <a:pt x="9996" y="13692"/>
                </a:moveTo>
                <a:cubicBezTo>
                  <a:pt x="10015" y="13779"/>
                  <a:pt x="9999" y="13882"/>
                  <a:pt x="10021" y="13965"/>
                </a:cubicBezTo>
                <a:cubicBezTo>
                  <a:pt x="10038" y="14029"/>
                  <a:pt x="10046" y="14070"/>
                  <a:pt x="10046" y="14139"/>
                </a:cubicBezTo>
              </a:path>
              <a:path w="6376" h="2481">
                <a:moveTo>
                  <a:pt x="10170" y="13816"/>
                </a:moveTo>
                <a:cubicBezTo>
                  <a:pt x="10139" y="13899"/>
                  <a:pt x="10136" y="13916"/>
                  <a:pt x="10145" y="13990"/>
                </a:cubicBezTo>
                <a:cubicBezTo>
                  <a:pt x="10153" y="14060"/>
                  <a:pt x="10172" y="14109"/>
                  <a:pt x="10220" y="14163"/>
                </a:cubicBezTo>
                <a:cubicBezTo>
                  <a:pt x="10274" y="14224"/>
                  <a:pt x="10321" y="14133"/>
                  <a:pt x="10344" y="14089"/>
                </a:cubicBezTo>
                <a:cubicBezTo>
                  <a:pt x="10376" y="14028"/>
                  <a:pt x="10356" y="13926"/>
                  <a:pt x="10319" y="13866"/>
                </a:cubicBezTo>
                <a:cubicBezTo>
                  <a:pt x="10297" y="13830"/>
                  <a:pt x="10256" y="13800"/>
                  <a:pt x="10220" y="13791"/>
                </a:cubicBezTo>
              </a:path>
              <a:path w="6376" h="2481">
                <a:moveTo>
                  <a:pt x="10368" y="13097"/>
                </a:moveTo>
                <a:cubicBezTo>
                  <a:pt x="10403" y="13155"/>
                  <a:pt x="10401" y="13226"/>
                  <a:pt x="10418" y="13295"/>
                </a:cubicBezTo>
                <a:cubicBezTo>
                  <a:pt x="10442" y="13392"/>
                  <a:pt x="10501" y="13479"/>
                  <a:pt x="10542" y="13568"/>
                </a:cubicBezTo>
                <a:cubicBezTo>
                  <a:pt x="10575" y="13640"/>
                  <a:pt x="10620" y="13725"/>
                  <a:pt x="10666" y="13791"/>
                </a:cubicBezTo>
                <a:cubicBezTo>
                  <a:pt x="10689" y="13814"/>
                  <a:pt x="10693" y="13822"/>
                  <a:pt x="10716" y="13816"/>
                </a:cubicBezTo>
              </a:path>
              <a:path w="6376" h="2481">
                <a:moveTo>
                  <a:pt x="10864" y="13097"/>
                </a:moveTo>
                <a:cubicBezTo>
                  <a:pt x="10875" y="13135"/>
                  <a:pt x="10875" y="13206"/>
                  <a:pt x="10864" y="13271"/>
                </a:cubicBezTo>
                <a:cubicBezTo>
                  <a:pt x="10842" y="13404"/>
                  <a:pt x="10833" y="13534"/>
                  <a:pt x="10815" y="13667"/>
                </a:cubicBezTo>
                <a:cubicBezTo>
                  <a:pt x="10776" y="13953"/>
                  <a:pt x="10755" y="14248"/>
                  <a:pt x="10740" y="14536"/>
                </a:cubicBezTo>
                <a:cubicBezTo>
                  <a:pt x="10730" y="14726"/>
                  <a:pt x="10728" y="14919"/>
                  <a:pt x="10691" y="15106"/>
                </a:cubicBezTo>
                <a:cubicBezTo>
                  <a:pt x="10683" y="15139"/>
                  <a:pt x="10674" y="15172"/>
                  <a:pt x="10666" y="15205"/>
                </a:cubicBezTo>
              </a:path>
              <a:path w="6376" h="2481">
                <a:moveTo>
                  <a:pt x="11162" y="13320"/>
                </a:moveTo>
                <a:cubicBezTo>
                  <a:pt x="11256" y="13320"/>
                  <a:pt x="11325" y="13334"/>
                  <a:pt x="11410" y="13345"/>
                </a:cubicBezTo>
                <a:cubicBezTo>
                  <a:pt x="11484" y="13355"/>
                  <a:pt x="11564" y="13361"/>
                  <a:pt x="11633" y="13370"/>
                </a:cubicBezTo>
                <a:cubicBezTo>
                  <a:pt x="11704" y="13379"/>
                  <a:pt x="11715" y="13391"/>
                  <a:pt x="11757" y="13370"/>
                </a:cubicBezTo>
              </a:path>
              <a:path w="6376" h="2481">
                <a:moveTo>
                  <a:pt x="12080" y="12725"/>
                </a:moveTo>
                <a:cubicBezTo>
                  <a:pt x="12080" y="12824"/>
                  <a:pt x="12066" y="12905"/>
                  <a:pt x="12055" y="12998"/>
                </a:cubicBezTo>
                <a:cubicBezTo>
                  <a:pt x="12034" y="13179"/>
                  <a:pt x="12063" y="13366"/>
                  <a:pt x="12080" y="13543"/>
                </a:cubicBezTo>
                <a:cubicBezTo>
                  <a:pt x="12090" y="13642"/>
                  <a:pt x="12033" y="13865"/>
                  <a:pt x="12105" y="13841"/>
                </a:cubicBezTo>
              </a:path>
              <a:path w="6376" h="2481">
                <a:moveTo>
                  <a:pt x="12303" y="13295"/>
                </a:moveTo>
                <a:cubicBezTo>
                  <a:pt x="12292" y="13380"/>
                  <a:pt x="12255" y="13546"/>
                  <a:pt x="12278" y="13643"/>
                </a:cubicBezTo>
                <a:cubicBezTo>
                  <a:pt x="12293" y="13704"/>
                  <a:pt x="12342" y="13816"/>
                  <a:pt x="12378" y="13866"/>
                </a:cubicBezTo>
                <a:cubicBezTo>
                  <a:pt x="12417" y="13919"/>
                  <a:pt x="12481" y="13977"/>
                  <a:pt x="12551" y="13965"/>
                </a:cubicBezTo>
                <a:cubicBezTo>
                  <a:pt x="12679" y="13943"/>
                  <a:pt x="12647" y="13887"/>
                  <a:pt x="12675" y="13791"/>
                </a:cubicBezTo>
                <a:cubicBezTo>
                  <a:pt x="12702" y="13698"/>
                  <a:pt x="12697" y="13616"/>
                  <a:pt x="12675" y="13519"/>
                </a:cubicBezTo>
                <a:cubicBezTo>
                  <a:pt x="12658" y="13443"/>
                  <a:pt x="12618" y="13336"/>
                  <a:pt x="12576" y="13271"/>
                </a:cubicBezTo>
                <a:cubicBezTo>
                  <a:pt x="12551" y="13232"/>
                  <a:pt x="12498" y="13165"/>
                  <a:pt x="12452" y="13171"/>
                </a:cubicBezTo>
                <a:cubicBezTo>
                  <a:pt x="12353" y="13184"/>
                  <a:pt x="12350" y="13279"/>
                  <a:pt x="12328" y="13345"/>
                </a:cubicBezTo>
                <a:cubicBezTo>
                  <a:pt x="12295" y="13444"/>
                  <a:pt x="12309" y="13496"/>
                  <a:pt x="12353" y="13593"/>
                </a:cubicBezTo>
                <a:cubicBezTo>
                  <a:pt x="12369" y="13626"/>
                  <a:pt x="12386" y="13659"/>
                  <a:pt x="12402" y="13692"/>
                </a:cubicBezTo>
              </a:path>
              <a:path w="6376" h="2481">
                <a:moveTo>
                  <a:pt x="13146" y="13395"/>
                </a:moveTo>
                <a:cubicBezTo>
                  <a:pt x="13049" y="13312"/>
                  <a:pt x="13039" y="13274"/>
                  <a:pt x="12923" y="13345"/>
                </a:cubicBezTo>
                <a:cubicBezTo>
                  <a:pt x="12885" y="13368"/>
                  <a:pt x="12831" y="13477"/>
                  <a:pt x="12824" y="13519"/>
                </a:cubicBezTo>
                <a:cubicBezTo>
                  <a:pt x="12812" y="13588"/>
                  <a:pt x="12847" y="13680"/>
                  <a:pt x="12874" y="13742"/>
                </a:cubicBezTo>
                <a:cubicBezTo>
                  <a:pt x="12897" y="13794"/>
                  <a:pt x="12938" y="13874"/>
                  <a:pt x="12998" y="13866"/>
                </a:cubicBezTo>
                <a:cubicBezTo>
                  <a:pt x="13032" y="13861"/>
                  <a:pt x="13127" y="13794"/>
                  <a:pt x="13146" y="13767"/>
                </a:cubicBezTo>
                <a:cubicBezTo>
                  <a:pt x="13183" y="13714"/>
                  <a:pt x="13211" y="13629"/>
                  <a:pt x="13221" y="13568"/>
                </a:cubicBezTo>
                <a:cubicBezTo>
                  <a:pt x="13230" y="13514"/>
                  <a:pt x="13221" y="13485"/>
                  <a:pt x="13196" y="13444"/>
                </a:cubicBezTo>
                <a:cubicBezTo>
                  <a:pt x="13168" y="13499"/>
                  <a:pt x="13149" y="13575"/>
                  <a:pt x="13146" y="13643"/>
                </a:cubicBezTo>
                <a:cubicBezTo>
                  <a:pt x="13140" y="13771"/>
                  <a:pt x="13153" y="13935"/>
                  <a:pt x="13171" y="14064"/>
                </a:cubicBezTo>
                <a:cubicBezTo>
                  <a:pt x="13190" y="14198"/>
                  <a:pt x="13217" y="14325"/>
                  <a:pt x="13221" y="14461"/>
                </a:cubicBezTo>
                <a:cubicBezTo>
                  <a:pt x="13224" y="14543"/>
                  <a:pt x="13200" y="14600"/>
                  <a:pt x="13146" y="14660"/>
                </a:cubicBezTo>
                <a:cubicBezTo>
                  <a:pt x="13094" y="14718"/>
                  <a:pt x="13023" y="14673"/>
                  <a:pt x="12973" y="14635"/>
                </a:cubicBezTo>
                <a:cubicBezTo>
                  <a:pt x="12933" y="14605"/>
                  <a:pt x="12859" y="14540"/>
                  <a:pt x="12849" y="14486"/>
                </a:cubicBezTo>
                <a:cubicBezTo>
                  <a:pt x="12832" y="14392"/>
                  <a:pt x="12869" y="14356"/>
                  <a:pt x="12898" y="14263"/>
                </a:cubicBezTo>
              </a:path>
              <a:path w="6376" h="2481">
                <a:moveTo>
                  <a:pt x="13395" y="13791"/>
                </a:moveTo>
                <a:cubicBezTo>
                  <a:pt x="13418" y="13890"/>
                  <a:pt x="13444" y="13965"/>
                  <a:pt x="13444" y="14064"/>
                </a:cubicBezTo>
                <a:cubicBezTo>
                  <a:pt x="13444" y="14114"/>
                  <a:pt x="13444" y="14130"/>
                  <a:pt x="13444" y="14163"/>
                </a:cubicBezTo>
              </a:path>
              <a:path w="6376" h="2481">
                <a:moveTo>
                  <a:pt x="13593" y="13841"/>
                </a:moveTo>
                <a:cubicBezTo>
                  <a:pt x="13571" y="13898"/>
                  <a:pt x="13550" y="13975"/>
                  <a:pt x="13568" y="14039"/>
                </a:cubicBezTo>
                <a:cubicBezTo>
                  <a:pt x="13585" y="14099"/>
                  <a:pt x="13625" y="14146"/>
                  <a:pt x="13667" y="14188"/>
                </a:cubicBezTo>
                <a:cubicBezTo>
                  <a:pt x="13727" y="14249"/>
                  <a:pt x="13764" y="14166"/>
                  <a:pt x="13767" y="14114"/>
                </a:cubicBezTo>
                <a:cubicBezTo>
                  <a:pt x="13776" y="13968"/>
                  <a:pt x="13734" y="13917"/>
                  <a:pt x="13643" y="13791"/>
                </a:cubicBezTo>
                <a:cubicBezTo>
                  <a:pt x="13619" y="13757"/>
                  <a:pt x="13603" y="13756"/>
                  <a:pt x="13593" y="13717"/>
                </a:cubicBezTo>
              </a:path>
              <a:path w="6376" h="2481">
                <a:moveTo>
                  <a:pt x="13767" y="12998"/>
                </a:moveTo>
                <a:cubicBezTo>
                  <a:pt x="13892" y="12976"/>
                  <a:pt x="13971" y="12964"/>
                  <a:pt x="14089" y="12973"/>
                </a:cubicBezTo>
                <a:cubicBezTo>
                  <a:pt x="14175" y="12979"/>
                  <a:pt x="14230" y="12989"/>
                  <a:pt x="14213" y="13097"/>
                </a:cubicBezTo>
                <a:cubicBezTo>
                  <a:pt x="14203" y="13158"/>
                  <a:pt x="14164" y="13239"/>
                  <a:pt x="14139" y="13295"/>
                </a:cubicBezTo>
                <a:cubicBezTo>
                  <a:pt x="14109" y="13363"/>
                  <a:pt x="14055" y="13447"/>
                  <a:pt x="14039" y="13519"/>
                </a:cubicBezTo>
                <a:cubicBezTo>
                  <a:pt x="14022" y="13596"/>
                  <a:pt x="13994" y="13661"/>
                  <a:pt x="13990" y="13742"/>
                </a:cubicBezTo>
                <a:cubicBezTo>
                  <a:pt x="13986" y="13818"/>
                  <a:pt x="13989" y="13858"/>
                  <a:pt x="14064" y="13891"/>
                </a:cubicBezTo>
                <a:cubicBezTo>
                  <a:pt x="14162" y="13934"/>
                  <a:pt x="14208" y="13887"/>
                  <a:pt x="14288" y="13841"/>
                </a:cubicBezTo>
              </a:path>
              <a:path w="6376" h="2481">
                <a:moveTo>
                  <a:pt x="13990" y="13271"/>
                </a:moveTo>
                <a:cubicBezTo>
                  <a:pt x="14099" y="13271"/>
                  <a:pt x="14140" y="13301"/>
                  <a:pt x="14238" y="13345"/>
                </a:cubicBezTo>
                <a:cubicBezTo>
                  <a:pt x="14308" y="13376"/>
                  <a:pt x="14388" y="13395"/>
                  <a:pt x="14461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Ink 16"/>
          <p:cNvSpPr/>
          <p:nvPr/>
        </p:nvSpPr>
        <p:spPr>
          <a:xfrm>
            <a:off x="2946240" y="2759040"/>
            <a:ext cx="1474920" cy="322200"/>
          </a:xfrm>
          <a:custGeom>
            <a:avLst/>
            <a:gdLst/>
            <a:ahLst/>
            <a:rect l="l" t="t" r="r" b="b"/>
            <a:pathLst>
              <a:path w="4093" h="894">
                <a:moveTo>
                  <a:pt x="12204" y="7789"/>
                </a:moveTo>
                <a:cubicBezTo>
                  <a:pt x="12154" y="7739"/>
                  <a:pt x="12144" y="7732"/>
                  <a:pt x="12080" y="7714"/>
                </a:cubicBezTo>
                <a:cubicBezTo>
                  <a:pt x="11992" y="7690"/>
                  <a:pt x="11902" y="7641"/>
                  <a:pt x="11807" y="7665"/>
                </a:cubicBezTo>
                <a:cubicBezTo>
                  <a:pt x="11746" y="7680"/>
                  <a:pt x="11654" y="7726"/>
                  <a:pt x="11609" y="7764"/>
                </a:cubicBezTo>
                <a:cubicBezTo>
                  <a:pt x="11568" y="7798"/>
                  <a:pt x="11529" y="7838"/>
                  <a:pt x="11509" y="7888"/>
                </a:cubicBezTo>
                <a:cubicBezTo>
                  <a:pt x="11482" y="7955"/>
                  <a:pt x="11461" y="8090"/>
                  <a:pt x="11485" y="8161"/>
                </a:cubicBezTo>
                <a:cubicBezTo>
                  <a:pt x="11497" y="8197"/>
                  <a:pt x="11549" y="8262"/>
                  <a:pt x="11584" y="8285"/>
                </a:cubicBezTo>
                <a:cubicBezTo>
                  <a:pt x="11650" y="8328"/>
                  <a:pt x="11678" y="8334"/>
                  <a:pt x="11757" y="8334"/>
                </a:cubicBezTo>
                <a:cubicBezTo>
                  <a:pt x="11853" y="8334"/>
                  <a:pt x="11940" y="8340"/>
                  <a:pt x="12030" y="8310"/>
                </a:cubicBezTo>
                <a:cubicBezTo>
                  <a:pt x="12088" y="8291"/>
                  <a:pt x="12166" y="8239"/>
                  <a:pt x="12204" y="8186"/>
                </a:cubicBezTo>
                <a:cubicBezTo>
                  <a:pt x="12251" y="8121"/>
                  <a:pt x="12274" y="8039"/>
                  <a:pt x="12278" y="7962"/>
                </a:cubicBezTo>
                <a:cubicBezTo>
                  <a:pt x="12282" y="7878"/>
                  <a:pt x="12247" y="7791"/>
                  <a:pt x="12179" y="7739"/>
                </a:cubicBezTo>
                <a:cubicBezTo>
                  <a:pt x="12132" y="7703"/>
                  <a:pt x="12085" y="7696"/>
                  <a:pt x="12030" y="7689"/>
                </a:cubicBezTo>
              </a:path>
              <a:path w="4093" h="894">
                <a:moveTo>
                  <a:pt x="11385" y="7913"/>
                </a:moveTo>
                <a:cubicBezTo>
                  <a:pt x="11308" y="7913"/>
                  <a:pt x="11224" y="7894"/>
                  <a:pt x="11162" y="7888"/>
                </a:cubicBezTo>
                <a:cubicBezTo>
                  <a:pt x="11023" y="7875"/>
                  <a:pt x="10879" y="7874"/>
                  <a:pt x="10740" y="7863"/>
                </a:cubicBezTo>
                <a:cubicBezTo>
                  <a:pt x="10640" y="7855"/>
                  <a:pt x="10542" y="7841"/>
                  <a:pt x="10443" y="7838"/>
                </a:cubicBezTo>
                <a:cubicBezTo>
                  <a:pt x="10324" y="7834"/>
                  <a:pt x="10217" y="7813"/>
                  <a:pt x="10096" y="7813"/>
                </a:cubicBezTo>
                <a:cubicBezTo>
                  <a:pt x="9954" y="7813"/>
                  <a:pt x="9791" y="7809"/>
                  <a:pt x="9649" y="7789"/>
                </a:cubicBezTo>
                <a:cubicBezTo>
                  <a:pt x="9530" y="7772"/>
                  <a:pt x="9424" y="7764"/>
                  <a:pt x="9302" y="7764"/>
                </a:cubicBezTo>
                <a:cubicBezTo>
                  <a:pt x="9173" y="7764"/>
                  <a:pt x="9054" y="7775"/>
                  <a:pt x="8930" y="7789"/>
                </a:cubicBezTo>
                <a:cubicBezTo>
                  <a:pt x="8833" y="7800"/>
                  <a:pt x="8725" y="7804"/>
                  <a:pt x="8632" y="7813"/>
                </a:cubicBezTo>
                <a:cubicBezTo>
                  <a:pt x="8570" y="7819"/>
                  <a:pt x="8488" y="7811"/>
                  <a:pt x="8434" y="7838"/>
                </a:cubicBezTo>
                <a:cubicBezTo>
                  <a:pt x="8375" y="7867"/>
                  <a:pt x="8378" y="7931"/>
                  <a:pt x="8384" y="7987"/>
                </a:cubicBezTo>
                <a:cubicBezTo>
                  <a:pt x="8392" y="8062"/>
                  <a:pt x="8431" y="8152"/>
                  <a:pt x="8434" y="8235"/>
                </a:cubicBezTo>
                <a:cubicBezTo>
                  <a:pt x="8436" y="8293"/>
                  <a:pt x="8434" y="8351"/>
                  <a:pt x="8434" y="8409"/>
                </a:cubicBezTo>
              </a:path>
              <a:path w="4093" h="894">
                <a:moveTo>
                  <a:pt x="8210" y="8285"/>
                </a:moveTo>
                <a:cubicBezTo>
                  <a:pt x="8171" y="8201"/>
                  <a:pt x="8257" y="8322"/>
                  <a:pt x="8285" y="8334"/>
                </a:cubicBezTo>
                <a:cubicBezTo>
                  <a:pt x="8346" y="8360"/>
                  <a:pt x="8352" y="8423"/>
                  <a:pt x="8359" y="8483"/>
                </a:cubicBezTo>
                <a:cubicBezTo>
                  <a:pt x="8390" y="8496"/>
                  <a:pt x="8454" y="8603"/>
                  <a:pt x="8508" y="8558"/>
                </a:cubicBezTo>
                <a:cubicBezTo>
                  <a:pt x="8539" y="8532"/>
                  <a:pt x="8586" y="8445"/>
                  <a:pt x="8607" y="8409"/>
                </a:cubicBezTo>
                <a:cubicBezTo>
                  <a:pt x="8645" y="8345"/>
                  <a:pt x="8659" y="8352"/>
                  <a:pt x="8706" y="8310"/>
                </a:cubicBezTo>
                <a:cubicBezTo>
                  <a:pt x="8714" y="8302"/>
                  <a:pt x="8723" y="8293"/>
                  <a:pt x="8731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ress (rewrite as a single quantit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y + Ln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–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6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[Ln x – Ln(x + 1) – Ln (x – 1)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Ink 4"/>
          <p:cNvSpPr/>
          <p:nvPr/>
        </p:nvSpPr>
        <p:spPr>
          <a:xfrm>
            <a:off x="3848040" y="1544760"/>
            <a:ext cx="1268640" cy="714240"/>
          </a:xfrm>
          <a:custGeom>
            <a:avLst/>
            <a:gdLst/>
            <a:ahLst/>
            <a:rect l="l" t="t" r="r" b="b"/>
            <a:pathLst>
              <a:path w="3523" h="1986">
                <a:moveTo>
                  <a:pt x="10815" y="4366"/>
                </a:moveTo>
                <a:cubicBezTo>
                  <a:pt x="10823" y="4341"/>
                  <a:pt x="10832" y="4316"/>
                  <a:pt x="10840" y="4291"/>
                </a:cubicBezTo>
                <a:cubicBezTo>
                  <a:pt x="10840" y="4396"/>
                  <a:pt x="10826" y="4488"/>
                  <a:pt x="10815" y="4589"/>
                </a:cubicBezTo>
                <a:cubicBezTo>
                  <a:pt x="10803" y="4697"/>
                  <a:pt x="10794" y="4804"/>
                  <a:pt x="10765" y="4911"/>
                </a:cubicBezTo>
                <a:cubicBezTo>
                  <a:pt x="10734" y="5025"/>
                  <a:pt x="10741" y="5144"/>
                  <a:pt x="10716" y="5259"/>
                </a:cubicBezTo>
                <a:cubicBezTo>
                  <a:pt x="10696" y="5352"/>
                  <a:pt x="10665" y="5441"/>
                  <a:pt x="10716" y="5531"/>
                </a:cubicBezTo>
                <a:cubicBezTo>
                  <a:pt x="10734" y="5562"/>
                  <a:pt x="10810" y="5625"/>
                  <a:pt x="10840" y="5631"/>
                </a:cubicBezTo>
                <a:cubicBezTo>
                  <a:pt x="10906" y="5644"/>
                  <a:pt x="11026" y="5605"/>
                  <a:pt x="11088" y="5581"/>
                </a:cubicBezTo>
                <a:cubicBezTo>
                  <a:pt x="11175" y="5548"/>
                  <a:pt x="11234" y="5530"/>
                  <a:pt x="11286" y="5457"/>
                </a:cubicBezTo>
              </a:path>
              <a:path w="3523" h="1986">
                <a:moveTo>
                  <a:pt x="11311" y="5011"/>
                </a:moveTo>
                <a:cubicBezTo>
                  <a:pt x="11311" y="5177"/>
                  <a:pt x="11308" y="5358"/>
                  <a:pt x="11336" y="5507"/>
                </a:cubicBezTo>
                <a:cubicBezTo>
                  <a:pt x="11358" y="5623"/>
                  <a:pt x="11324" y="5406"/>
                  <a:pt x="11336" y="5358"/>
                </a:cubicBezTo>
                <a:cubicBezTo>
                  <a:pt x="11356" y="5279"/>
                  <a:pt x="11379" y="5213"/>
                  <a:pt x="11410" y="5135"/>
                </a:cubicBezTo>
                <a:cubicBezTo>
                  <a:pt x="11426" y="5095"/>
                  <a:pt x="11471" y="4983"/>
                  <a:pt x="11534" y="4986"/>
                </a:cubicBezTo>
                <a:cubicBezTo>
                  <a:pt x="11633" y="4991"/>
                  <a:pt x="11650" y="5087"/>
                  <a:pt x="11683" y="5159"/>
                </a:cubicBezTo>
                <a:cubicBezTo>
                  <a:pt x="11724" y="5249"/>
                  <a:pt x="11700" y="5343"/>
                  <a:pt x="11757" y="5432"/>
                </a:cubicBezTo>
                <a:cubicBezTo>
                  <a:pt x="11791" y="5485"/>
                  <a:pt x="11795" y="5541"/>
                  <a:pt x="11857" y="5556"/>
                </a:cubicBezTo>
              </a:path>
              <a:path w="3523" h="1986">
                <a:moveTo>
                  <a:pt x="12353" y="5011"/>
                </a:moveTo>
                <a:cubicBezTo>
                  <a:pt x="12361" y="5074"/>
                  <a:pt x="12368" y="5153"/>
                  <a:pt x="12402" y="5209"/>
                </a:cubicBezTo>
                <a:cubicBezTo>
                  <a:pt x="12431" y="5256"/>
                  <a:pt x="12445" y="5306"/>
                  <a:pt x="12477" y="5358"/>
                </a:cubicBezTo>
                <a:cubicBezTo>
                  <a:pt x="12519" y="5428"/>
                  <a:pt x="12544" y="5515"/>
                  <a:pt x="12626" y="5556"/>
                </a:cubicBezTo>
                <a:cubicBezTo>
                  <a:pt x="12642" y="5556"/>
                  <a:pt x="12659" y="5556"/>
                  <a:pt x="12675" y="5556"/>
                </a:cubicBezTo>
              </a:path>
              <a:path w="3523" h="1986">
                <a:moveTo>
                  <a:pt x="12874" y="4961"/>
                </a:moveTo>
                <a:cubicBezTo>
                  <a:pt x="12830" y="5111"/>
                  <a:pt x="12768" y="5260"/>
                  <a:pt x="12725" y="5407"/>
                </a:cubicBezTo>
                <a:cubicBezTo>
                  <a:pt x="12682" y="5555"/>
                  <a:pt x="12674" y="5705"/>
                  <a:pt x="12650" y="5854"/>
                </a:cubicBezTo>
                <a:cubicBezTo>
                  <a:pt x="12631" y="5973"/>
                  <a:pt x="12626" y="6080"/>
                  <a:pt x="12626" y="6201"/>
                </a:cubicBezTo>
                <a:cubicBezTo>
                  <a:pt x="12626" y="6298"/>
                  <a:pt x="12636" y="6279"/>
                  <a:pt x="12675" y="6201"/>
                </a:cubicBezTo>
              </a:path>
              <a:path w="3523" h="1986">
                <a:moveTo>
                  <a:pt x="13246" y="4986"/>
                </a:moveTo>
                <a:cubicBezTo>
                  <a:pt x="13327" y="4964"/>
                  <a:pt x="13386" y="4961"/>
                  <a:pt x="13469" y="4961"/>
                </a:cubicBezTo>
                <a:cubicBezTo>
                  <a:pt x="13544" y="4961"/>
                  <a:pt x="13649" y="4960"/>
                  <a:pt x="13717" y="4986"/>
                </a:cubicBezTo>
                <a:cubicBezTo>
                  <a:pt x="13725" y="4994"/>
                  <a:pt x="13734" y="5003"/>
                  <a:pt x="13742" y="5011"/>
                </a:cubicBezTo>
                <a:cubicBezTo>
                  <a:pt x="13730" y="5095"/>
                  <a:pt x="13677" y="5164"/>
                  <a:pt x="13618" y="5234"/>
                </a:cubicBezTo>
                <a:cubicBezTo>
                  <a:pt x="13562" y="5300"/>
                  <a:pt x="13466" y="5360"/>
                  <a:pt x="13395" y="5407"/>
                </a:cubicBezTo>
                <a:cubicBezTo>
                  <a:pt x="13345" y="5440"/>
                  <a:pt x="13274" y="5497"/>
                  <a:pt x="13345" y="5556"/>
                </a:cubicBezTo>
                <a:cubicBezTo>
                  <a:pt x="13432" y="5629"/>
                  <a:pt x="13524" y="5614"/>
                  <a:pt x="13618" y="5606"/>
                </a:cubicBezTo>
                <a:cubicBezTo>
                  <a:pt x="13686" y="5606"/>
                  <a:pt x="13705" y="5609"/>
                  <a:pt x="13742" y="5581"/>
                </a:cubicBezTo>
              </a:path>
              <a:path w="3523" h="1986">
                <a:moveTo>
                  <a:pt x="13395" y="5259"/>
                </a:moveTo>
                <a:cubicBezTo>
                  <a:pt x="13486" y="5224"/>
                  <a:pt x="13528" y="5248"/>
                  <a:pt x="13618" y="5259"/>
                </a:cubicBezTo>
                <a:cubicBezTo>
                  <a:pt x="13684" y="5259"/>
                  <a:pt x="13701" y="5259"/>
                  <a:pt x="13742" y="5259"/>
                </a:cubicBezTo>
              </a:path>
              <a:path w="3523" h="1986">
                <a:moveTo>
                  <a:pt x="12303" y="4688"/>
                </a:moveTo>
                <a:cubicBezTo>
                  <a:pt x="12224" y="4818"/>
                  <a:pt x="12160" y="4930"/>
                  <a:pt x="12154" y="5085"/>
                </a:cubicBezTo>
                <a:cubicBezTo>
                  <a:pt x="12150" y="5190"/>
                  <a:pt x="12162" y="5262"/>
                  <a:pt x="12204" y="5358"/>
                </a:cubicBezTo>
                <a:cubicBezTo>
                  <a:pt x="12233" y="5424"/>
                  <a:pt x="12270" y="5446"/>
                  <a:pt x="12328" y="5482"/>
                </a:cubicBezTo>
              </a:path>
              <a:path w="3523" h="1986">
                <a:moveTo>
                  <a:pt x="13915" y="4291"/>
                </a:moveTo>
                <a:cubicBezTo>
                  <a:pt x="14017" y="4418"/>
                  <a:pt x="14088" y="4556"/>
                  <a:pt x="14139" y="4713"/>
                </a:cubicBezTo>
                <a:cubicBezTo>
                  <a:pt x="14202" y="4908"/>
                  <a:pt x="14213" y="5081"/>
                  <a:pt x="14213" y="5283"/>
                </a:cubicBezTo>
                <a:cubicBezTo>
                  <a:pt x="14213" y="5411"/>
                  <a:pt x="14187" y="5537"/>
                  <a:pt x="14089" y="5631"/>
                </a:cubicBezTo>
                <a:cubicBezTo>
                  <a:pt x="14015" y="5680"/>
                  <a:pt x="13990" y="5697"/>
                  <a:pt x="13940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Ink 5"/>
          <p:cNvSpPr/>
          <p:nvPr/>
        </p:nvSpPr>
        <p:spPr>
          <a:xfrm>
            <a:off x="857160" y="2732040"/>
            <a:ext cx="1608120" cy="509760"/>
          </a:xfrm>
          <a:custGeom>
            <a:avLst/>
            <a:gdLst/>
            <a:ahLst/>
            <a:rect l="l" t="t" r="r" b="b"/>
            <a:pathLst>
              <a:path w="4466" h="1415">
                <a:moveTo>
                  <a:pt x="3547" y="8062"/>
                </a:moveTo>
                <a:cubicBezTo>
                  <a:pt x="3553" y="8020"/>
                  <a:pt x="3606" y="7924"/>
                  <a:pt x="3547" y="7888"/>
                </a:cubicBezTo>
                <a:cubicBezTo>
                  <a:pt x="3514" y="7868"/>
                  <a:pt x="3390" y="7845"/>
                  <a:pt x="3349" y="7838"/>
                </a:cubicBezTo>
                <a:cubicBezTo>
                  <a:pt x="3261" y="7823"/>
                  <a:pt x="3180" y="7853"/>
                  <a:pt x="3101" y="7863"/>
                </a:cubicBezTo>
                <a:cubicBezTo>
                  <a:pt x="3010" y="7874"/>
                  <a:pt x="2914" y="7894"/>
                  <a:pt x="2828" y="7938"/>
                </a:cubicBezTo>
                <a:cubicBezTo>
                  <a:pt x="2733" y="7987"/>
                  <a:pt x="2636" y="8066"/>
                  <a:pt x="2555" y="8136"/>
                </a:cubicBezTo>
                <a:cubicBezTo>
                  <a:pt x="2500" y="8183"/>
                  <a:pt x="2435" y="8268"/>
                  <a:pt x="2406" y="8334"/>
                </a:cubicBezTo>
                <a:cubicBezTo>
                  <a:pt x="2363" y="8433"/>
                  <a:pt x="2374" y="8536"/>
                  <a:pt x="2406" y="8632"/>
                </a:cubicBezTo>
                <a:cubicBezTo>
                  <a:pt x="2444" y="8746"/>
                  <a:pt x="2469" y="8803"/>
                  <a:pt x="2555" y="8880"/>
                </a:cubicBezTo>
                <a:cubicBezTo>
                  <a:pt x="2633" y="8950"/>
                  <a:pt x="2724" y="8996"/>
                  <a:pt x="2828" y="9004"/>
                </a:cubicBezTo>
                <a:cubicBezTo>
                  <a:pt x="2936" y="9012"/>
                  <a:pt x="3036" y="8991"/>
                  <a:pt x="3125" y="8930"/>
                </a:cubicBezTo>
                <a:cubicBezTo>
                  <a:pt x="3217" y="8867"/>
                  <a:pt x="3300" y="8817"/>
                  <a:pt x="3349" y="8706"/>
                </a:cubicBezTo>
                <a:cubicBezTo>
                  <a:pt x="3402" y="8586"/>
                  <a:pt x="3467" y="8421"/>
                  <a:pt x="3473" y="8285"/>
                </a:cubicBezTo>
                <a:cubicBezTo>
                  <a:pt x="3478" y="8176"/>
                  <a:pt x="3465" y="8088"/>
                  <a:pt x="3423" y="7987"/>
                </a:cubicBezTo>
                <a:cubicBezTo>
                  <a:pt x="3399" y="7928"/>
                  <a:pt x="3344" y="7908"/>
                  <a:pt x="3299" y="7863"/>
                </a:cubicBezTo>
                <a:cubicBezTo>
                  <a:pt x="3291" y="7855"/>
                  <a:pt x="3282" y="7846"/>
                  <a:pt x="3274" y="7838"/>
                </a:cubicBezTo>
              </a:path>
              <a:path w="4466" h="1415">
                <a:moveTo>
                  <a:pt x="3373" y="7863"/>
                </a:moveTo>
                <a:cubicBezTo>
                  <a:pt x="3463" y="7863"/>
                  <a:pt x="3534" y="7857"/>
                  <a:pt x="3621" y="7838"/>
                </a:cubicBezTo>
                <a:cubicBezTo>
                  <a:pt x="3712" y="7818"/>
                  <a:pt x="3803" y="7816"/>
                  <a:pt x="3894" y="7789"/>
                </a:cubicBezTo>
                <a:cubicBezTo>
                  <a:pt x="4013" y="7754"/>
                  <a:pt x="4120" y="7738"/>
                  <a:pt x="4242" y="7714"/>
                </a:cubicBezTo>
                <a:cubicBezTo>
                  <a:pt x="4406" y="7682"/>
                  <a:pt x="4573" y="7650"/>
                  <a:pt x="4738" y="7640"/>
                </a:cubicBezTo>
                <a:cubicBezTo>
                  <a:pt x="4937" y="7628"/>
                  <a:pt x="5135" y="7601"/>
                  <a:pt x="5333" y="7590"/>
                </a:cubicBezTo>
                <a:cubicBezTo>
                  <a:pt x="5531" y="7579"/>
                  <a:pt x="5711" y="7606"/>
                  <a:pt x="5904" y="7640"/>
                </a:cubicBezTo>
                <a:cubicBezTo>
                  <a:pt x="6079" y="7671"/>
                  <a:pt x="6234" y="7710"/>
                  <a:pt x="6400" y="7764"/>
                </a:cubicBezTo>
                <a:cubicBezTo>
                  <a:pt x="6521" y="7803"/>
                  <a:pt x="6659" y="7863"/>
                  <a:pt x="6747" y="7962"/>
                </a:cubicBezTo>
                <a:cubicBezTo>
                  <a:pt x="6782" y="8002"/>
                  <a:pt x="6813" y="8045"/>
                  <a:pt x="6846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Ink 6"/>
          <p:cNvSpPr/>
          <p:nvPr/>
        </p:nvSpPr>
        <p:spPr>
          <a:xfrm>
            <a:off x="4106880" y="2152800"/>
            <a:ext cx="1644480" cy="847440"/>
          </a:xfrm>
          <a:custGeom>
            <a:avLst/>
            <a:gdLst/>
            <a:ahLst/>
            <a:rect l="l" t="t" r="r" b="b"/>
            <a:pathLst>
              <a:path w="4565" h="2357">
                <a:moveTo>
                  <a:pt x="11534" y="6201"/>
                </a:moveTo>
                <a:cubicBezTo>
                  <a:pt x="11480" y="6349"/>
                  <a:pt x="11460" y="6472"/>
                  <a:pt x="11435" y="6623"/>
                </a:cubicBezTo>
                <a:cubicBezTo>
                  <a:pt x="11413" y="6751"/>
                  <a:pt x="11391" y="6888"/>
                  <a:pt x="11410" y="7020"/>
                </a:cubicBezTo>
                <a:cubicBezTo>
                  <a:pt x="11426" y="7125"/>
                  <a:pt x="11440" y="7221"/>
                  <a:pt x="11485" y="7317"/>
                </a:cubicBezTo>
                <a:cubicBezTo>
                  <a:pt x="11510" y="7370"/>
                  <a:pt x="11547" y="7470"/>
                  <a:pt x="11609" y="7491"/>
                </a:cubicBezTo>
                <a:cubicBezTo>
                  <a:pt x="11660" y="7508"/>
                  <a:pt x="11765" y="7496"/>
                  <a:pt x="11807" y="7466"/>
                </a:cubicBezTo>
                <a:cubicBezTo>
                  <a:pt x="11824" y="7450"/>
                  <a:pt x="11840" y="7433"/>
                  <a:pt x="11857" y="7417"/>
                </a:cubicBezTo>
              </a:path>
              <a:path w="4565" h="2357">
                <a:moveTo>
                  <a:pt x="11981" y="6796"/>
                </a:moveTo>
                <a:cubicBezTo>
                  <a:pt x="11931" y="6901"/>
                  <a:pt x="11851" y="7019"/>
                  <a:pt x="11881" y="7144"/>
                </a:cubicBezTo>
                <a:cubicBezTo>
                  <a:pt x="11896" y="7207"/>
                  <a:pt x="11971" y="7294"/>
                  <a:pt x="12030" y="7317"/>
                </a:cubicBezTo>
                <a:cubicBezTo>
                  <a:pt x="12107" y="7346"/>
                  <a:pt x="12177" y="7342"/>
                  <a:pt x="12254" y="7317"/>
                </a:cubicBezTo>
                <a:cubicBezTo>
                  <a:pt x="12333" y="7291"/>
                  <a:pt x="12434" y="7220"/>
                  <a:pt x="12477" y="7144"/>
                </a:cubicBezTo>
                <a:cubicBezTo>
                  <a:pt x="12537" y="7038"/>
                  <a:pt x="12521" y="6953"/>
                  <a:pt x="12477" y="6846"/>
                </a:cubicBezTo>
                <a:cubicBezTo>
                  <a:pt x="12447" y="6772"/>
                  <a:pt x="12358" y="6689"/>
                  <a:pt x="12278" y="6672"/>
                </a:cubicBezTo>
                <a:cubicBezTo>
                  <a:pt x="12192" y="6654"/>
                  <a:pt x="12055" y="6674"/>
                  <a:pt x="11981" y="6722"/>
                </a:cubicBezTo>
                <a:cubicBezTo>
                  <a:pt x="11919" y="6762"/>
                  <a:pt x="11855" y="6899"/>
                  <a:pt x="11857" y="6970"/>
                </a:cubicBezTo>
                <a:cubicBezTo>
                  <a:pt x="11861" y="7097"/>
                  <a:pt x="11986" y="7225"/>
                  <a:pt x="12080" y="7293"/>
                </a:cubicBezTo>
                <a:cubicBezTo>
                  <a:pt x="12105" y="7309"/>
                  <a:pt x="12129" y="7326"/>
                  <a:pt x="12154" y="7342"/>
                </a:cubicBezTo>
              </a:path>
              <a:path w="4565" h="2357">
                <a:moveTo>
                  <a:pt x="12973" y="6846"/>
                </a:moveTo>
                <a:cubicBezTo>
                  <a:pt x="12973" y="6735"/>
                  <a:pt x="13000" y="6712"/>
                  <a:pt x="12948" y="6672"/>
                </a:cubicBezTo>
                <a:cubicBezTo>
                  <a:pt x="12861" y="6704"/>
                  <a:pt x="12795" y="6734"/>
                  <a:pt x="12750" y="6821"/>
                </a:cubicBezTo>
                <a:cubicBezTo>
                  <a:pt x="12710" y="6898"/>
                  <a:pt x="12679" y="7006"/>
                  <a:pt x="12700" y="7094"/>
                </a:cubicBezTo>
                <a:cubicBezTo>
                  <a:pt x="12729" y="7214"/>
                  <a:pt x="12790" y="7337"/>
                  <a:pt x="12923" y="7367"/>
                </a:cubicBezTo>
                <a:cubicBezTo>
                  <a:pt x="13007" y="7386"/>
                  <a:pt x="13054" y="7317"/>
                  <a:pt x="13097" y="7268"/>
                </a:cubicBezTo>
                <a:cubicBezTo>
                  <a:pt x="13165" y="7191"/>
                  <a:pt x="13191" y="7148"/>
                  <a:pt x="13196" y="7045"/>
                </a:cubicBezTo>
                <a:cubicBezTo>
                  <a:pt x="13200" y="6968"/>
                  <a:pt x="13194" y="6931"/>
                  <a:pt x="13146" y="6871"/>
                </a:cubicBezTo>
                <a:cubicBezTo>
                  <a:pt x="13091" y="6879"/>
                  <a:pt x="13039" y="6906"/>
                  <a:pt x="13022" y="6970"/>
                </a:cubicBezTo>
                <a:cubicBezTo>
                  <a:pt x="12991" y="7086"/>
                  <a:pt x="13037" y="7228"/>
                  <a:pt x="13047" y="7342"/>
                </a:cubicBezTo>
                <a:cubicBezTo>
                  <a:pt x="13060" y="7492"/>
                  <a:pt x="13074" y="7644"/>
                  <a:pt x="13122" y="7789"/>
                </a:cubicBezTo>
                <a:cubicBezTo>
                  <a:pt x="13174" y="7945"/>
                  <a:pt x="13183" y="8051"/>
                  <a:pt x="13171" y="8210"/>
                </a:cubicBezTo>
                <a:cubicBezTo>
                  <a:pt x="13165" y="8291"/>
                  <a:pt x="13156" y="8329"/>
                  <a:pt x="13072" y="8334"/>
                </a:cubicBezTo>
                <a:cubicBezTo>
                  <a:pt x="12980" y="8339"/>
                  <a:pt x="12853" y="8359"/>
                  <a:pt x="12774" y="8310"/>
                </a:cubicBezTo>
                <a:cubicBezTo>
                  <a:pt x="12682" y="8253"/>
                  <a:pt x="12659" y="8215"/>
                  <a:pt x="12650" y="8111"/>
                </a:cubicBezTo>
              </a:path>
              <a:path w="4565" h="2357">
                <a:moveTo>
                  <a:pt x="13444" y="7144"/>
                </a:moveTo>
                <a:cubicBezTo>
                  <a:pt x="13541" y="7116"/>
                  <a:pt x="13627" y="7099"/>
                  <a:pt x="13717" y="7069"/>
                </a:cubicBezTo>
              </a:path>
              <a:path w="4565" h="2357">
                <a:moveTo>
                  <a:pt x="13345" y="7193"/>
                </a:moveTo>
                <a:cubicBezTo>
                  <a:pt x="13309" y="7289"/>
                  <a:pt x="13311" y="7301"/>
                  <a:pt x="13395" y="7293"/>
                </a:cubicBezTo>
                <a:cubicBezTo>
                  <a:pt x="13512" y="7282"/>
                  <a:pt x="13596" y="7299"/>
                  <a:pt x="13692" y="7367"/>
                </a:cubicBezTo>
                <a:cubicBezTo>
                  <a:pt x="13745" y="7405"/>
                  <a:pt x="13764" y="7482"/>
                  <a:pt x="13767" y="7541"/>
                </a:cubicBezTo>
                <a:cubicBezTo>
                  <a:pt x="13771" y="7615"/>
                  <a:pt x="13733" y="7636"/>
                  <a:pt x="13667" y="7640"/>
                </a:cubicBezTo>
                <a:cubicBezTo>
                  <a:pt x="13585" y="7645"/>
                  <a:pt x="13522" y="7636"/>
                  <a:pt x="13444" y="7615"/>
                </a:cubicBezTo>
              </a:path>
              <a:path w="4565" h="2357">
                <a:moveTo>
                  <a:pt x="14263" y="6003"/>
                </a:moveTo>
                <a:cubicBezTo>
                  <a:pt x="14190" y="6090"/>
                  <a:pt x="14151" y="6145"/>
                  <a:pt x="14114" y="6251"/>
                </a:cubicBezTo>
                <a:cubicBezTo>
                  <a:pt x="14065" y="6392"/>
                  <a:pt x="14039" y="6502"/>
                  <a:pt x="14015" y="6648"/>
                </a:cubicBezTo>
                <a:cubicBezTo>
                  <a:pt x="13994" y="6775"/>
                  <a:pt x="13990" y="6890"/>
                  <a:pt x="13990" y="7020"/>
                </a:cubicBezTo>
                <a:cubicBezTo>
                  <a:pt x="13990" y="7112"/>
                  <a:pt x="13984" y="7232"/>
                  <a:pt x="14015" y="7317"/>
                </a:cubicBezTo>
                <a:cubicBezTo>
                  <a:pt x="14039" y="7384"/>
                  <a:pt x="14087" y="7398"/>
                  <a:pt x="14139" y="7417"/>
                </a:cubicBezTo>
              </a:path>
              <a:path w="4565" h="2357">
                <a:moveTo>
                  <a:pt x="14957" y="6028"/>
                </a:moveTo>
                <a:cubicBezTo>
                  <a:pt x="14848" y="6034"/>
                  <a:pt x="14776" y="6037"/>
                  <a:pt x="14684" y="6102"/>
                </a:cubicBezTo>
                <a:cubicBezTo>
                  <a:pt x="14619" y="6147"/>
                  <a:pt x="14631" y="6186"/>
                  <a:pt x="14660" y="6251"/>
                </a:cubicBezTo>
                <a:cubicBezTo>
                  <a:pt x="14694" y="6329"/>
                  <a:pt x="14778" y="6410"/>
                  <a:pt x="14833" y="6474"/>
                </a:cubicBezTo>
                <a:cubicBezTo>
                  <a:pt x="14883" y="6532"/>
                  <a:pt x="14977" y="6609"/>
                  <a:pt x="14957" y="6697"/>
                </a:cubicBezTo>
                <a:cubicBezTo>
                  <a:pt x="14949" y="6714"/>
                  <a:pt x="14940" y="6730"/>
                  <a:pt x="14932" y="6747"/>
                </a:cubicBezTo>
                <a:cubicBezTo>
                  <a:pt x="14860" y="6738"/>
                  <a:pt x="14835" y="6723"/>
                  <a:pt x="14784" y="6672"/>
                </a:cubicBezTo>
                <a:cubicBezTo>
                  <a:pt x="14723" y="6612"/>
                  <a:pt x="14723" y="6580"/>
                  <a:pt x="14759" y="6499"/>
                </a:cubicBezTo>
                <a:cubicBezTo>
                  <a:pt x="14802" y="6403"/>
                  <a:pt x="14860" y="6339"/>
                  <a:pt x="14908" y="6251"/>
                </a:cubicBezTo>
                <a:cubicBezTo>
                  <a:pt x="14953" y="6169"/>
                  <a:pt x="14957" y="6121"/>
                  <a:pt x="14957" y="6028"/>
                </a:cubicBezTo>
                <a:cubicBezTo>
                  <a:pt x="14957" y="5978"/>
                  <a:pt x="14957" y="5962"/>
                  <a:pt x="14908" y="5978"/>
                </a:cubicBezTo>
              </a:path>
              <a:path w="4565" h="2357">
                <a:moveTo>
                  <a:pt x="14263" y="6722"/>
                </a:moveTo>
                <a:cubicBezTo>
                  <a:pt x="14362" y="6711"/>
                  <a:pt x="14460" y="6680"/>
                  <a:pt x="14560" y="6672"/>
                </a:cubicBezTo>
                <a:cubicBezTo>
                  <a:pt x="14702" y="6661"/>
                  <a:pt x="14842" y="6661"/>
                  <a:pt x="14982" y="6648"/>
                </a:cubicBezTo>
                <a:cubicBezTo>
                  <a:pt x="15047" y="6642"/>
                  <a:pt x="15115" y="6648"/>
                  <a:pt x="15180" y="6648"/>
                </a:cubicBezTo>
              </a:path>
              <a:path w="4565" h="2357">
                <a:moveTo>
                  <a:pt x="14461" y="6896"/>
                </a:moveTo>
                <a:cubicBezTo>
                  <a:pt x="14454" y="6975"/>
                  <a:pt x="14427" y="7131"/>
                  <a:pt x="14461" y="7218"/>
                </a:cubicBezTo>
                <a:cubicBezTo>
                  <a:pt x="14485" y="7279"/>
                  <a:pt x="14459" y="7369"/>
                  <a:pt x="14486" y="7293"/>
                </a:cubicBezTo>
                <a:cubicBezTo>
                  <a:pt x="14513" y="7218"/>
                  <a:pt x="14545" y="7126"/>
                  <a:pt x="14560" y="7045"/>
                </a:cubicBezTo>
                <a:cubicBezTo>
                  <a:pt x="14577" y="6954"/>
                  <a:pt x="14592" y="6961"/>
                  <a:pt x="14660" y="6921"/>
                </a:cubicBezTo>
                <a:cubicBezTo>
                  <a:pt x="14732" y="6879"/>
                  <a:pt x="14794" y="6929"/>
                  <a:pt x="14833" y="6995"/>
                </a:cubicBezTo>
                <a:cubicBezTo>
                  <a:pt x="14860" y="7042"/>
                  <a:pt x="14896" y="7139"/>
                  <a:pt x="14908" y="7193"/>
                </a:cubicBezTo>
                <a:cubicBezTo>
                  <a:pt x="14908" y="7251"/>
                  <a:pt x="14908" y="7276"/>
                  <a:pt x="14908" y="7317"/>
                </a:cubicBezTo>
                <a:cubicBezTo>
                  <a:pt x="14916" y="7242"/>
                  <a:pt x="14938" y="7134"/>
                  <a:pt x="14982" y="7069"/>
                </a:cubicBezTo>
                <a:cubicBezTo>
                  <a:pt x="15010" y="7028"/>
                  <a:pt x="15078" y="6931"/>
                  <a:pt x="15131" y="6921"/>
                </a:cubicBezTo>
                <a:cubicBezTo>
                  <a:pt x="15224" y="6903"/>
                  <a:pt x="15285" y="6957"/>
                  <a:pt x="15304" y="7045"/>
                </a:cubicBezTo>
                <a:cubicBezTo>
                  <a:pt x="15320" y="7120"/>
                  <a:pt x="15337" y="7227"/>
                  <a:pt x="15379" y="7293"/>
                </a:cubicBezTo>
                <a:cubicBezTo>
                  <a:pt x="15435" y="7383"/>
                  <a:pt x="15441" y="7366"/>
                  <a:pt x="15453" y="7268"/>
                </a:cubicBezTo>
              </a:path>
              <a:path w="4565" h="2357">
                <a:moveTo>
                  <a:pt x="15627" y="6003"/>
                </a:moveTo>
                <a:cubicBezTo>
                  <a:pt x="15761" y="6197"/>
                  <a:pt x="15869" y="6365"/>
                  <a:pt x="15925" y="6598"/>
                </a:cubicBezTo>
                <a:cubicBezTo>
                  <a:pt x="15972" y="6794"/>
                  <a:pt x="15981" y="6971"/>
                  <a:pt x="15949" y="7169"/>
                </a:cubicBezTo>
                <a:cubicBezTo>
                  <a:pt x="15920" y="7346"/>
                  <a:pt x="15869" y="7511"/>
                  <a:pt x="15776" y="7665"/>
                </a:cubicBezTo>
                <a:cubicBezTo>
                  <a:pt x="15751" y="7698"/>
                  <a:pt x="15726" y="7731"/>
                  <a:pt x="15701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Ink 7"/>
          <p:cNvSpPr/>
          <p:nvPr/>
        </p:nvSpPr>
        <p:spPr>
          <a:xfrm>
            <a:off x="2347920" y="2867040"/>
            <a:ext cx="349200" cy="268200"/>
          </a:xfrm>
          <a:custGeom>
            <a:avLst/>
            <a:gdLst/>
            <a:ahLst/>
            <a:rect l="l" t="t" r="r" b="b"/>
            <a:pathLst>
              <a:path w="968" h="745">
                <a:moveTo>
                  <a:pt x="6524" y="7987"/>
                </a:moveTo>
                <a:cubicBezTo>
                  <a:pt x="6585" y="8067"/>
                  <a:pt x="6626" y="8127"/>
                  <a:pt x="6697" y="8186"/>
                </a:cubicBezTo>
                <a:cubicBezTo>
                  <a:pt x="6739" y="8221"/>
                  <a:pt x="6811" y="8278"/>
                  <a:pt x="6871" y="8260"/>
                </a:cubicBezTo>
                <a:cubicBezTo>
                  <a:pt x="6951" y="8235"/>
                  <a:pt x="6959" y="8171"/>
                  <a:pt x="6995" y="8111"/>
                </a:cubicBezTo>
                <a:cubicBezTo>
                  <a:pt x="7027" y="8058"/>
                  <a:pt x="7048" y="8008"/>
                  <a:pt x="7094" y="7962"/>
                </a:cubicBezTo>
              </a:path>
              <a:path w="968" h="745">
                <a:moveTo>
                  <a:pt x="7119" y="8434"/>
                </a:moveTo>
                <a:cubicBezTo>
                  <a:pt x="7211" y="8434"/>
                  <a:pt x="7279" y="8422"/>
                  <a:pt x="7367" y="8409"/>
                </a:cubicBezTo>
                <a:cubicBezTo>
                  <a:pt x="7408" y="8409"/>
                  <a:pt x="7416" y="8409"/>
                  <a:pt x="7441" y="8409"/>
                </a:cubicBezTo>
              </a:path>
              <a:path w="968" h="745">
                <a:moveTo>
                  <a:pt x="7193" y="8657"/>
                </a:moveTo>
                <a:cubicBezTo>
                  <a:pt x="7314" y="8717"/>
                  <a:pt x="7341" y="8706"/>
                  <a:pt x="7491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Ink 8"/>
          <p:cNvSpPr/>
          <p:nvPr/>
        </p:nvSpPr>
        <p:spPr>
          <a:xfrm>
            <a:off x="2847960" y="2741760"/>
            <a:ext cx="1152720" cy="660240"/>
          </a:xfrm>
          <a:custGeom>
            <a:avLst/>
            <a:gdLst/>
            <a:ahLst/>
            <a:rect l="l" t="t" r="r" b="b"/>
            <a:pathLst>
              <a:path w="3200" h="1837">
                <a:moveTo>
                  <a:pt x="7962" y="7987"/>
                </a:moveTo>
                <a:cubicBezTo>
                  <a:pt x="7935" y="8062"/>
                  <a:pt x="7915" y="8129"/>
                  <a:pt x="7913" y="8210"/>
                </a:cubicBezTo>
                <a:cubicBezTo>
                  <a:pt x="7908" y="8383"/>
                  <a:pt x="7841" y="8784"/>
                  <a:pt x="7938" y="8930"/>
                </a:cubicBezTo>
                <a:cubicBezTo>
                  <a:pt x="7960" y="8952"/>
                  <a:pt x="7968" y="8963"/>
                  <a:pt x="7962" y="8930"/>
                </a:cubicBezTo>
              </a:path>
              <a:path w="3200" h="1837">
                <a:moveTo>
                  <a:pt x="8235" y="8359"/>
                </a:moveTo>
                <a:cubicBezTo>
                  <a:pt x="8199" y="8487"/>
                  <a:pt x="8159" y="8608"/>
                  <a:pt x="8210" y="8731"/>
                </a:cubicBezTo>
                <a:cubicBezTo>
                  <a:pt x="8236" y="8793"/>
                  <a:pt x="8301" y="8848"/>
                  <a:pt x="8359" y="8855"/>
                </a:cubicBezTo>
                <a:cubicBezTo>
                  <a:pt x="8451" y="8866"/>
                  <a:pt x="8512" y="8861"/>
                  <a:pt x="8582" y="8806"/>
                </a:cubicBezTo>
                <a:cubicBezTo>
                  <a:pt x="8640" y="8760"/>
                  <a:pt x="8654" y="8698"/>
                  <a:pt x="8657" y="8632"/>
                </a:cubicBezTo>
                <a:cubicBezTo>
                  <a:pt x="8660" y="8551"/>
                  <a:pt x="8662" y="8484"/>
                  <a:pt x="8632" y="8409"/>
                </a:cubicBezTo>
                <a:cubicBezTo>
                  <a:pt x="8608" y="8350"/>
                  <a:pt x="8544" y="8321"/>
                  <a:pt x="8483" y="8310"/>
                </a:cubicBezTo>
                <a:cubicBezTo>
                  <a:pt x="8452" y="8305"/>
                  <a:pt x="8349" y="8307"/>
                  <a:pt x="8334" y="8334"/>
                </a:cubicBezTo>
                <a:cubicBezTo>
                  <a:pt x="8294" y="8406"/>
                  <a:pt x="8257" y="8466"/>
                  <a:pt x="8235" y="8558"/>
                </a:cubicBezTo>
                <a:cubicBezTo>
                  <a:pt x="8228" y="8587"/>
                  <a:pt x="8265" y="8756"/>
                  <a:pt x="8285" y="8781"/>
                </a:cubicBezTo>
                <a:cubicBezTo>
                  <a:pt x="8320" y="8825"/>
                  <a:pt x="8386" y="8843"/>
                  <a:pt x="8434" y="8855"/>
                </a:cubicBezTo>
              </a:path>
              <a:path w="3200" h="1837">
                <a:moveTo>
                  <a:pt x="9153" y="8434"/>
                </a:moveTo>
                <a:cubicBezTo>
                  <a:pt x="9166" y="8378"/>
                  <a:pt x="9233" y="8300"/>
                  <a:pt x="9153" y="8260"/>
                </a:cubicBezTo>
                <a:cubicBezTo>
                  <a:pt x="9091" y="8229"/>
                  <a:pt x="9006" y="8285"/>
                  <a:pt x="8954" y="8310"/>
                </a:cubicBezTo>
                <a:cubicBezTo>
                  <a:pt x="8866" y="8353"/>
                  <a:pt x="8847" y="8408"/>
                  <a:pt x="8830" y="8508"/>
                </a:cubicBezTo>
                <a:cubicBezTo>
                  <a:pt x="8822" y="8557"/>
                  <a:pt x="8823" y="8678"/>
                  <a:pt x="8880" y="8706"/>
                </a:cubicBezTo>
                <a:cubicBezTo>
                  <a:pt x="8943" y="8737"/>
                  <a:pt x="9003" y="8774"/>
                  <a:pt x="9079" y="8781"/>
                </a:cubicBezTo>
                <a:cubicBezTo>
                  <a:pt x="9155" y="8788"/>
                  <a:pt x="9164" y="8710"/>
                  <a:pt x="9203" y="8657"/>
                </a:cubicBezTo>
                <a:cubicBezTo>
                  <a:pt x="9246" y="8599"/>
                  <a:pt x="9266" y="8561"/>
                  <a:pt x="9252" y="8483"/>
                </a:cubicBezTo>
                <a:cubicBezTo>
                  <a:pt x="9230" y="8440"/>
                  <a:pt x="9226" y="8429"/>
                  <a:pt x="9203" y="8409"/>
                </a:cubicBezTo>
                <a:cubicBezTo>
                  <a:pt x="9149" y="8455"/>
                  <a:pt x="9149" y="8476"/>
                  <a:pt x="9128" y="8558"/>
                </a:cubicBezTo>
                <a:cubicBezTo>
                  <a:pt x="9102" y="8660"/>
                  <a:pt x="9103" y="8749"/>
                  <a:pt x="9103" y="8855"/>
                </a:cubicBezTo>
                <a:cubicBezTo>
                  <a:pt x="9103" y="8960"/>
                  <a:pt x="9090" y="9052"/>
                  <a:pt x="9079" y="9153"/>
                </a:cubicBezTo>
                <a:cubicBezTo>
                  <a:pt x="9069" y="9243"/>
                  <a:pt x="9059" y="9303"/>
                  <a:pt x="9004" y="9376"/>
                </a:cubicBezTo>
                <a:cubicBezTo>
                  <a:pt x="8969" y="9423"/>
                  <a:pt x="8870" y="9487"/>
                  <a:pt x="8806" y="9451"/>
                </a:cubicBezTo>
                <a:cubicBezTo>
                  <a:pt x="8762" y="9426"/>
                  <a:pt x="8767" y="9412"/>
                  <a:pt x="8731" y="9376"/>
                </a:cubicBezTo>
              </a:path>
              <a:path w="3200" h="1837">
                <a:moveTo>
                  <a:pt x="9475" y="8706"/>
                </a:moveTo>
                <a:cubicBezTo>
                  <a:pt x="9468" y="8779"/>
                  <a:pt x="9438" y="8818"/>
                  <a:pt x="9426" y="8880"/>
                </a:cubicBezTo>
                <a:cubicBezTo>
                  <a:pt x="9401" y="9004"/>
                  <a:pt x="9436" y="9046"/>
                  <a:pt x="9525" y="9103"/>
                </a:cubicBezTo>
                <a:cubicBezTo>
                  <a:pt x="9623" y="9166"/>
                  <a:pt x="9672" y="9178"/>
                  <a:pt x="9748" y="9103"/>
                </a:cubicBezTo>
                <a:cubicBezTo>
                  <a:pt x="9808" y="9044"/>
                  <a:pt x="9765" y="9003"/>
                  <a:pt x="9723" y="8954"/>
                </a:cubicBezTo>
                <a:cubicBezTo>
                  <a:pt x="9679" y="9009"/>
                  <a:pt x="9634" y="8978"/>
                  <a:pt x="9599" y="9029"/>
                </a:cubicBezTo>
                <a:cubicBezTo>
                  <a:pt x="9554" y="9095"/>
                  <a:pt x="9560" y="9209"/>
                  <a:pt x="9649" y="9227"/>
                </a:cubicBezTo>
                <a:cubicBezTo>
                  <a:pt x="9699" y="9227"/>
                  <a:pt x="9715" y="9227"/>
                  <a:pt x="9748" y="9227"/>
                </a:cubicBezTo>
              </a:path>
              <a:path w="3200" h="1837">
                <a:moveTo>
                  <a:pt x="9922" y="8210"/>
                </a:moveTo>
                <a:cubicBezTo>
                  <a:pt x="9975" y="8348"/>
                  <a:pt x="10009" y="8406"/>
                  <a:pt x="10096" y="8508"/>
                </a:cubicBezTo>
                <a:cubicBezTo>
                  <a:pt x="10171" y="8596"/>
                  <a:pt x="10250" y="8689"/>
                  <a:pt x="10319" y="8781"/>
                </a:cubicBezTo>
                <a:cubicBezTo>
                  <a:pt x="10373" y="8853"/>
                  <a:pt x="10415" y="8887"/>
                  <a:pt x="10492" y="8855"/>
                </a:cubicBezTo>
              </a:path>
              <a:path w="3200" h="1837">
                <a:moveTo>
                  <a:pt x="10244" y="8111"/>
                </a:moveTo>
                <a:cubicBezTo>
                  <a:pt x="10180" y="8208"/>
                  <a:pt x="10098" y="8306"/>
                  <a:pt x="10046" y="8409"/>
                </a:cubicBezTo>
                <a:cubicBezTo>
                  <a:pt x="10008" y="8484"/>
                  <a:pt x="9962" y="8572"/>
                  <a:pt x="9947" y="8657"/>
                </a:cubicBezTo>
                <a:cubicBezTo>
                  <a:pt x="9934" y="8729"/>
                  <a:pt x="9907" y="8788"/>
                  <a:pt x="9897" y="8855"/>
                </a:cubicBezTo>
              </a:path>
              <a:path w="3200" h="1837">
                <a:moveTo>
                  <a:pt x="10418" y="7962"/>
                </a:moveTo>
                <a:cubicBezTo>
                  <a:pt x="10577" y="7962"/>
                  <a:pt x="10601" y="7978"/>
                  <a:pt x="10716" y="7913"/>
                </a:cubicBezTo>
              </a:path>
              <a:path w="3200" h="1837">
                <a:moveTo>
                  <a:pt x="10815" y="7615"/>
                </a:moveTo>
                <a:cubicBezTo>
                  <a:pt x="10793" y="7652"/>
                  <a:pt x="10751" y="7717"/>
                  <a:pt x="10740" y="7764"/>
                </a:cubicBezTo>
                <a:cubicBezTo>
                  <a:pt x="10726" y="7824"/>
                  <a:pt x="10728" y="7917"/>
                  <a:pt x="10765" y="7962"/>
                </a:cubicBezTo>
                <a:cubicBezTo>
                  <a:pt x="10789" y="7992"/>
                  <a:pt x="10875" y="8055"/>
                  <a:pt x="10914" y="8062"/>
                </a:cubicBezTo>
                <a:cubicBezTo>
                  <a:pt x="10982" y="8074"/>
                  <a:pt x="11051" y="8045"/>
                  <a:pt x="11088" y="7987"/>
                </a:cubicBezTo>
                <a:cubicBezTo>
                  <a:pt x="11137" y="7911"/>
                  <a:pt x="11114" y="7851"/>
                  <a:pt x="11063" y="7789"/>
                </a:cubicBezTo>
                <a:cubicBezTo>
                  <a:pt x="10984" y="7838"/>
                  <a:pt x="10929" y="7887"/>
                  <a:pt x="10914" y="7987"/>
                </a:cubicBezTo>
                <a:cubicBezTo>
                  <a:pt x="10901" y="8074"/>
                  <a:pt x="10920" y="8153"/>
                  <a:pt x="10939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22Z</dcterms:created>
  <dc:creator>jnewman</dc:creator>
  <dc:description/>
  <dc:language>en-US</dc:language>
  <cp:lastModifiedBy>abeason</cp:lastModifiedBy>
  <dcterms:modified xsi:type="dcterms:W3CDTF">2010-06-08T13:51:51Z</dcterms:modified>
  <cp:revision>19</cp:revision>
  <dc:subject/>
  <dc:title>Lesson 3.3 part one</dc:title>
</cp:coreProperties>
</file>